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108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995040" y="729720"/>
            <a:ext cx="48690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38858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108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5BA1-A604-45C6-A8BE-14FC62DF59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14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E19E-D5E9-4262-BE4B-C4BF91D9A4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14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36A0-AA73-4BC6-BF45-B9E1A868E6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14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4B49-6F61-4F1E-A984-BC4B31CB3C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FED-E143-449E-A0D3-DB695C65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3DB-36F6-495A-9ED4-E1D99EDF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64CCC-926B-4659-8460-CA329469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2841C-6C30-47D1-8C5F-47A5F2BB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9EAD6-9F21-4687-AD79-40901C4F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6EAA0-4F07-49A2-AA3E-45FC3098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D22F1-3A3D-4C6F-BB48-52626C7E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E7363-86E5-4EBB-94C0-790D1188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66F80-C5CE-44AA-ADCF-DD511C5D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ACB04-F18B-4AFC-947B-C07DC3DA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BFF88-B39B-45A3-9DE7-6ADCD17A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ACBE2-0CDC-4B00-940C-F8B36603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8FD-96F3-4D4A-BFD5-453C3931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C336B-1C98-487D-AFFA-FBF64AE0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C354F-2E80-413A-8E99-C2AB3589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A2D71-ED82-4F8C-9DD0-83DC367A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6DEB1-6B14-49E2-9CA9-38139259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44CE8-733A-41DA-A524-7CFC974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47D5F-850C-4A20-9E0A-BDB9F30B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FD761-505E-4DB5-BF21-774119F1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74DC1-1DFA-4DF5-BB2A-B2702B53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04DBA-0434-4B88-A4C6-7ABFABE1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4EBFC-3987-4BED-B869-7CE82AEF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5AF-1997-4176-8E34-05CC106F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7B212-7E3B-43C8-94CF-36A206AF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D8878-48DC-487C-AF5A-6FF0CEEA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9CE92-4F12-4DFF-8DD1-367038C3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C8852-6B51-4CA4-8E15-563E989F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22AED-AC11-4448-BD07-FB3A2C3E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95ACD-2C6A-44AD-A87F-D40FDEB3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682DB-25F2-4E62-8127-5C18EE66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FBA6E-E732-47B0-9EED-F14D4A5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8E44C-4DCC-4D94-B17F-421A5745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B3D0B-46E5-4001-BD6D-8A7F890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7B69-8896-4AC7-8A7D-57D0438F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91F20-772C-4927-BEF3-20B48462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A5766-EF5D-4BA9-BF54-5F08647B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30117-4189-4DA9-9E96-C0AB9967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DDCBE-C5D2-423A-814C-180929A6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42917-021B-4EA4-A84B-401D59FB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7D0BD-5F21-4EA6-8309-AB36344D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8664A-D9CE-4A7B-9E66-757B218B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FEE63-88B5-4A51-9D91-220CAE3F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62D23-2740-4178-A1CD-9DA902A7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351FB-2652-4717-9ED9-17669E63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0DAE-9873-4BC9-A3A5-DCB3DC8F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DDE8A-0C63-4593-A161-00E55F38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5D14D-1491-476B-B7B4-D9AC53C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38105-CC96-49BC-810B-4F6D0789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7C36A-43AC-4F0E-A16F-46D5CE71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DB4FB-131A-41B7-AE34-E9B02F43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72339-398A-4794-A235-3EF0DCB1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4EBC9-92FE-4EAC-B77C-8711AFF6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A05F5-1320-425D-B5F2-3C1AB088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3AAE1-4993-4B40-B82B-25F9C14C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8AE86-7036-4B01-8BCB-343AD5F2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D23F-8D68-494E-AECF-2A8AA3EE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E4343-54C4-4CF1-80C1-5F4318D3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E06F8-0D93-4952-9B12-55672E73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69842-980F-4495-B450-5A9A1674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77ED7-0F77-477F-AC2D-D0EF8B8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3EEEE-4272-4ED0-997F-14A899E6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A550E-C6F4-43B4-9CE3-062B1489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304CE-9D9C-4A30-BBD9-17033116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2874B-E515-4330-BB3B-55438EA9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9CDB3-91B8-4E5C-88E2-C7D89790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FA5E8-C78C-4076-84A6-C89FB3CF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C0BD-13F4-411C-8913-6E86D922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87FD3-3BB8-4A6D-8F9A-88EBD862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4DBF1-8261-4A8C-B3C8-C14EBD8D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4A1BA-C325-45EA-9B2C-6DBC16CE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4335C-D5DF-4310-B26E-E12F8F98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9E50F-4021-4F18-B567-6EDE2DBF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70AEE-AA95-466E-AB78-6EAF0838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E7BCE-7675-4AAC-ADA5-B3C68F7A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A5E21-6BB9-4493-B9AE-76AB40E2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E220D-15B0-4372-AF0E-5F0E135A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44A6-622E-4E48-B7EE-E9C4391B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C8A9-E52D-45CD-A79F-1965DF33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4D11-7424-4495-BA70-ADE478A4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89C-7CF0-45B9-ABC7-19DB9366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3C6F-5B99-4771-83BE-FC8DE9F5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608D-1862-4D47-9F7B-4FC8D17B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2470-32E2-4440-92B7-B61C477C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DB19-ECC2-4065-ABA0-E254D8FD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AD5D-A594-473F-A17D-6ED449F5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1A04-F582-4369-BBBD-D8BE307A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75C1-51F1-4CC2-8219-75510A2D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63A7-EAAD-481E-B256-1CE7DFC6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C2A2-6BE0-4D42-A204-18BDB7A4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C09D-8AAA-4C7F-ADAC-5A380041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D0E-0D04-41FD-845A-FEB64E08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A3C1-6DC8-422D-A6E5-2884F6D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B0C1-005E-416A-81FD-F57935A2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E63A-BA84-4142-A382-E5D4F684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1EBB-641D-4642-9057-8A89762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B1CE-5E31-477A-9666-CBAEDCEF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EC55-E983-4807-9AD7-0D8F8900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4835-46B7-4B27-BBC9-0F070C6F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9EAA-C093-4BEA-946A-CC6B02F6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5E15-C09B-41DF-AF6C-A1253A22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DDBB-4FE3-4086-BC69-8E1A7479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9E8-1D8D-460F-81C2-4C2EB1F5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4853-795F-456C-A3DA-D78B0E86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3A86E-C250-4C49-9500-C019B9E5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900BB-919A-40E4-88EF-C947E173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7DA1-9EC1-4CA0-84E1-C00BEAC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3957-9BCB-478E-8B83-E57A8019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98E5-1FD6-4399-A046-923FE36E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2008-E3C0-4C2C-8C78-88B96D9E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8EFA3-9918-461B-8BBD-35E64856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9DC8-ECBD-462C-B156-F25766E3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D301-37D8-47D8-8184-971CC3CB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009-0A9F-416F-B382-434ED16F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3CEFB-5F65-48A5-B14D-210F6C88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027A8-B795-4B77-95D9-6C58018A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C132-AB0A-458B-A66C-C8572976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4734-9F13-4766-8B8F-0D510659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B4D42-EB59-439D-85FD-A2ACCEB8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B1242-F164-4808-B036-F22A2652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BBF8-AD8E-4109-9DF2-0B1ECEE1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53EA8-C8DD-439A-978B-B6F67AB2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6EB94-C8B9-4DA2-8E1F-C0791C58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0895E-B9A9-4216-A7D4-47669C0D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7BB-AC64-408D-91A0-833A1CBC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16A09-DCDD-4F40-80DC-C795C491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38E78-9A5F-424E-BAB4-7F9AD6E9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92BF3-D11C-4C3B-B43A-331D36E4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B86C-44CF-447B-A713-3F014492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85269-86B1-4583-8B53-015EA713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56651-083C-41D5-A373-1CD94D3E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EFD6B-B060-42B7-ACB5-85711E0C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67472-6ED2-4277-BB2A-47BE3927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C2AB7-9008-4386-8617-91F6C815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CD43D-460E-45C8-B8F4-9FCDD977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5BD-01F8-4733-A478-B4119424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BFECB-7C0B-47B8-A8DD-598E0ABD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EA836-4D65-4FFB-9612-A753FE28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07F7-360D-4AAC-B2F5-AA48B16C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3EF07-399B-4543-A617-108EF9ED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54970-86E9-4BEC-AF58-325E0811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B95C3-0701-4185-983A-7E4E5AA2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5C223-EA3E-4320-8D98-6D1FB715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8C2B6-BEB7-45F6-A435-A7D139F9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4507E-8146-489B-A5F5-976B7423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FE2A0-62AC-49F7-9384-446BEEA8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003-0C83-4A88-9B9B-44EF1B40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1A837-E165-4862-B10C-146A2FA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F44C8-C87D-437D-BC41-D59E829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3391A-C49C-4EE8-88A5-EA8867BF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1B11A-243B-408B-9BA7-C199DADD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45562-D138-4DCA-A027-0A84A3A9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744C5-BD27-4CB1-8FEC-4AAF334D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A4DEA-9E0A-4AF8-AE54-DBF35FCF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103E4-F877-49FE-BD2B-42A44E3D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54365-5BA2-4E64-ADAE-B7994CFD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C00E9-C0F9-4BA1-AEF2-0D2B8513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FF7-9A6C-482A-B9CC-389EDF0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F75F-0EA2-4A62-B358-12DB91EE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D4F54-B86B-4E95-AB56-E61C720F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6D6F5-1DD4-47FD-859D-6D2C3526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7BF42-274E-45EE-AFF9-0AD27A5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0DE10-E24B-4E35-9413-43FB6EBB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E2A5C-6157-432C-9437-31EA8E32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ACE84-8C6E-4B05-BDA9-9A4F65BD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7423A-21FA-4165-818B-DC02292F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A5661-B68F-4DF2-A4ED-9DA37451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DBC52-0A6B-46D3-BFFE-D2BB9076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112E-99F3-4D2D-B780-4D3122749E1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5D12-F092-487F-8F93-430CFE8E1A5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C695-55AA-4F80-92C6-738F391B0FE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1F10-4304-4E50-B469-640C060BC6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904C-A9A3-4A30-A436-4707150BACB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2610-CA26-4F30-8248-83ADE1B0F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6135-F758-4387-93F4-D046BBBF8ED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E0D1-C3A5-45F4-AB57-E8DA04EC9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B498-9EB5-410D-B58A-2FE48873AD1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863D-AE53-4CCF-B54B-3D1773669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40B7-8B14-4610-9F2B-F2BA134C1F2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0DE2-39AA-4AE0-A276-04264093A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6533-B57B-4DCF-B842-F2DAEC788F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055C-D184-4A44-95DA-F23C93B40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8A8F-D864-4B66-B5A1-637965B0DE8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A969-5CFD-4650-A31E-5734879D1562}" type="slidenum">
              <a:rPr b="0" lang="ar-SA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343B-2FFC-40B4-A46E-5F89AF0B261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5822-E0A3-4CC6-90E6-EB8085B7E3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8E3-8DA9-4B97-89A5-17084BBD246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E326-37FF-4AAD-B1A5-1D47B9BA4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7237-0379-4C94-B621-4744CD701BF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FF89-AB3C-432D-90B4-DED9195D8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3D31-E5C7-493F-8AA8-8452D48EA9F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2FA3-A36E-4578-AE98-ADAB62F0C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D5C5-10B0-43A6-837F-C2096A35661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AF13-8889-4B11-9248-2C78A7AEF4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09C1-1258-4428-81D3-444BE27CC6C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CA8D-7C50-4A63-8307-5A19EBED0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414936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82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Eras Bold ITC"/>
                <a:ea typeface="Times New Roman"/>
              </a:rPr>
              <a:t>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Eras Bold ITC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Eras Bold ITC"/>
                <a:ea typeface="Times New Roman"/>
              </a:rPr>
              <a:t>Instructor;  Endalk B. (MSc..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Eras Bold ITC"/>
                <a:ea typeface="Times New Roman"/>
              </a:rPr>
              <a:t>Maintenance And installation of  machinery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Rectangle 1"/>
          <p:cNvSpPr/>
          <p:nvPr/>
        </p:nvSpPr>
        <p:spPr>
          <a:xfrm>
            <a:off x="1258920" y="380880"/>
            <a:ext cx="701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Times New Roman"/>
              </a:rPr>
              <a:t>DEBRE MARKOS UNIVERSITY</a:t>
            </a:r>
            <a:br>
              <a:rPr sz="2400"/>
            </a:b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Times New Roman"/>
              </a:rPr>
              <a:t>INSTITUTE OF TECHNOLOG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Times New Roman"/>
              </a:rPr>
              <a:t>MECH</a:t>
            </a: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Arial"/>
              </a:rPr>
              <a:t>ANICAL ENGINEERING DEPARTM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728720" y="5653080"/>
            <a:ext cx="61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Eras Bold ITC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24B6-F297-468B-9DB0-8B57B32320AA}" type="slidenum">
              <a:rPr b="1" lang="en-US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24000" y="549000"/>
            <a:ext cx="842472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Times New Roman"/>
              </a:rPr>
              <a:t>1-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Calligraphy"/>
                <a:ea typeface="Times New Roman"/>
              </a:rPr>
              <a:t>Dependence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alligraphy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Calligraphy"/>
                <a:ea typeface="Times New Roman"/>
              </a:rPr>
              <a:t>the modified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(A and B) = P(A) P(B\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47080" cy="4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Calligraphy"/>
              </a:rPr>
              <a:t>Cont.</a:t>
            </a: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8" name="Group 4"/>
          <p:cNvGrpSpPr/>
          <p:nvPr/>
        </p:nvGrpSpPr>
        <p:grpSpPr>
          <a:xfrm>
            <a:off x="2843280" y="2852640"/>
            <a:ext cx="3816360" cy="2568600"/>
            <a:chOff x="2843280" y="2852640"/>
            <a:chExt cx="3816360" cy="2568600"/>
          </a:xfrm>
        </p:grpSpPr>
        <p:sp>
          <p:nvSpPr>
            <p:cNvPr id="619" name="Oval 2"/>
            <p:cNvSpPr/>
            <p:nvPr/>
          </p:nvSpPr>
          <p:spPr>
            <a:xfrm>
              <a:off x="2843280" y="2885760"/>
              <a:ext cx="1474920" cy="11192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A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0" name="Oval 3"/>
            <p:cNvSpPr/>
            <p:nvPr/>
          </p:nvSpPr>
          <p:spPr>
            <a:xfrm>
              <a:off x="2843280" y="4208400"/>
              <a:ext cx="1584360" cy="12128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B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1" name="Oval 4"/>
            <p:cNvSpPr/>
            <p:nvPr/>
          </p:nvSpPr>
          <p:spPr>
            <a:xfrm>
              <a:off x="5234040" y="2852640"/>
              <a:ext cx="1282680" cy="115236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B\A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2" name="Oval 7"/>
            <p:cNvSpPr/>
            <p:nvPr/>
          </p:nvSpPr>
          <p:spPr>
            <a:xfrm>
              <a:off x="5435640" y="4208400"/>
              <a:ext cx="1224000" cy="12128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B\A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23" name="Rectangle 2"/>
          <p:cNvSpPr/>
          <p:nvPr/>
        </p:nvSpPr>
        <p:spPr>
          <a:xfrm>
            <a:off x="1411200" y="5651640"/>
            <a:ext cx="712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and B are not independ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(B\A) ≠ P(B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4" name="Slide Number Placeholder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FBB9-D78C-4A08-A3DB-EDD1DD985CD9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2556000" y="333360"/>
            <a:ext cx="3456000" cy="57456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3c3cb6"/>
                </a:solidFill>
                <a:latin typeface="Lucida Calligraphy"/>
              </a:rPr>
              <a:t>2- Addition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514440" y="1052640"/>
            <a:ext cx="82803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) </a:t>
            </a:r>
            <a:r>
              <a:rPr b="1" lang="en-US" sz="2800" spc="-1" strike="noStrike" u="sng">
                <a:solidFill>
                  <a:srgbClr val="33cc33"/>
                </a:solidFill>
                <a:uFillTx/>
                <a:latin typeface="Times New Roman"/>
                <a:ea typeface="Times New Roman"/>
              </a:rPr>
              <a:t>A and B are mutually exclusive,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33cc33"/>
                </a:solidFill>
                <a:uFillTx/>
                <a:latin typeface="Times New Roman"/>
                <a:ea typeface="Times New Roman"/>
              </a:rPr>
              <a:t>occurrence of one event precludes the occurrence of the other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1547640" y="2673360"/>
            <a:ext cx="5834160" cy="2987640"/>
            <a:chOff x="1547640" y="2673360"/>
            <a:chExt cx="5834160" cy="2987640"/>
          </a:xfrm>
        </p:grpSpPr>
        <p:sp>
          <p:nvSpPr>
            <p:cNvPr id="628" name="Oval 3"/>
            <p:cNvSpPr/>
            <p:nvPr/>
          </p:nvSpPr>
          <p:spPr>
            <a:xfrm>
              <a:off x="1547640" y="3571920"/>
              <a:ext cx="2376360" cy="208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Broadway"/>
                  <a:ea typeface="Arial"/>
                </a:rPr>
                <a:t>P(A)</a:t>
              </a:r>
              <a:endParaRPr b="1" lang="en-US" sz="3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9" name="Oval 7"/>
            <p:cNvSpPr/>
            <p:nvPr/>
          </p:nvSpPr>
          <p:spPr>
            <a:xfrm>
              <a:off x="5005440" y="3571920"/>
              <a:ext cx="2376360" cy="208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Broadway"/>
                  <a:ea typeface="Arial"/>
                </a:rPr>
                <a:t>P(B)</a:t>
              </a:r>
              <a:endParaRPr b="1" lang="en-US" sz="3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30" name="AutoShape 9"/>
            <p:cNvSpPr/>
            <p:nvPr/>
          </p:nvSpPr>
          <p:spPr>
            <a:xfrm>
              <a:off x="3349440" y="2673360"/>
              <a:ext cx="2232000" cy="1943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33cc33"/>
                  </a:solidFill>
                  <a:latin typeface="Broadway"/>
                  <a:ea typeface="Arial"/>
                </a:rPr>
                <a:t>Addition 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33cc33"/>
                  </a:solidFill>
                  <a:latin typeface="Broadway"/>
                  <a:ea typeface="Arial"/>
                </a:rPr>
                <a:t>Rule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31" name="Text Box 8"/>
          <p:cNvSpPr/>
          <p:nvPr/>
        </p:nvSpPr>
        <p:spPr>
          <a:xfrm>
            <a:off x="936720" y="6005520"/>
            <a:ext cx="7488000" cy="520560"/>
          </a:xfrm>
          <a:prstGeom prst="rect">
            <a:avLst/>
          </a:prstGeom>
          <a:solidFill>
            <a:srgbClr val="a5e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A OR B) = P(A U B) = P(A) + P(B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EFD2-F22B-4B3D-981F-D56CACA6B63F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Oval 2"/>
          <p:cNvSpPr/>
          <p:nvPr/>
        </p:nvSpPr>
        <p:spPr>
          <a:xfrm>
            <a:off x="971640" y="1700280"/>
            <a:ext cx="3095640" cy="3025800"/>
          </a:xfrm>
          <a:prstGeom prst="ellipse">
            <a:avLst/>
          </a:prstGeom>
          <a:solidFill>
            <a:srgbClr val="d60093"/>
          </a:solidFill>
          <a:ln cap="sq"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P(A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142920" y="0"/>
            <a:ext cx="881532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i) </a:t>
            </a:r>
            <a:r>
              <a:rPr b="1" lang="en-US" sz="2800" spc="-1" strike="noStrike" u="sng">
                <a:solidFill>
                  <a:srgbClr val="33cc33"/>
                </a:solidFill>
                <a:uFillTx/>
                <a:latin typeface="Times New Roman"/>
                <a:ea typeface="Times New Roman"/>
              </a:rPr>
              <a:t>A and B are non mutually exclusive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Can occur together) Example: Male and smoker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142920" y="5862600"/>
            <a:ext cx="8893080" cy="520560"/>
          </a:xfrm>
          <a:prstGeom prst="rect">
            <a:avLst/>
          </a:prstGeom>
          <a:solidFill>
            <a:srgbClr val="a5e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A OR B) = P(A U B) = P(A) + P(B) - P(A ∩ B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6" name="AutoShape 6"/>
          <p:cNvSpPr/>
          <p:nvPr/>
        </p:nvSpPr>
        <p:spPr>
          <a:xfrm rot="2064000">
            <a:off x="6157800" y="1630080"/>
            <a:ext cx="2684520" cy="2558880"/>
          </a:xfrm>
          <a:prstGeom prst="pi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odified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ddition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ul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Oval 7"/>
          <p:cNvSpPr/>
          <p:nvPr/>
        </p:nvSpPr>
        <p:spPr>
          <a:xfrm>
            <a:off x="3492360" y="1700280"/>
            <a:ext cx="3095640" cy="3025800"/>
          </a:xfrm>
          <a:prstGeom prst="ellipse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  <a:ea typeface="Arial"/>
              </a:rPr>
              <a:t>P(B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8" name="Line 8"/>
          <p:cNvSpPr/>
          <p:nvPr/>
        </p:nvSpPr>
        <p:spPr>
          <a:xfrm flipH="1">
            <a:off x="3654360" y="2422440"/>
            <a:ext cx="162000" cy="17964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9" name="Line 9"/>
          <p:cNvSpPr/>
          <p:nvPr/>
        </p:nvSpPr>
        <p:spPr>
          <a:xfrm flipH="1">
            <a:off x="3527280" y="2637000"/>
            <a:ext cx="32400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0" name="Line 10"/>
          <p:cNvSpPr/>
          <p:nvPr/>
        </p:nvSpPr>
        <p:spPr>
          <a:xfrm flipH="1">
            <a:off x="3526920" y="2889360"/>
            <a:ext cx="35892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3529080" y="3095640"/>
            <a:ext cx="35856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2" name="Line 12"/>
          <p:cNvSpPr/>
          <p:nvPr/>
        </p:nvSpPr>
        <p:spPr>
          <a:xfrm flipH="1">
            <a:off x="3564000" y="3355920"/>
            <a:ext cx="35856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3" name="Line 13"/>
          <p:cNvSpPr/>
          <p:nvPr/>
        </p:nvSpPr>
        <p:spPr>
          <a:xfrm flipH="1">
            <a:off x="3685680" y="3676680"/>
            <a:ext cx="250920" cy="21744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4" name="Text Box 14"/>
          <p:cNvSpPr/>
          <p:nvPr/>
        </p:nvSpPr>
        <p:spPr>
          <a:xfrm>
            <a:off x="2770200" y="4925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A ∩ B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5" name="AutoShape 15"/>
          <p:cNvSpPr/>
          <p:nvPr/>
        </p:nvSpPr>
        <p:spPr>
          <a:xfrm>
            <a:off x="3635280" y="414972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6" name="Line 8"/>
          <p:cNvSpPr/>
          <p:nvPr/>
        </p:nvSpPr>
        <p:spPr>
          <a:xfrm flipH="1">
            <a:off x="3780000" y="3894120"/>
            <a:ext cx="156960" cy="16200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8C8A-923F-4BBC-9869-CE44FCAD7A53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Eras Bold ITC"/>
              </a:rPr>
              <a:t>Chapter 7</a:t>
            </a:r>
            <a:br>
              <a:rPr sz="3600"/>
            </a:br>
            <a:r>
              <a:rPr b="0" lang="en-US" sz="3600" spc="-1" strike="noStrike">
                <a:solidFill>
                  <a:srgbClr val="00b050"/>
                </a:solidFill>
                <a:latin typeface="Eras Bold ITC"/>
              </a:rPr>
              <a:t>Basic</a:t>
            </a:r>
            <a:r>
              <a:rPr b="0" lang="en-US" sz="3600" spc="-1" strike="noStrike">
                <a:solidFill>
                  <a:srgbClr val="000000"/>
                </a:solidFill>
                <a:latin typeface="Eras Bold ITC"/>
              </a:rPr>
              <a:t>  </a:t>
            </a:r>
            <a:r>
              <a:rPr b="0" lang="en-US" sz="3600" spc="-1" strike="noStrike">
                <a:solidFill>
                  <a:srgbClr val="ff0603"/>
                </a:solidFill>
                <a:latin typeface="Eras Bold ITC"/>
              </a:rPr>
              <a:t>Probability </a:t>
            </a:r>
            <a:r>
              <a:rPr b="0" lang="en-US" sz="3600" spc="-1" strike="noStrike">
                <a:solidFill>
                  <a:srgbClr val="00b050"/>
                </a:solidFill>
                <a:latin typeface="Eras Bold ITC"/>
              </a:rPr>
              <a:t>Concep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Lucida Calligraphy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use the term probability many times each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physician says that a persevering has a 50-50 chance of surviving a certain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technicians may say that the machine is 95%  that a machine  has a particular fail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0ED9-BF1E-4BB0-8ABB-5B880C855858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2737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Lucida Calligraphy"/>
                <a:ea typeface="Latha"/>
              </a:rPr>
              <a:t>Definition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06520" y="691920"/>
            <a:ext cx="78436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any planned process of data collection. It consists of a number of trials (replications) under the same condi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pace: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llection of unique, non-overlapping possible outcomes of a random circum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event: 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ne outcome in the sample space; a possible outcome of a random circum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: 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collection of one or more simple events in the sample space; often written as A, B, C, and so on.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33cc33"/>
                </a:solidFill>
                <a:latin typeface="Arial Black"/>
                <a:ea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, Fem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AutoShape 5"/>
          <p:cNvSpPr/>
          <p:nvPr/>
        </p:nvSpPr>
        <p:spPr>
          <a:xfrm>
            <a:off x="3924360" y="5877000"/>
            <a:ext cx="2663640" cy="57924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03D2-DFBB-478C-9DA4-07A268221C6D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468360" y="1052640"/>
            <a:ext cx="82072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= sometimes, we want to know the probability that an event will not happen; an event opposite to the event of interest is called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mentary event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f A is an event, its complement is The probability of the complement is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or </a:t>
            </a:r>
            <a:r>
              <a:rPr b="1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Example: The complement of male event is the female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1835280" y="5753160"/>
            <a:ext cx="4968720" cy="71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A) + </a:t>
            </a:r>
            <a:r>
              <a:rPr b="1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A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) = 1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324000" y="189000"/>
            <a:ext cx="8351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41B-5D51-4ED3-8718-1494EA424169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100080"/>
            <a:ext cx="788688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Probability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28560" y="1052640"/>
            <a:ext cx="78868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Probabilit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hance of occurrence of an events  , but question of a chance is because of uncertain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oint probability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rginal probability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ditional 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8578-9A4D-4B56-B4B1-D56165EE9883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6000" y="404280"/>
            <a:ext cx="2195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blem 1.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539640" y="3645000"/>
          <a:ext cx="7921800" cy="2341440"/>
        </p:xfrm>
        <a:graphic>
          <a:graphicData uri="http://schemas.openxmlformats.org/drawingml/2006/table">
            <a:tbl>
              <a:tblPr/>
              <a:tblGrid>
                <a:gridCol w="2808360"/>
                <a:gridCol w="2665440"/>
                <a:gridCol w="1511280"/>
                <a:gridCol w="936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functiona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ction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</a:tr>
              <a:tr h="92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ubricat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d Not lubricat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</a:tr>
            </a:tbl>
          </a:graphicData>
        </a:graphic>
      </p:graphicFrame>
      <p:sp>
        <p:nvSpPr>
          <p:cNvPr id="601" name="Text Box 109"/>
          <p:cNvSpPr/>
          <p:nvPr/>
        </p:nvSpPr>
        <p:spPr>
          <a:xfrm>
            <a:off x="216000" y="1125360"/>
            <a:ext cx="8675640" cy="1800360"/>
          </a:xfrm>
          <a:prstGeom prst="rect">
            <a:avLst/>
          </a:prstGeom>
          <a:solidFill>
            <a:srgbClr val="3c3cb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An outbreak of not functional occurs in a group of machines who attended in maintenance shop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Find the probability of not functional and applied lubricant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2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BD34-03A0-4F2F-91F7-3954FD2A08B5}" type="slidenum">
              <a:rPr b="1" lang="ar-SA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55640" y="-3708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0920" y="907560"/>
            <a:ext cx="7886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Lucida Calligraphy"/>
                <a:ea typeface="Times New Roman"/>
              </a:rPr>
              <a:t>The joint probability of not functional and applied lubric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)  =  110/200   = 0.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\applied lubricant) =  90/120     = 0.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two events are 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 ∩ applied lubrican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P(applied lubricant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 \ P(applied lubrican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(120/200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90/120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= 0.45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60BD-6235-43D0-A334-177E5FDC21A7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16360" y="620640"/>
            <a:ext cx="2087280" cy="74160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39640" y="1557000"/>
            <a:ext cx="806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1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The probability ranges between 0 and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f an outcome cannot occur, its probability is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3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f an outcome is sure, it has a probability of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The sum of probabilities of mutually exclusive outcomes is equal to 1               P(M) + P(F) =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ACCA-9F50-47B0-91C1-59FC814EFE0B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319640" cy="54468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ules of probability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23640" y="981000"/>
            <a:ext cx="7802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33cc33"/>
                </a:solidFill>
                <a:uFillTx/>
                <a:latin typeface="Lucida Calligraphy"/>
                <a:ea typeface="Times New Roman"/>
              </a:rPr>
              <a:t>1-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Lucida Calligraphy"/>
                <a:ea typeface="Times New Roman"/>
              </a:rPr>
              <a:t>Independence and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A and B) = P(A) P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val 5"/>
          <p:cNvSpPr/>
          <p:nvPr/>
        </p:nvSpPr>
        <p:spPr>
          <a:xfrm>
            <a:off x="1476360" y="2536920"/>
            <a:ext cx="2160720" cy="17287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A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4586400" y="2565360"/>
            <a:ext cx="2160360" cy="1728720"/>
          </a:xfrm>
          <a:prstGeom prst="ellipse">
            <a:avLst/>
          </a:prstGeom>
          <a:solidFill>
            <a:srgbClr val="a5a5a5"/>
          </a:solidFill>
          <a:ln w="12600">
            <a:solidFill>
              <a:srgbClr val="78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B\A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3030480" y="3932280"/>
            <a:ext cx="2160720" cy="1728720"/>
          </a:xfrm>
          <a:prstGeom prst="ellipse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B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1238400" y="5661000"/>
            <a:ext cx="66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 and B are independ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B\A) = P(B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D72B-CC24-4C79-98FC-48222ECDBB86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6:43:41Z</dcterms:created>
  <dc:creator>Mona Hassan Ahmed Hassan</dc:creator>
  <dc:description/>
  <dc:language>en-US</dc:language>
  <cp:lastModifiedBy>Ethiopia</cp:lastModifiedBy>
  <dcterms:modified xsi:type="dcterms:W3CDTF">2019-04-09T11:36:22Z</dcterms:modified>
  <cp:revision>148</cp:revision>
  <dc:subject/>
  <dc:title>Basic ProbabilityConcepts</dc:title>
</cp:coreProperties>
</file>