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1DF8-59AD-441E-B729-D95126A17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89D-22AE-4C92-8A37-5EE1ED64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6AC-2938-420C-838B-DE3DEF3D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56D-60AF-4BD0-8060-46D8A82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2B3-D71E-490D-AC5D-F9D154CC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7B2-8086-44BE-A4B8-B3293DE0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A42-5716-4488-933B-3583C263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0CCE-80E2-4C8F-8AE0-2C80C5B7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03E6-07CE-4F68-843C-7D7F9C40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502-FB7D-4297-A177-909A4DE7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CA33-6D0B-4EF2-9A83-EE195B13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C90D-58E2-4E3C-A4CF-802CAAF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B5CE-B785-4DC2-94D8-73B284E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382-642C-4741-AAC6-3E367309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30D3-4918-4B60-AF30-FB8FFE90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2E64-3D05-4E01-9F4F-6969100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48EF-7FB6-4241-8569-34D09F38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EC7-485C-441A-B244-5C489796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DE0-947C-41A9-9C64-774EC427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4763-9CAD-4D41-92E8-07340746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FA7C-E184-4949-A01F-5182B9B6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4D7B-0BDE-4334-8634-29AE9C89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0458F-8E28-4278-A17F-2807A73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7F60-611B-4075-89B4-68C1C6F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C39-64B0-41AD-B0E0-A24EDA1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8071-70F2-4D65-A752-2E66758D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2BE4-38CB-4C47-A7F2-5C13693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5D190-4AC4-430E-8B70-6C43B59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A4C8-42E7-4AC9-BF7A-9D3B261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534E-1564-4BB3-A0F9-8303FCE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F64D-3477-4419-A9F3-EC21A4FF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4CF5-9DDA-49B0-9FEF-5D7A483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E6DFB-219D-41C6-9539-816F0F2E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1ACF-29D9-472E-89FC-EF927D1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EDCA-3216-49DE-B37B-33E5FDF1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CFF-8F36-4112-9333-EFDCFE34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D60C-988B-4E94-8645-42403482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24F1-8BD0-42E1-9DF2-45C5339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6DDBC-E39F-4A7B-BE54-676C82AF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E8F7A-2190-4851-95B0-14CA6C49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BED9-E88B-42AE-B524-EDDA89AD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E4B2-907A-479F-B69F-AB01174E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E2F23-AF2C-4C44-AEC4-17476FD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FEC2-2916-4875-AA80-40F796F8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CE06E-35A8-458B-B69B-84D159D5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7BAB1-0862-4D7C-8BDF-0560B95A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608-35A4-404B-8DDF-FCA9106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4BB5-80A8-4AA1-A8D1-AD4DC236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C97D-E236-47BF-A93A-BEB2E82E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7B24-3C3B-44BC-8420-DAC38649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41BB7-E2F1-479E-84D1-CCBB48EA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AD738-071D-48F2-B01A-361359E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158DF-4FAF-4A9E-8F6E-C1C2133F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EAED8-1865-4D2E-BE8B-E360A8B2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6F072-0825-4E83-A17C-A4E67B2C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02D3-51D0-4833-B7B9-BBDD7D0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18769-F74A-45EA-8BBF-5EEE5163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668E-BB96-42C1-8684-86B55796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8BA6B-57CF-412D-9205-3B7E72A3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6A7E-4559-44FF-8E57-CCC05F0D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CE8E3-1810-466D-8551-126EDC8B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04F31-46ED-48BE-A4D7-38E964FA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229C-7212-4F51-9E31-82648730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15B0A-741E-4EE9-9E41-E002ED9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2F4AE-B888-48B4-AC18-9BFE5BA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A0783-4ACB-46A6-8788-4D4724D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B87E-51CB-4B34-B3B1-23BA2A79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0F737-0F8E-4DB8-AA8F-B77BD821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07C-9A11-42D6-9661-36C5720E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61E44-5E92-4EDC-B496-BA396E5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47C6-8384-4ADE-854B-2215FADD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23CE-1756-44A3-8B40-206C710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A02E-BCAF-4570-83D1-08FD6ECD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07C16-F496-4E34-8EF3-C58FF8D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2474B-7DF5-4C81-84D7-7D13D005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9EDD-C931-4D1A-8FFB-E189454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D3D43-84C1-4F68-80DA-83CAC29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A6FFD-63FF-468B-9941-F3936322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13977-41B3-4877-8CEB-C354C74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AFA-A58D-421A-BC1B-015B56B6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D6AC1-D25F-489F-A35E-7DF595E3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B1682-3017-4593-A31F-BFA90C9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7B200-56AC-4313-BA43-A60BBA15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5467-E980-43BE-8D79-19241295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C160-B9FE-4C91-AB58-7B0ABDBD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B02-8646-4101-8584-24876231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77B82-DB4C-44FB-9C51-F32846FAF3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8926DE-D731-404F-815A-35633FD8459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736D2-1A7D-4009-8F0E-285BEA76656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CD65F-A2D4-45F1-8B82-ECCB3AA05D1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3ACF-E54A-44E9-B2D1-47D3C330B26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5F610-BF46-4A08-AA25-CA568213CC5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4DFA6-EF34-476B-8AE5-2A3EE7E8B5E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E0791-91EC-438F-8D5C-64D4A65176B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A31CF-D1B5-444D-AA38-6B8661B57A3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17863-9EED-4776-8620-97A02E900A1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9D8D5-0102-452C-A6C2-672A79F568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57D68-FC99-4E95-8CB2-E905382DDC5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B6936-4060-4403-927B-063F7B12FA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35F7C-7D6A-4F2C-B4EE-1F0E2003E49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ubtitle 2"/>
          <p:cNvSpPr/>
          <p:nvPr/>
        </p:nvSpPr>
        <p:spPr>
          <a:xfrm>
            <a:off x="1981080" y="3962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mbria"/>
                <a:ea typeface="MS PGothic"/>
              </a:rPr>
              <a:t>Software Engine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Date Placeholder 5"/>
          <p:cNvSpPr/>
          <p:nvPr/>
        </p:nvSpPr>
        <p:spPr>
          <a:xfrm>
            <a:off x="4191120" y="6477120"/>
            <a:ext cx="3876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0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E54F6-A50D-450C-BA8F-64934BA6AC37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Tuesday, July 28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3366720" y="1550880"/>
            <a:ext cx="16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  <a:ea typeface="MS PGothic"/>
              </a:rPr>
              <a:t>Cod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6629C-480B-47E2-B5D8-C1E5C512650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04560" y="1752120"/>
            <a:ext cx="84582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structured construct should also have a clear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n, we can compose behavior of statements to understand behavior of pro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arbitrary single-entry-single-exit constructs will not hel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shown that a few constructs like while, if, and sequencing suffice for writing any type of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27D68-0E34-4321-8474-53210669035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24657-CB07-4076-A3D4-BD132F850BD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uctured programming (SP) was presented to help formal verification of pro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out linear flow, composition is hard and verification diffic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, SP also helps to simplify the control flow of programs, making them easier to understand and argue abou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 is an accepted and standard practice today – modern languages support it we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92339-D47B-4A95-A19A-6C984B03523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FAA22-7DCA-4631-8414-319D6304C96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80880" y="1534680"/>
            <a:ext cx="838224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solutions always contain data structures that hold inform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s work on these data structures to perform the functions they w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general, only some operations are performed on the information, i.e. the data is manipulated in a few ways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on a bank’s ledger, only debit, credit, check current balance etc. are d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29A400-5A9A-41CE-977B-865B7EFF389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656BF-839D-47ED-9B95-D724DF9E1E2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– the information should be hidden; only operations on it should be ex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data structures are hidden behind the access functions, which can be used by program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reduces coupl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ractice is a key foundation of OO and components, and is also widely used toda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DC3A0-2915-49B2-A034-0A799D35385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formation Hid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B3CCB-C346-48D9-9E0B-C4FE223B8E7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use only a few structured constructs (rather than using a large number of construct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to: use them sparingly, and only when the alternatives are wor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: use information hi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-defined types: use these to make the programs easier to rea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FE231-A7F3-4492-83EA-48B4C54955D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55F5C-A562-45E2-8BE4-47779C9C875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sting: avoid heavy nesting of if-then-else; if disjoint nesting can be avoi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ule size: should not be too large – generally means low cohes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ule interface: make it sim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obustness: handle exceptional situ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effects: avoid them, docu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C9B1B-DCBF-4188-B2AA-902BA4DBC15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1295280" y="811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ECB54-6B9C-45FE-BDF2-1A1DF4419A9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pty catch block: always have some default action rather than emp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mpty if, while: bad practi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 return: should be checked for robust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turn from finally: should not return from fin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lated parameters: should check for compat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1DD37-ADA3-459F-9564-F86E2C125FC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1295280" y="81108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me Programming Practic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12AD5-2E32-4F19-BBB4-2B3CFEED3F5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0520" y="1534680"/>
            <a:ext cx="8169480" cy="48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mers spend more time reading code than writing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read their own code as well as other programmers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ability is enhanced if some coding conventions are followed by 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standards provide these guidelines for programm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 are regarding naming, file organization, statements/declarations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Java conventions discussed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5BA62-602D-4814-9985-825C997E0B0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"/>
          <p:cNvSpPr/>
          <p:nvPr/>
        </p:nvSpPr>
        <p:spPr>
          <a:xfrm>
            <a:off x="2481120" y="571680"/>
            <a:ext cx="50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3E404-915A-43E8-AB15-63380FF0CEA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1346040"/>
            <a:ext cx="824544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aming conven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ckage name should be in lower case (mypackage, edu.iitk.math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ype names should be nouns and start with uppercase (Day, DateOfBirth, …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riable names should be nouns in lowercase; variables with large scope should have long names; loop iterators should be i, j, k…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nstant names should be all uppercase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thod names should be verbs starting with lower case (eg getValue()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efix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hould be used for boolean metho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DC07B-9BAF-4AD6-9051-1CA3D0DB717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98548-3600-44A7-B801-D0AE5A7BF30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46040"/>
            <a:ext cx="824544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files should have .java extens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file should contain one outer class and the name should be same as fi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ne length should be less than 80; if longer continue on another line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77297-3925-4713-9C6C-D60FCA78709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30E66-EE45-4704-8E40-EF7CC669AFA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09480" y="1523880"/>
            <a:ext cx="794088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goal of coding is to implement the design in the best possible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affects testing and mainten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 testing and maintenance costs are high, aim of coding activity should be to write code that reduces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goal should not be to reduce coding cost, but testing and maintenance cost, i.e. make the job of tester and maintainer easi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6FD65-138F-418C-B226-CFF89D6BF81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EAE88-71FC-44CC-B9C2-D7938C18161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04560" y="1346040"/>
            <a:ext cx="8458200" cy="501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ables should be initialized where declared in the smallest possible sco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clare related variables together; unrelated variables should be declared separate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variables should never be declared publ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op variables should be initialized just before the loo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using break and continue in loo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executable statements in conditiona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oid using the do… while constru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D6E52-0676-4601-A11B-5A3401C3C93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5EC83-782E-483D-8AC7-F517354D3A4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1147680"/>
            <a:ext cx="824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enting and layo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ngle line comments for a block should be aligned with the code blo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should be comments for all major variables explaining what they repres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mment block should start with a line with just /* and end with a line with */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iling comments after statements should be short and on the same li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A3112-C2D0-4602-8D9D-1C6E6F42DB7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2452680" y="563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Standard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812CC-5764-40BC-9C93-B50DDDBDB0F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28600" y="1752120"/>
            <a:ext cx="86868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starts when specs for modules from design is avail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modules are assigned to programmers for co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op-down development, top level modules are developed first; in bottom-up lower levels modules are developed fir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coding, developers use different processes; we discuss some 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91C4E-B832-4786-B100-AD435B3B9CC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D6615-3F05-43AF-954E-36DF1034F09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04920" y="2209320"/>
            <a:ext cx="82454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process: write code for the module, unit test it, fix the bu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better to do this incrementally: write code for part of functionality, then test it and fix it, then proce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code is built for a module incrementally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BAE19-9D4D-4E30-8889-4361E5D2407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2FF69-6AE5-4E26-A5F6-A6C6E1CC66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63600" y="161280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 Incremental Coding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013EB-3773-43C7-BD1B-43F00078933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679B0-F9D1-4714-8EC0-27E202B6115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2" name="Picture 6" descr="Fig9-1"/>
          <p:cNvPicPr/>
          <p:nvPr/>
        </p:nvPicPr>
        <p:blipFill>
          <a:blip r:embed="rId1"/>
          <a:stretch/>
        </p:blipFill>
        <p:spPr>
          <a:xfrm>
            <a:off x="2590920" y="1249200"/>
            <a:ext cx="5638680" cy="52135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3979800" y="11916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0"/>
          <p:cNvSpPr/>
          <p:nvPr/>
        </p:nvSpPr>
        <p:spPr>
          <a:xfrm>
            <a:off x="1371600" y="78732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 Incremental Coding Process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04920" y="2285640"/>
            <a:ext cx="824544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coding process changes the order of activities in coding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 TDD, programmer first writes the test scripts and then writes the code to pass the test cases in the scrip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is done incrementally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is a relatively new approach, and is a part of the extreme programming (XP)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DBA76-1C69-41FC-9F34-32E96F3F38F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2428920" y="6667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B03AF-B4D2-44F6-8E92-548F9CBF6F6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304920" y="145908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(T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2209320"/>
            <a:ext cx="82454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TDD, you write just enough code to pass the te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code is always in synchronization with the tests and gets tested by the test cas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 true in code first approach, as test cases may only test part of functionality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ponsibility to ensure that all functionality is there 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n test case design, not coding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 to ensure that all code is testabl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09955-FF7D-44B2-AF12-FDD7E1EA49F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1752480" y="75420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CF2AB-E0BD-406E-B9B9-AEC6BCCC82A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298440" y="146052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04920" y="2057400"/>
            <a:ext cx="82454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shifts to how code will be used as test cases are written fir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to validate user interfaces specified in the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es on usage of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unctionality prioritization happens natur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possibility that special cases for which test cases are not possible get left ou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mprovement through refactoring will be needed to avoid getting a messy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7F1D5-D78E-4750-9918-1F363D07AFF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1"/>
          <p:cNvSpPr/>
          <p:nvPr/>
        </p:nvSpPr>
        <p:spPr>
          <a:xfrm>
            <a:off x="2778120" y="650880"/>
            <a:ext cx="53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88A3B-6685-4667-807D-8AE1064DC08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04920" y="132084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est Driven Development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560" y="2057400"/>
            <a:ext cx="84582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lso a coding process that has been proposed as key practice in X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s written by pair of programmers rather than individua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pair together design algorithms, data structures, strategies, et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person types the code, the other actively reviews what is being typ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rrors are pointed out and together solutions are formula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oles are reversed periodical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37643-765B-43B1-9939-34E15A560D7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2854440" y="550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9E632-56B7-4A44-8D9E-25EEF5AC23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04920" y="130500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air Programm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04920" y="2057400"/>
            <a:ext cx="824544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air programming has continuous code review, and reviews are known to be effectiv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tter designs of algorithms/ data structures/ logic/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al conditions are likely to be dealt with better and not forgotte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may, however, result in loss of productiv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wnership and accountability issues are also the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ffectiveness is not yet fully kn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010D8-DF4C-49A2-BCD3-52548D47CC0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"/>
          <p:cNvSpPr/>
          <p:nvPr/>
        </p:nvSpPr>
        <p:spPr>
          <a:xfrm>
            <a:off x="2854440" y="5508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Proces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7D142-AEFA-434E-A8E7-8B41CB4FCF7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04920" y="130500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air Programming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09480" y="1219320"/>
            <a:ext cx="7940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s read a lot mo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ders themselves read the code many times for debugging, extending etc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tainers spend a lot of effort reading and understand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ther developers read code when they add to exist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code should be written so that it is easy to understand and read, not easy to write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0CF0C-43B6-45DC-92CC-73C35F77567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3017880" y="56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65644-C10B-4794-9089-119FC6317DE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04920" y="1599840"/>
            <a:ext cx="824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code control is an essential step programmers have to d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, tools like Concurrent Version System (CVS), Visual Source Safe (VSS) ar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tool consists of repository, which is a controlled directory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pository is the official source for all the code fi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build is done from the files in the repository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ol typically provide many commands to programm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2EA44-DD2C-4583-AB3C-87C7758E30D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2133720" y="65880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urce Code Control and Bui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0E04F-7A4B-47E8-84ED-84B6DE6407E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04920" y="1523520"/>
            <a:ext cx="8245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out a file: by this, a programmer gets a local copy that can be mod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 in a file: changed files are uploaded in the repository and change is then available to 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ols maintain complete change history and all older versions can be recove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urce code control is an essential tool for developing large projects and for coordin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8A004-A1D8-47B8-A4FF-3A2C30B7594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ource Code Contro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5DAFC-2AB3-4B72-9910-D0300D3185F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04920" y="1523520"/>
            <a:ext cx="8245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has to be verified before it can be used by oth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re we discuss only verification of code written by a programm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many different techniques; key ones – unit testing, inspection, and program check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gram checking can also be used at the system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94A58-94F8-4481-81CC-41D6AEB4825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Verifi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74201-D58E-4031-ABCA-ECD690442B9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04920" y="1355760"/>
            <a:ext cx="85341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inspection process can be applied to code with a great effective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pections held when code has compiled and a few tests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static tools are also applied before inspec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pection team focuses on finding defects and bugs in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ecklists are generally used to focus the attention on def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257E5-9F76-43CB-B796-B3AC4DC70E6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2562120" y="57636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10D70-B681-4C20-A964-C6EF9C4E322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items in a checkli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o all pointers point to someth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all variables and pointers initializ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all array indexes within bound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ill all loops always terminat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y security fla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s input data being check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bvious inefficienci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86CFA-9498-4626-9997-B470A67FAFA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97208-11FF-4AD6-8DF5-9D06134A5DE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04920" y="15235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inspections are very effective and are widely used in indust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lso expensive; for non critical code one person inspection may b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e reading is self inspe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structured approach is where code is read inside-o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lso very effectiv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00C842-5100-44AD-B75E-60974F7CA76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2133720" y="746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e Inspections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9F503-F4C2-4DB5-8E46-5C29B9F01A8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esting, except its focus is on the module a programmer has writte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often UT is done by the programmer himself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T will require test cases for the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T also requires drivers to be written to actually execute the module with test c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sides the driver and test cases, tester needs to know the correct outcome as well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094FD-276D-42C2-AC44-0D790B4AC6D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DBD541-B146-4756-858E-0641001A7CC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incremental coding is being done, then complete UT needs to be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therwise, repeatedly doing UT will not be possi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tools available to hel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vide the driver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est cases are programmed, with outcomes being checked in them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UT is a script that returns pass/fai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A7F64-8190-4A16-B306-1A401BA6F27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C8C2-B00E-431F-B1CD-1A7E662FEB7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frameworks like Junit that can be used for testing Java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test case is a method which ends with some asser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assertions hold, the test case pass, otherwise it fai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 execution and evaluation of the test cases is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nhancing the test script, additional test cases can be added easi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EB0B0-D53C-4D20-B64F-ABDFD09F02B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1"/>
          <p:cNvSpPr/>
          <p:nvPr/>
        </p:nvSpPr>
        <p:spPr>
          <a:xfrm>
            <a:off x="343368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t Test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E78F5-7105-4BF1-BF2E-4E6A74790FA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152280" y="1245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pproaches aim to prove the correctness of the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the program implements its specific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 formal specifications for the program, as well as rules to interpret the pro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was an active area of research; scalability issues became the bottlene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mostly in very critical situations, as an additional approac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7E6B9-56A7-43B1-BDEC-45B529E89FA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3433680" y="380880"/>
            <a:ext cx="44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Formal Verific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F67A2-ABB4-401B-8C58-6F21EC9A0AC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09480" y="1219320"/>
            <a:ext cx="794088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ing a clear goal for coding will help to achieve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inberg experiment showed that coders achieve the goal they s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ifferent coders were given the same probl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ut different objectives were given to different programmers – minimize effort, minimize size, minimize memory, maximize clarity, maximize output clarit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nal programs for different programmers generally satisfied the criteria given to th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F7971-F8A4-4C08-9BF3-B01FB7D95C4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3017880" y="56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ding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5C008-7983-4674-AE97-01D7A05DC17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04560" y="1600200"/>
            <a:ext cx="84582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C or KLO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n-commented, non blank lines is a standard defini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ly only new or modified lines are coun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heavily, though has shortcomin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7D83D-16FB-4F2D-B503-AAB91AB203F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3433680" y="380880"/>
            <a:ext cx="44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D43A3-58A7-448A-AAA6-3F46A5C8F7E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04920" y="143028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lstead’s Volum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1: no of distinct opera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2: no of distinct operan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1: total occurrences of opera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2: Total occurrences of operan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ocabulary, n = n1 + n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ngth, N = N1 + N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olume, V = N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F7772-6CA6-41C8-BA4B-63F334C9200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Rectangle 1"/>
          <p:cNvSpPr/>
          <p:nvPr/>
        </p:nvSpPr>
        <p:spPr>
          <a:xfrm>
            <a:off x="3046320" y="674640"/>
            <a:ext cx="44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Siz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6F8AF-A030-4B1D-81CD-E1EEEA442E7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51920" y="1402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yclomatic complexity is perhaps the most widely used measure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represents the program by its control flow graph with e edges, n nodes, and p par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yclomatic complexity is defined as V(G) = e-n+p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is same as the number of linearly independent cycles in the graph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And it is the same as the number of decisions (conditionals) in the program plus one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A799B-FE4E-4564-A2CA-78B5E6A5473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for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3F6E0-6B63-4831-B7D2-1A489EC378C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6840" y="1828440"/>
            <a:ext cx="809316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=1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 (i&lt;=n) 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J=1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(j &lt;= i) {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(A[i]&lt;A[j]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wap(A[i], A[j])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J=j+1;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 = i+1;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7A5E7-C41E-4A75-A81E-5C8E972520E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1981080" y="67464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yclomatic complexity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59FA8-227D-423E-8A40-1512C1104A8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2D2CD-0E9E-4574-B436-8E7D6BF3257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1981080" y="674640"/>
            <a:ext cx="65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yclomatic complexity exampl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FD099-A37B-4D8A-8304-594A33B51E0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Picture 5" descr="Fig8-9"/>
          <p:cNvPicPr/>
          <p:nvPr/>
        </p:nvPicPr>
        <p:blipFill>
          <a:blip r:embed="rId1"/>
          <a:stretch/>
        </p:blipFill>
        <p:spPr>
          <a:xfrm>
            <a:off x="1143000" y="1523880"/>
            <a:ext cx="6737400" cy="4648320"/>
          </a:xfrm>
          <a:prstGeom prst="rect">
            <a:avLst/>
          </a:prstGeom>
          <a:ln w="0">
            <a:noFill/>
          </a:ln>
        </p:spPr>
      </p:pic>
      <p:cxnSp>
        <p:nvCxnSpPr>
          <p:cNvPr id="530" name="Straight Arrow Connector 5"/>
          <p:cNvCxnSpPr/>
          <p:nvPr/>
        </p:nvCxnSpPr>
        <p:spPr>
          <a:xfrm flipV="1">
            <a:off x="4647960" y="384768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0520" y="1550520"/>
            <a:ext cx="8169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(G) = 10-7+1 =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dependent circui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 c e 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 c d e b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b f 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 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of decisions is 3 (while, while, if); complexity is 3+1 =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49D86-EA25-4837-A6C4-25D235E6C40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Exam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D3D60-AD6E-469C-92F9-32E83A9D89D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0520" y="1550520"/>
            <a:ext cx="8169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of coding is to convert a design into easy to read code with few bug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od programming practices like structured programming, information hiding, etc. can hel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many methods to verify the code of a module – unit testing and inspections are most commonly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ze and complexity measures are defined and often used; common ones are LOC and cyclomatic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4AE33-EA89-4E10-B5EF-C96C3BDECCD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F8DAD-8958-4934-932E-6769D309371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228600" y="1544760"/>
            <a:ext cx="861048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Goal of programmer is to write quality code with few bugs in i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Much of effort in developing software goes in identifying and removing bug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ommon bugs which occur during coding directly or indirectly manifest themselves to a larger damage to the running progra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st of common coding errors can help a programmer to avoid the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F1EB2-3DFF-4428-BF9B-F34AC1BAA7E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mon Cod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37CC7-DE09-48FE-ADC9-A91DE585DE0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228600" y="15447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memory leak is a situation, where the memory is allocated to the program which is not freed subsequent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ccurs frequently  in the languages which do not have automatic garbage collec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an cause increasing usage of memory which at some point of time can lead to exceptional halt of the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 char* foo(int 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*output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f(s&gt;0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Output=(char*) malloc (size)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f(s==1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Return NULL /* if s==1 then mem leaked */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Return (output)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3CEF1-86BE-4735-B68E-8C451B3D21B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1"/>
          <p:cNvSpPr/>
          <p:nvPr/>
        </p:nvSpPr>
        <p:spPr>
          <a:xfrm>
            <a:off x="3046320" y="674640"/>
            <a:ext cx="48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mory Lea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CD174-2DEF-4948-B6F1-4D30F162D38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228600" y="1544760"/>
            <a:ext cx="86868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grammer tries to free the already freed resourc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y be serious, if some malloc between the two free stmts as  the freed location may get allocated to a new variable, and subsequent free will deallocate the new vari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ar *str;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tr=(char *)malloc(10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f(global==0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ree(str)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ree(str); /* str is already freed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AB63E-49E1-4E1E-94B3-AC8C2882D0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982800" y="85248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Freeing an Already Freed Re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E147D-5F04-4193-9EC4-19B7BC063B8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2F4A1-27E1-4235-84A5-AAFC7AF623B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676520" y="969840"/>
            <a:ext cx="50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Weinberg Experiment.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 …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3F29-B696-46C9-AC8E-F8DBE14F3EB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93640" y="2208240"/>
          <a:ext cx="7772400" cy="3087720"/>
        </p:xfrm>
        <a:graphic>
          <a:graphicData uri="http://schemas.openxmlformats.org/drawingml/2006/table">
            <a:tbl>
              <a:tblPr/>
              <a:tblGrid>
                <a:gridCol w="3465720"/>
                <a:gridCol w="430668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sulting Rank (1=bes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1        o2        o3         o4        o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Effort (o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program size (o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nimize memory (o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ximize code clarity (o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ximize output clarity (o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          4          4           5       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-3       1          2           3       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          2          1           4         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          3          3           2       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-3       5          5           1    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228600" y="11476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ccurs when we access a location that points to NULL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mproper initialization and missing the initialization in different paths leads to the NULL reference erro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an also be caused by aliases- for e.g two variables refer to same object, and one is freed and an attempt is made to dereference the secon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char *ch=NULL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f (x&gt;0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=‘c’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intf(“\%c”. *ch);  /* ch may be NULL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*ch=malloc(size)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h=‘c’; /* ch will be NULL if malloc returns NULL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EBEC2-E3E3-41D1-A554-530892BDCD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2895480" y="563400"/>
            <a:ext cx="526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NULL Dereferenc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2EAA3-C646-4756-9953-CFC619110AA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LL dereference is the error of accessing initialized memo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occurs if data is initialized in most cases, but most cases do not get cove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switch(i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ase 0: s=OBJECT_1; break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ase 1: s=OBJECT_2; break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turn (s); /* s not initialized for values other than 0 or 1 */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7DA9A-7FD3-4613-9C89-F9697808436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2057400" y="563400"/>
            <a:ext cx="61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NULL Dereferencing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8AE62-AFF3-48F6-AEDA-23ED367280B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262080" y="133020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Accessing Uninitialized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28600" y="1823760"/>
            <a:ext cx="8686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iasing creates many problems; among them is violation of unique addresses when we expect different addre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xample, in the string concatenation function, we expect source and destination addresses to be differ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cat (src , destn )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/* In above function , if src is aliased to destn,  then we may get a runtime error */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CF5A5-E574-4355-AE38-65EDE041CBD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2057400" y="746280"/>
            <a:ext cx="61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Lack of Unique 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11A4D-94FB-46C1-AEEA-9532FF0D57E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28600" y="1473120"/>
            <a:ext cx="86868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ssible when there are multiple threads which are accessing some common resources, in a parallel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ree categories of synchronization errors: deadlocks, race condition, live lock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adlock example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1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A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B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2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B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C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read 3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C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nchronized (A){ 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B0D69-2086-44B5-B565-27BD55BDECD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362320" y="7002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ynchronizat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9DA48-115F-492E-BC71-BCA880EE6D4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228600" y="1411200"/>
            <a:ext cx="868680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security vulnerability, can be exploited by executing arbitrary code by a malicious us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s1 [1024]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void mygets ( char *str ){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 ch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while (ch= getchar () != ‘\n’ &amp;&amp; ch != ‘\0 ’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*( str ++)= ch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*str = ‘\0 ’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in (){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har s2 [4]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3652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ygets (s2 );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 we have malicious code in s1 and if return address of mygets() is replaced by this address by overflowing the buffer s2, then we can have the code in s1 execut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16544-CD68-4B5F-BD6C-982D846B867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2666880" y="603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uffer Over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29104-08ED-4013-BEC6-4DFCB7DEC4C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rray index out of bounds, care needs to be taken to see that the array index values are not negative and do not exceed their boun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numerated data types can lead to overflow and underflow errors, care should be taken while assuming the values of such typ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ypedef enum {A, B,C, D} grade 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void foo( grade x){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t l, m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l = GLOBAL_ARRAY [x -1]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Underflow when A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= GLOBAL_ARRAY [x +1];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Overflow when D and size of array is 4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420E3-1B3C-4DAD-AC63-25C3D46FBA3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1905120" y="71136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Common Types of Erro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E2144-D976-444D-A61C-BA3469DDC8C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ithmetic exceptions, include errors like divide by zero and floating point excep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f by one errors like starting variable at 1 instead of starting at 0 or vice versa, writing &lt;= N instead of &lt; N or vice versa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ing handling errors like failure of string handling functions e.g. strcpy, sprintf, gets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llegal use of &amp; instead of &amp;&amp;, arises if non short circuit logic (like &amp; or |) is used instead of short circuit logic (&amp;&amp; or ||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f(object != null &amp; object.getTitle() != null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/* Here second operation can cause a null dereference */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8761A-4730-4D75-BC9E-BCD16CCB415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1905120" y="711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Common Types of Error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36406-09A5-467E-B130-7EEEC6724A3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920" y="1397160"/>
            <a:ext cx="86104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ltimate goal of verification techniques is to make programs correct by removing error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ving a program as correct while developing it may result in more reliable program that can be proved more easi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y proof technique must begin with a formal specification of the progra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ating the goal of the program is not sufficien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nput conditions in which the program is to be invoked (pre conditions) and expected valid results (post conditions) should also be mention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70c0"/>
                </a:solidFill>
                <a:latin typeface="Cambria"/>
              </a:rPr>
              <a:t>Try to check the methods used to prove correctness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43FE0-9BDF-4926-AE63-692B268D66B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2743200" y="6429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Proving Correctnes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A2F82-6B0A-414F-BC34-1D3FE51FEF8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609480" y="1676520"/>
            <a:ext cx="7940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ain goal of the programmer is to write simple and easy to read programs with few bugs in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course, the programmer has to develop it quickly to keep productivity high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various programming principles that can help write code that is easier to understand (and test…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F1C0E-F41C-460C-9813-D558E6AD874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Programming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858F1-06F7-4B17-90D5-819862DBBF1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0520" y="1371240"/>
            <a:ext cx="816948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 program has a static structure which is the ordering of statements in the code – and this is a linear order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program also has dynamic structure – the order in which statements are execu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oth dynamic and static structures are ordering of stat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how a program as correct, we must show that its dynamic behavior is as exp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CE8A1-FFBE-4234-8FBD-3FB973CCBEB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057400" y="68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43880-4ACE-427B-9D9A-201CE861E46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0520" y="1828440"/>
            <a:ext cx="8169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of structured programming is to write programs whose dynamic structure is the same as stat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statements are executed in the same order in which they are present in the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 statements are organized linearly, the objective is to develop programs whose control flow is linea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967DC-93E8-4ED8-8643-CC807881885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1846440" y="811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75D4F-C506-4BB7-A1D0-2A6B22DC10A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0520" y="1447560"/>
            <a:ext cx="8169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aningful programs cannot be written as sequence of simple stat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achieve the objectives, structured constructs are to be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re single-entry-single-exit constru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these, execution of the statements can be in the order they appear in the cod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ynamic and static order becomes sa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9CF4C-0DDF-4963-B849-B014B91D30C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846440" y="7462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ructured Programm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08AC6-CF6F-432D-B1C1-7FA39AC2B3B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4:53:24Z</dcterms:created>
  <dc:creator>Raju</dc:creator>
  <dc:description/>
  <dc:language>en-US</dc:language>
  <cp:lastModifiedBy>user</cp:lastModifiedBy>
  <dcterms:modified xsi:type="dcterms:W3CDTF">2020-04-27T06:03:49Z</dcterms:modified>
  <cp:revision>110</cp:revision>
  <dc:subject/>
  <dc:title>Introduction</dc:title>
</cp:coreProperties>
</file>