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B46-B7F1-4A5D-8303-49F14BD0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C1F-7F87-4AF2-92E9-A3565573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3E0-C305-43EF-8537-7425A097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DBA-F5E6-4FBA-9130-91E7692B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D691-AC84-475B-8A4B-910DCC2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99E1-C06E-4E7F-8863-91251876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1318-6E69-43B0-9E78-8DA38C79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C7D4-1FA0-4805-A86A-078FD977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8AF1-CBA7-49A1-9C31-3A9CA5A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8FD-A27B-4E13-8B91-AA98881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136-09F0-43E3-ADF7-CE64D4AA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4C5-1F60-4FE4-9AE7-FEBB83B2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C452-539A-4CF8-AA4C-1F4C8B64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8CC-BDD3-4781-A63D-4420155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1A36-9CA1-4CB7-B1A1-48D6D8B8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BEBE-813D-409A-B741-50558AA2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FBE-9DC7-416D-A1A0-C99D5361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09F5-FA90-4CA2-A95E-FE08CF04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A82D-8B9D-409D-B125-0000FEC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8F70D-8E35-490F-A30A-49F61CE4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A71E-7FD9-45A3-92F6-4FEE9F80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AAF7A-428B-4545-8F0C-D4360AA7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14D-B889-48B9-95E0-F39D0917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2ED8-D1E8-49A0-B350-61CAD1BA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9767-E17A-4366-BF5E-DF0C2CAF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2054-7FE9-44D9-A566-0DCAB60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BE40-23CC-4CA3-9952-B2BBA68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7DBF2-87C6-4FBD-AFA4-8684C958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CBB1-928F-46A6-AE1F-221DB0CE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36EE-BCF3-42E6-BF07-065F1E3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3DF5-008D-4A7C-B578-D15BF482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F740-9F1C-40F2-BA43-5D1D3B46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D6086-4CF7-48D6-86B8-11340203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69F-5CF9-4EA7-86CC-A2D29FEF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CBB3-7FA9-434E-ADD6-CE7CB25D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5E378-4E0D-4B57-8759-DEBB79F2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370B-4268-4E54-8C4C-51F26E7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123F-67D2-4820-AA64-B8F8B75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BBD0-4D43-4E74-A875-97AD2903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0DBA-67DD-4BC0-9DEF-CF11CD6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11BE3-F6E7-4C7A-8E5A-838D67AE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D79C-00AD-43EB-AB71-BB962C2E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D86F-C676-4AEF-B8CA-240F1208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A72-D67B-4C78-8F58-2B04B544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F8A-5328-4EC8-B80E-4860986F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555-E49E-4496-BCA7-C0DA3F0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C79-B15A-40D6-B9CD-ABCA9945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E9-DBA8-49F5-8498-A5A703C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3640" cy="18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484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6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932080" y="4323960"/>
            <a:ext cx="2297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4323960"/>
            <a:ext cx="4880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58080" y="1431000"/>
            <a:ext cx="217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C0A72-337B-4A30-801F-CBA9AA5785AB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4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dit Master text sty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12320" y="6356520"/>
            <a:ext cx="2136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94360" y="6355800"/>
            <a:ext cx="568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EC487-E8C1-4042-A036-DCBEFC4D164B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50920" y="214200"/>
            <a:ext cx="7803720" cy="59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97345-67E8-4BED-B1F5-06FD4A227E18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4000" spc="-1" strike="noStrike" cap="all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8b8b8b"/>
                </a:solidFill>
                <a:latin typeface="Cambria"/>
              </a:rPr>
              <a:t>&lt;footer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8235B-BC18-4850-A360-0467502565DF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ubtitle 2"/>
          <p:cNvSpPr/>
          <p:nvPr/>
        </p:nvSpPr>
        <p:spPr>
          <a:xfrm>
            <a:off x="2252520" y="3394440"/>
            <a:ext cx="50360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1" i="1" lang="en-US" sz="2100" spc="-1" strike="noStrike">
                <a:solidFill>
                  <a:srgbClr val="00b050"/>
                </a:solidFill>
                <a:latin typeface="Cambria"/>
              </a:rPr>
              <a:t>Software Engineeri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3"/>
          </p:nvPr>
        </p:nvSpPr>
        <p:spPr>
          <a:xfrm>
            <a:off x="3346560" y="6396840"/>
            <a:ext cx="4326120" cy="460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3000" spc="-1" strike="noStrike">
                <a:solidFill>
                  <a:srgbClr val="ff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719E18-245B-4551-B3D8-871BC2A988DA}" type="datetime2">
              <a:rPr b="1" lang="en-US" sz="3000" spc="-1" strike="noStrike">
                <a:solidFill>
                  <a:srgbClr val="ff0000"/>
                </a:solidFill>
                <a:latin typeface="Cambria"/>
              </a:rPr>
              <a:t>Tuesday, July 28, 2026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2642400" y="1806120"/>
            <a:ext cx="3355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300" spc="-1" strike="noStrike">
                <a:solidFill>
                  <a:srgbClr val="00b0f0"/>
                </a:solidFill>
                <a:latin typeface="Cambria"/>
              </a:rPr>
              <a:t>Software Proc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726-65C2-446A-A25D-379D65BEBF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Fig2-4"/>
          <p:cNvPicPr/>
          <p:nvPr/>
        </p:nvPicPr>
        <p:blipFill>
          <a:blip r:embed="rId1"/>
          <a:stretch/>
        </p:blipFill>
        <p:spPr>
          <a:xfrm>
            <a:off x="397440" y="1512360"/>
            <a:ext cx="8151840" cy="48153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2770560" y="1661400"/>
            <a:ext cx="53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Early Defect Remova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27AC-C705-4081-8369-2879235B137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7C33474-03BB-4129-8F40-61F420CA152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94360" y="1868400"/>
            <a:ext cx="7954920" cy="43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Predictability and repeatabilit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cess should repeat its performance when used on different projects  i.e. outcome of using a process should be predict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Without predict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we cannot estimate, or say anything about quality or productivit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With predict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past performance can be used to predict future performanc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68AE-7ADE-4D21-A650-6AD8F2F873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B4AA973-8432-45EF-8E8B-20E493BDD9B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11920" y="1987200"/>
            <a:ext cx="8161560" cy="392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redictable process is said to be under </a:t>
            </a:r>
            <a:r>
              <a:rPr b="1" lang="en-US" sz="24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statistical contr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peatedly using the process produces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similar resul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s – properties of interest lik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quality, produ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o consistently develop software with high quality &amp; productivity, process must be </a:t>
            </a:r>
            <a:r>
              <a:rPr b="0" lang="en-US" sz="24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in contro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489600" y="1185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edictabilit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4B32-D0B7-4881-A1C1-B29FD346445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958DFC-8B5B-4C47-95BA-5018FB2332F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Fig2-3"/>
          <p:cNvPicPr/>
          <p:nvPr/>
        </p:nvPicPr>
        <p:blipFill>
          <a:blip r:embed="rId1"/>
          <a:stretch/>
        </p:blipFill>
        <p:spPr>
          <a:xfrm>
            <a:off x="791640" y="1924200"/>
            <a:ext cx="6782400" cy="4332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489600" y="1185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edictabilit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CC8C-92ED-4211-9B9D-6A5FC7E4B34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C0B7F7E-FEE3-4707-BAB5-0A90528E2EE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94360" y="1855440"/>
            <a:ext cx="795492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Changes in software exist for various reas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mbria"/>
              </a:rPr>
              <a:t>Requirements change is a key reas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changes cannot be wished away or treated as “bad”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They must be accommodated in the process for software developme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Rectangle 1"/>
          <p:cNvSpPr/>
          <p:nvPr/>
        </p:nvSpPr>
        <p:spPr>
          <a:xfrm>
            <a:off x="733320" y="115704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Support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2302920" y="6001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5472-1E22-49D8-B3CC-B38F787AD2F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BEC5179-84FF-4782-8786-EDF0C98D960B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94360" y="1661400"/>
            <a:ext cx="7954920" cy="452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For a project, the process to be followed is specified during plann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phase has its own sequence of ste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quence of steps for a phase are the methodologies for that phas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6080" indent="-2260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y do we have phas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o employ divide and conqu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78600" indent="-22608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It helps for easy valida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velopment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9AE0-C940-4F9D-BFC8-CA76B0A43B6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A58B4C-77AC-4EC0-B8A1-688AA1CC449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28560" y="1801440"/>
            <a:ext cx="7886520" cy="45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6880" indent="-2368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mmonly, the development process has these activities: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requirements analysis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architecture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design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coding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testing,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11360" indent="-236880" algn="just">
              <a:lnSpc>
                <a:spcPct val="150000"/>
              </a:lnSpc>
              <a:spcBef>
                <a:spcPts val="499"/>
              </a:spcBef>
              <a:buClr>
                <a:srgbClr val="0d5d7b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deliver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6880" indent="-23688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fferent models perform them in different manner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1947960" y="82872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velopment Proc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9CB7-EA1A-41F2-B31A-9FBCA05E3AF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7011C1-C590-4608-AC67-260C98DFF39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68640" y="1895040"/>
            <a:ext cx="834372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quirement analysis is used to understand the problem precise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It forms the basis of agreement between user and develop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t specifies “ what “ , not “ how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quirement specifications of even medium systems can be many hundreds of pag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is the Software Requirement </a:t>
            </a: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pecification (SRS) docu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Requirement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6F4D-644B-414A-A4E5-AE8FEA8DCF0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F88FAD-86BE-4875-B9E5-05AD617DF23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50440" y="1441800"/>
            <a:ext cx="7998840" cy="49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sign is the major step from problem domain to solution domai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t has three main task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Architecture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components and connectors that should be there in the system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High level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modules and data structures needed to implement the architectu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Detailed design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logic of module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ost methodologies focus on architecture or high level desig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Outputs: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rchitectural design &amp; or logic design docu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Rectangle 1"/>
          <p:cNvSpPr/>
          <p:nvPr/>
        </p:nvSpPr>
        <p:spPr>
          <a:xfrm>
            <a:off x="2571840" y="6188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69A-8AD6-498B-AD84-8B8C656354F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C8C06E-BFD2-4C1E-96F5-11F4A21593B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94360" y="1842480"/>
            <a:ext cx="792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nverts design into code in a specific languag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Goal: to implement the design with simple and easy way to understand the cod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ode should be simple and readabl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 coding phase affects both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esting and maintenance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Well written code can reduce the testing and maintenance effor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tput: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9A3-DFD3-49C1-B5EE-2F5FC70B507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514EF4-67D2-414D-9949-E909B198406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94360" y="1789200"/>
            <a:ext cx="7954920" cy="44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cess is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a particular metho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generally involving a number of step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oftware process has a set of steps, along with ordering constraints on execution, to produce software with desired outcom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ny types of activities are performed by different people in a software projec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31840" indent="-23184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etter to view software process as comprising of many component process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171960" y="777960"/>
            <a:ext cx="493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62C0-788C-466A-935C-7ABC5DF6A1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4B9A89F-93CE-41D9-8731-16C9A3E2355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95240" y="1765080"/>
            <a:ext cx="7754040" cy="43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fects are introduced in each phase of software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esting plays important role regarding the defect remova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Goal: to identify most of defec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Testing has to be properly planned and execut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Outpu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re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est plans/resul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nd f</a:t>
            </a:r>
            <a:r>
              <a:rPr b="0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al tested (hopefully reliable) cod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8C0B-DBAC-420D-B584-E355210091D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6F4CC0-B07D-4ED1-B990-436AEB2EAE3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94360" y="1886040"/>
            <a:ext cx="8224200" cy="42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Distribution of effort 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quirement       -   10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sign   -   10-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ding   -   20-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sting   -   30-50%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e can observe that coding is not the most expensive ph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Effort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67B-74F2-44EE-AEC3-A0E84179AFB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DA642B-AAF3-450F-A447-5C76166B868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50440" y="1780560"/>
            <a:ext cx="7998840" cy="43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stribution of error occurrences by phase is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Requirement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2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Design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3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Coding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---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 50%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st of latency: cost of defect removal increases exponentially with latency time.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E366-EC91-4B7D-8C01-2640D0B2FA1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B38F71-02D5-4F84-98A0-6C5A3ADF85C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91040" y="1994040"/>
            <a:ext cx="81615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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Cost to fix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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Error ( log scale)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 "/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heapest way is to detect and remove defect close to where it is injec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Hence it is a must to check for defects after every phase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4286160" y="1714320"/>
            <a:ext cx="360" cy="1428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4286160" y="3143160"/>
            <a:ext cx="17143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Line 6"/>
          <p:cNvSpPr/>
          <p:nvPr/>
        </p:nvSpPr>
        <p:spPr>
          <a:xfrm flipV="1">
            <a:off x="4343400" y="2000880"/>
            <a:ext cx="1657080" cy="10857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35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fect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E72B-B0C0-49AF-8BBE-96AED65C00F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3E18DE9-DEB6-476E-90CC-2FEDBAB6992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94360" y="1746000"/>
            <a:ext cx="79207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e have seen the major stages or phases of software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ifferent process models execute these stages in different mann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process model specifies a general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.e. a model provides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generic structure of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F929-991E-4D00-B107-F0B3A54D2D20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E24FA2-F021-4D9B-A1E9-A00D1DDB4FB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94360" y="1958400"/>
            <a:ext cx="7954920" cy="41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If a project chooses a model, it will generally tailor it to suit the projec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s produces the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pecification for the projects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is what is actually execu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 specification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s a plan about what should be executed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cess model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s a generic process specification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ny models have been proposed for the development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Rectangle 1"/>
          <p:cNvSpPr/>
          <p:nvPr/>
        </p:nvSpPr>
        <p:spPr>
          <a:xfrm>
            <a:off x="594360" y="1260000"/>
            <a:ext cx="5680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ject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2729520" y="728640"/>
            <a:ext cx="5301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A841-5422-4982-A39F-684A2BFE9B4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E0448CD-BFFB-42CC-972F-8DCB2EB5A16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94360" y="2023920"/>
            <a:ext cx="792072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Waterfal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the oldest and widely us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totyping</a:t>
            </a:r>
            <a:r>
              <a:rPr b="0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terativ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– currently used widel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Time boxing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Rectangle 1"/>
          <p:cNvSpPr/>
          <p:nvPr/>
        </p:nvSpPr>
        <p:spPr>
          <a:xfrm>
            <a:off x="594360" y="123336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ommon Proces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F3CA-AC1A-47E3-B481-318DEDB2EC4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82D163B-45D7-4231-BBF6-76B96D5E9E8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94360" y="2194200"/>
            <a:ext cx="79207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Linear sequence of stages/pha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Requirements –&gt; HLD –&gt; DD –&gt; Code –&gt; Test –&gt; Deplo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A phase starts only when the previous has complet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no feedback(FORWARD DRIVEN APPROACH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phases partition the project, each addressing a separate concer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594360" y="123912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2814-4347-4534-9ADB-547888FF2B09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7C3BC0-526B-4EE1-A48D-6ED1ACB248C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dt" idx="14"/>
          </p:nvPr>
        </p:nvSpPr>
        <p:spPr>
          <a:xfrm>
            <a:off x="6230160" y="6184800"/>
            <a:ext cx="1904760" cy="33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5492CE-7482-49B3-AE92-F87C2CD2F3F1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Tuesday, July 28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Num" idx="15"/>
          </p:nvPr>
        </p:nvSpPr>
        <p:spPr>
          <a:xfrm>
            <a:off x="6803640" y="3859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F1E677-5FA4-4137-BC74-BE342E1ABE3C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"/>
          <p:cNvSpPr/>
          <p:nvPr/>
        </p:nvSpPr>
        <p:spPr>
          <a:xfrm>
            <a:off x="429480" y="1244520"/>
            <a:ext cx="2081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Model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"/>
          <p:cNvSpPr/>
          <p:nvPr/>
        </p:nvSpPr>
        <p:spPr>
          <a:xfrm>
            <a:off x="3470760" y="3654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2314440" y="1008000"/>
            <a:ext cx="5820120" cy="54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94360" y="1790280"/>
            <a:ext cx="7828560" cy="454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near ordering implies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each phase should have some outp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The output must be validated/certifi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ommon outputs of a waterfall model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RS (Software Requirement Specification)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ject plan,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design documents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test plan and reports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final code,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1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supporting docu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594360" y="118368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77B-CA81-41D8-B2A8-1CCA17E2665C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75142DC-1009-4AAB-B44B-9D741CA8885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6280" y="1538280"/>
            <a:ext cx="8128800" cy="481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wo major processes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mbria"/>
              </a:rPr>
              <a:t>Development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focuses 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evelopment and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quality steps needed to engineer the softwar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mbria"/>
              </a:rPr>
              <a:t>Project management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– focuses on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nning and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rolling the development proces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Development process is the heart of software process; other processes revolve around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se are executed by different peop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evelopers execute engineering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roject manager executes the management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Rectangle 1"/>
          <p:cNvSpPr/>
          <p:nvPr/>
        </p:nvSpPr>
        <p:spPr>
          <a:xfrm>
            <a:off x="2425320" y="728640"/>
            <a:ext cx="5896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CC03-45D8-4649-B3D3-FA88E3CC99D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8A996F1-9EC2-4E03-93CC-1120D50D739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98600" y="2041920"/>
            <a:ext cx="8016120" cy="37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Conceptually simple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Cleanly divides the problem into distinct phases that can be performed independent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Natural approach for problem solv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Easy to administer and contro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Rectangle 1"/>
          <p:cNvSpPr/>
          <p:nvPr/>
        </p:nvSpPr>
        <p:spPr>
          <a:xfrm>
            <a:off x="594360" y="136800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C9B3-26C5-4059-ADF9-29638A9D24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4D1BEB-4BCA-44B2-B0D9-BAB6E88C1DB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94360" y="1908360"/>
            <a:ext cx="7920720" cy="41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Assumes that requirements can be specified and frozen early. To change requirement all stages done has to be reverted and consider chan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May fix hardware and other technologies too ear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Very document oriented, requiring documents at the end of each phas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594360" y="118620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Disadvan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12BA-6C0D-4717-A2B2-CDF47B7239F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45A6399-17FC-4C80-8474-A77C042C9CA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94360" y="2110680"/>
            <a:ext cx="7954920" cy="38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ased on the advantage and disadvantage, Waterfall is used fo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projects where requirements can be understood easily and technology decisions are eas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just">
              <a:lnSpc>
                <a:spcPct val="150000"/>
              </a:lnSpc>
              <a:spcBef>
                <a:spcPts val="499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.e. for familiar type of projects it still may be the most optimum model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594360" y="1343880"/>
            <a:ext cx="608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Waterfall Model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86DF-3164-44F7-B0D5-6A4B0D3BA75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44385AC-ED23-479F-BC4D-5FFE52C39A00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94360" y="1872720"/>
            <a:ext cx="7920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rototyping addresses the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requirement specification limitation of waterfal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stead of freezing requirements only by discussions, a prototype is built to understand the requirem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lps to avoid the requirements change risk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A small waterfall model replaces the requirements sta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Rectangle 1"/>
          <p:cNvSpPr/>
          <p:nvPr/>
        </p:nvSpPr>
        <p:spPr>
          <a:xfrm>
            <a:off x="594360" y="1151280"/>
            <a:ext cx="539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8F0C-E61B-4794-80D2-03CB9807AC1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9B2FCB-E927-42F4-A8D7-D2D2F51C0B2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Fig2-6"/>
          <p:cNvPicPr/>
          <p:nvPr/>
        </p:nvPicPr>
        <p:blipFill>
          <a:blip r:embed="rId1"/>
          <a:stretch/>
        </p:blipFill>
        <p:spPr>
          <a:xfrm>
            <a:off x="356400" y="2480040"/>
            <a:ext cx="8158680" cy="33609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594360" y="121860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0DE4-8ABA-40EB-AC64-959D32C544D4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6C1E5DB-D303-4AA7-ABCD-58529099821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94360" y="1630080"/>
            <a:ext cx="7954920" cy="47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Development of prototyp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Starts with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nitial requirem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Only key features which need better understanding are included in prototyp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mbria"/>
              </a:rPr>
              <a:t>No point in including those features that are well understood because the cost will increas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eedback from users taken to improve the understanding of the requirement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470520" y="1023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A0DD-B4CB-49B3-A833-7ECFEE678E4A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7AEFC8-48C1-4535-B44A-7357FC771F3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94360" y="1783440"/>
            <a:ext cx="7954920" cy="455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st can be kept low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uild only features needing clarification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quick and dirty” – quality not important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ngs like exception handling, recovery, standards etc. are omit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ports early defect remova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594360" y="10598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EB9-85E1-450F-BBC4-AAEEE9BC0748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2E119FB-362D-4047-93B8-B9D252EA12D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94360" y="1845720"/>
            <a:ext cx="7920720" cy="438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Advantages: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requirement will be more stable, requirement  frozen later, experience helps in the main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Disadvantages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: Potential hit on cost and schedule but less than cost of early requir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Applicability: When requirement are hard to elicit and confidence in requirements is low; i.e. where requirements are not well understoo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594360" y="10036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Prototypi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3C5C-4BF6-4799-8A27-D9B334D61D8B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C709035-8650-4FFE-8A89-8A2EE9B9F6C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94360" y="2060640"/>
            <a:ext cx="7920720" cy="398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ombines benefit of prototyping and waterfal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evelop and deliver software in increment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Each increment is complete in itself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n be viewed as a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sequence of waterfall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Feedback from one iteration is used in the future iter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Rectangle 1"/>
          <p:cNvSpPr/>
          <p:nvPr/>
        </p:nvSpPr>
        <p:spPr>
          <a:xfrm>
            <a:off x="456840" y="10508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7907-8804-4F2C-B57F-423DDCED9D5C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93B54A-AA9A-4841-A6E8-96A7B6F58C3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Fig2-7"/>
          <p:cNvPicPr/>
          <p:nvPr/>
        </p:nvPicPr>
        <p:blipFill>
          <a:blip r:embed="rId1"/>
          <a:stretch/>
        </p:blipFill>
        <p:spPr>
          <a:xfrm>
            <a:off x="695880" y="2545200"/>
            <a:ext cx="7642440" cy="303372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695880" y="130680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391D-D7D6-4C70-A694-A2DB27C319EF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5652C7-DB8D-496F-9B51-7F2FD649BB60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28560" y="2014200"/>
            <a:ext cx="78865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ther processe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Change management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deals with how changes can be incorporated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Process management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management of processes themselv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Inspection proces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how inspections are conducted on artifact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Component Software Proces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2DA3-70AB-4F07-8EBB-2B59562C67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DF2B55-3D5C-4A97-888D-A888CC372AB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594360" y="2033640"/>
            <a:ext cx="7920720" cy="43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ducts almost always follow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lso used commonly in customized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Businesses want quick response for softwar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Cannot afford the risk of all-or-nothing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ewer approaches like XP, Agile,… all rely on iterative develop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94360" y="12067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AB10-E1D3-4E74-BDB0-A796FCDC75AE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6B0E15-A4F7-4BC2-A710-C9D9FADE384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4240" y="1952640"/>
            <a:ext cx="7980480" cy="42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Benefit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Get-as-you-pay, uses feedback for improvement,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Drawback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Architecture/design may not be optimal, reworking may increase, total cost may be mo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6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Applicabilit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here response time is importan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isk of long projects cannot be take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ll requirement not known but can be understood incrementall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594360" y="10519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Iterative Develop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1F5B-BBE0-4EBC-87CF-124351B2CDD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89FE1F9-C676-4684-8826-776309840EA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94360" y="1961640"/>
            <a:ext cx="792072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terative is linear sequence of iteration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iteration is a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mini waterfal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ime boxing – fix an iteration duration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vide iteration in a few equal stages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Use pipelining concepts to execute iterations in parallel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DC20-32C9-4E17-A919-4A675BC73DC2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D6A851-0AD5-437D-A7F3-C22921C550C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70800" y="2509200"/>
            <a:ext cx="805176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eneral iterative development –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fix the </a:t>
            </a:r>
            <a:r>
              <a:rPr b="1" lang="en-US" sz="2200" spc="-1" strike="noStrike">
                <a:solidFill>
                  <a:srgbClr val="0070c0"/>
                </a:solidFill>
                <a:latin typeface="Cambria"/>
              </a:rPr>
              <a:t>functionality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 for each iteration, then plan and execute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93e52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In time boxed iterations – 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fix the </a:t>
            </a:r>
            <a:r>
              <a:rPr b="1" i="1" lang="en-US" sz="2200" spc="-1" strike="noStrike">
                <a:solidFill>
                  <a:srgbClr val="0070c0"/>
                </a:solidFill>
                <a:latin typeface="Cambria"/>
              </a:rPr>
              <a:t>duration</a:t>
            </a:r>
            <a:r>
              <a:rPr b="0" i="1" lang="en-US" sz="2200" spc="-1" strike="noStrike">
                <a:solidFill>
                  <a:schemeClr val="accent6">
                    <a:lumMod val="50000"/>
                  </a:schemeClr>
                </a:solidFill>
                <a:latin typeface="Cambria"/>
              </a:rPr>
              <a:t> of iteration and adjust the functionality to fit i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Completion time is fixed, the functionality to be delivered is flexib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70800" y="17319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ime Boxed It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196-A4A0-4BFC-95AF-B33B6BC0A174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938CEA2-2393-4D28-BA9A-E199F102D8D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94360" y="2292840"/>
            <a:ext cx="792072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itself is very useful in many situation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has predictable delivery tim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verall product release and marketing can be better plann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makes </a:t>
            </a: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time a non-negotiable parameter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d helps focus attention on schedul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overall development time is still unchang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Rectangle 1"/>
          <p:cNvSpPr/>
          <p:nvPr/>
        </p:nvSpPr>
        <p:spPr>
          <a:xfrm>
            <a:off x="594360" y="1581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ime Boxed Iteration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89BC-D86C-419E-A1DE-53AB91252BEB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08D8501-E93C-404A-9282-F1E41FB6F59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94360" y="2511360"/>
            <a:ext cx="788652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at if we have multiple iterations executing in paralle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can reduce the average completion time by exploiting parallelis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r parallel execution, it can borrow pipelining concepts from hardwar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leads to Timeboxing Process Mode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Rectangle 1"/>
          <p:cNvSpPr/>
          <p:nvPr/>
        </p:nvSpPr>
        <p:spPr>
          <a:xfrm>
            <a:off x="444240" y="1715040"/>
            <a:ext cx="6548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Taking Time Boxed Iteration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A25-A40C-4AE9-BAD7-A1902AE3835B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422F68-3317-4E49-BE18-B2DF1212F155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evelopment is done iteratively in fixed duration time box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time box is divided in fixed stag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stage performs a clearly defined task that can be done independently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Each stage is approximately equal in durati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here is a dedicated team for each stag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7160" indent="-22716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When one stage team finishes, it hands over the project to the next team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Rectangle 1"/>
          <p:cNvSpPr/>
          <p:nvPr/>
        </p:nvSpPr>
        <p:spPr>
          <a:xfrm>
            <a:off x="594360" y="161532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Bas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6891-468F-4832-AB5F-F04C9D033D6E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76D8B2-5C8B-4F45-930D-764175B4227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28560" y="2639880"/>
            <a:ext cx="7886520" cy="35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n iteration with three stages – Analysis, Build, Deplo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ese stages are approximately equal in many situation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can adjust durations by determining the boundaries suitably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We can adjust duration by adjusting the team size for each stag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ve separate teams for A, B, and D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Rectangle 1"/>
          <p:cNvSpPr/>
          <p:nvPr/>
        </p:nvSpPr>
        <p:spPr>
          <a:xfrm>
            <a:off x="628560" y="18507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CD88-96A5-436F-9E87-6A786380B433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DE0B55-AA40-4AEB-94BC-15C59E03E7E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et AT = Analysis Team, BT = Build Team, DT = Deploy Team and ‘it’ = item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starts executing it-1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finishes, hands over it-1 to BT, starts executing it-2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 finishes it-2, hands over to BT; BT finishes it-1, hands over to DT; AT starts it-3, BT starts it-2 (and DT, it-1)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30720" y="1615320"/>
            <a:ext cx="2515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Pipelined Exec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E5A-379D-4593-B0C8-55D174B1EAE1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DB0585E-3525-4F76-A79D-B966466D787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594360" y="165348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1" descr=""/>
          <p:cNvPicPr/>
          <p:nvPr/>
        </p:nvPicPr>
        <p:blipFill>
          <a:blip r:embed="rId1"/>
          <a:stretch/>
        </p:blipFill>
        <p:spPr>
          <a:xfrm>
            <a:off x="409320" y="2420640"/>
            <a:ext cx="8139960" cy="378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A2FF-ED82-4A9A-B52F-79364BFC8743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8EF024-918D-45C0-885D-7E3B5C22BBE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3960" y="1855440"/>
            <a:ext cx="809532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Process is generally a set of phase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phase performs a </a:t>
            </a:r>
            <a:r>
              <a:rPr b="1" i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well defined task and generally produces an outpu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 top level, typically there are few phases in a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o perform a particular phase – </a:t>
            </a:r>
            <a:r>
              <a:rPr b="1" lang="en-US" sz="22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methodologies have been proposed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9D15-D237-4B12-A30C-FD51C59B8D0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4778984-A575-4392-B1D3-A13CDDFA61D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rst iteration finishes at time T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econd finishes at T+T/3; third at T+2 T/3, and so on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steady state, there will be a delivery every T/3 time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T is 3 weeks, first delivery after 3 weeks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mbr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fter 4 weeks,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mbri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after 5 weeks,…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linear execution, delivery times will be 3 weeks, 6 weeks, 9 weeks,…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594360" y="164016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Executio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CA0-19B7-4F84-8C49-82B8EE3D4C99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837D5A7-9C85-4F5D-8E31-B03472C7217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28560" y="1669680"/>
            <a:ext cx="7886520" cy="44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dvantages: Shortened delivery times, other advantage of iterative, distr. execution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Disadvantages: Larger teams, project management is harder, high synchronization needed, control is harder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pplicability: When short delivery times are very important; architecture is stable;  flexibility in feature group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ldNum" idx="1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AD06B2-3AC5-40DF-B6C0-B915FF6D281E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594360" y="1061640"/>
            <a:ext cx="5441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ime Boxing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3195360" y="453600"/>
            <a:ext cx="4285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Model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78EDB2-DDDD-4B5B-8365-65CC18B8126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Group 3"/>
          <p:cNvGraphicFramePr/>
          <p:nvPr/>
        </p:nvGraphicFramePr>
        <p:xfrm>
          <a:off x="543240" y="1657080"/>
          <a:ext cx="7778880" cy="4462920"/>
        </p:xfrm>
        <a:graphic>
          <a:graphicData uri="http://schemas.openxmlformats.org/drawingml/2006/table">
            <a:tbl>
              <a:tblPr/>
              <a:tblGrid>
                <a:gridCol w="2254320"/>
                <a:gridCol w="3084120"/>
                <a:gridCol w="2440080"/>
              </a:tblGrid>
              <a:tr h="440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532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asy to exec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tuitive and log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asy contractu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 or nothing too ris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q frozen ea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y chose outdated hardware/t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sallows ch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o feedback from 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ll understood problems, short duration projects, automation of existing manu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dt" idx="17"/>
          </p:nvPr>
        </p:nvSpPr>
        <p:spPr>
          <a:xfrm>
            <a:off x="6729840" y="62434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D54E4-56E4-4075-8B79-4663F9A5FF1F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Tuesday, July 28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Num" idx="18"/>
          </p:nvPr>
        </p:nvSpPr>
        <p:spPr>
          <a:xfrm>
            <a:off x="6830280" y="3859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B9DBED-0414-41F8-A41F-CB5CAF24EC81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- Water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Group 3"/>
          <p:cNvGraphicFramePr/>
          <p:nvPr/>
        </p:nvGraphicFramePr>
        <p:xfrm>
          <a:off x="707760" y="1551600"/>
          <a:ext cx="7728120" cy="4345560"/>
        </p:xfrm>
        <a:graphic>
          <a:graphicData uri="http://schemas.openxmlformats.org/drawingml/2006/table">
            <a:tbl>
              <a:tblPr/>
              <a:tblGrid>
                <a:gridCol w="1926000"/>
                <a:gridCol w="2729520"/>
                <a:gridCol w="3072600"/>
              </a:tblGrid>
              <a:tr h="7171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44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elps req elici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duces ri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tter and more stable final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ront hea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ssibly higher cost and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sallows later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ystems with novice users; or areas with requirement uncertain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Heavy reporting based systems can benefit from UI 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dt" idx="19"/>
          </p:nvPr>
        </p:nvSpPr>
        <p:spPr>
          <a:xfrm>
            <a:off x="6843240" y="610596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12653E-71A1-4A59-B9BD-7E5E1B612544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Tuesday, July 28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0"/>
          </p:nvPr>
        </p:nvSpPr>
        <p:spPr>
          <a:xfrm>
            <a:off x="6843240" y="3672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149ACD-865E-4765-AE73-615B80B781A8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Prototy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Group 3"/>
          <p:cNvGraphicFramePr/>
          <p:nvPr/>
        </p:nvGraphicFramePr>
        <p:xfrm>
          <a:off x="569880" y="1398240"/>
          <a:ext cx="8089200" cy="4707000"/>
        </p:xfrm>
        <a:graphic>
          <a:graphicData uri="http://schemas.openxmlformats.org/drawingml/2006/table">
            <a:tbl>
              <a:tblPr/>
              <a:tblGrid>
                <a:gridCol w="3259800"/>
                <a:gridCol w="2279160"/>
                <a:gridCol w="2549880"/>
              </a:tblGrid>
              <a:tr h="503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336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gular deliv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n accommodate changes natur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ows user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voids requirement b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turally prioritizes requ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ows reasonable exit poi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duces ri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verhead of planning each it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otal cost may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ystem arch and design may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work may incr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or businesses where time is imp; risk of long projects cannot be taken; requirement not known and evolve with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PlaceHolder 1"/>
          <p:cNvSpPr>
            <a:spLocks noGrp="1"/>
          </p:cNvSpPr>
          <p:nvPr>
            <p:ph type="dt" idx="21"/>
          </p:nvPr>
        </p:nvSpPr>
        <p:spPr>
          <a:xfrm>
            <a:off x="6754320" y="62341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ECD576-E3CB-4C3F-B366-6D9E8E96921C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Tuesday, July 28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Num" idx="22"/>
          </p:nvPr>
        </p:nvSpPr>
        <p:spPr>
          <a:xfrm>
            <a:off x="6906960" y="53676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E5D4F1-E697-4823-8503-C47992EDD1E3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Ite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Group 3"/>
          <p:cNvGraphicFramePr/>
          <p:nvPr/>
        </p:nvGraphicFramePr>
        <p:xfrm>
          <a:off x="668160" y="1956240"/>
          <a:ext cx="7351200" cy="4137120"/>
        </p:xfrm>
        <a:graphic>
          <a:graphicData uri="http://schemas.openxmlformats.org/drawingml/2006/table">
            <a:tbl>
              <a:tblPr/>
              <a:tblGrid>
                <a:gridCol w="2450520"/>
                <a:gridCol w="2450520"/>
                <a:gridCol w="2450520"/>
              </a:tblGrid>
              <a:tr h="4561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ea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es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0"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ll benefits of it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anning for iterations somewhat eas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ry short delivery ti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M becomes more compl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eam size is lar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licated – lapses can lead to lo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here very short delivery times are very 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here flexibility in grouping fea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spcBef>
                          <a:spcPts val="400"/>
                        </a:spcBef>
                        <a:buClr>
                          <a:srgbClr val="f98fe9"/>
                        </a:buClr>
                        <a:buSzPct val="60000"/>
                        <a:buFont typeface="Wingdings" charset="2"/>
                        <a:buChar char=""/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rchitecture is s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PlaceHolder 1"/>
          <p:cNvSpPr>
            <a:spLocks noGrp="1"/>
          </p:cNvSpPr>
          <p:nvPr>
            <p:ph type="dt" idx="23"/>
          </p:nvPr>
        </p:nvSpPr>
        <p:spPr>
          <a:xfrm>
            <a:off x="6816960" y="616464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1FEA93-490A-49B8-9672-1EF32596B94E}" type="datetime2">
              <a:rPr b="0" lang="en-US" sz="1050" spc="-1" strike="noStrike">
                <a:solidFill>
                  <a:srgbClr val="8b8b8b"/>
                </a:solidFill>
                <a:latin typeface="Cambria"/>
              </a:rPr>
              <a:t>Tuesday, July 28, 2026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Num" idx="24"/>
          </p:nvPr>
        </p:nvSpPr>
        <p:spPr>
          <a:xfrm>
            <a:off x="6816960" y="33408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50" spc="-1" strike="noStrike">
                <a:solidFill>
                  <a:srgbClr val="8b8b8b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F2144F-36D4-4916-A399-C56BD87068CA}" type="slidenum">
              <a:rPr b="0" lang="en-US" sz="1050" spc="-1" strike="noStrike">
                <a:solidFill>
                  <a:srgbClr val="8b8b8b"/>
                </a:solidFill>
                <a:latin typeface="Cambria"/>
              </a:rPr>
              <a:t>&lt;number&gt;</a:t>
            </a:fld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"/>
          <p:cNvSpPr/>
          <p:nvPr/>
        </p:nvSpPr>
        <p:spPr>
          <a:xfrm>
            <a:off x="2981880" y="523440"/>
            <a:ext cx="5441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Summary – Time Box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28560" y="1842480"/>
            <a:ext cx="78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6520" indent="-23652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TVX approach to specify </a:t>
            </a:r>
            <a:r>
              <a:rPr b="1" i="1" lang="en-US" sz="2200" spc="-1" strike="noStrike">
                <a:solidFill>
                  <a:srgbClr val="000000"/>
                </a:solidFill>
                <a:latin typeface="Cambria"/>
              </a:rPr>
              <a:t>a phase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rol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Entry criteri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what conditions must be satisfied for initiating this phase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Task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defines a path that transforms the input to the required output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Verification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a procedure that enables the identification of defects before these defects are built into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709920" indent="-236520" algn="just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eXit criteria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:  identifies the conditions that should be fulfilled to end the process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36520" indent="-236520" algn="just">
              <a:lnSpc>
                <a:spcPct val="16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 phase also should produce information for management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628560" y="1144080"/>
            <a:ext cx="608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TVX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2571840" y="5594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1070-1B18-4E3D-A96E-DFE6F3DF885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C9B184-1A6E-4C39-8ED8-D1CA2487BC1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628560" y="1144080"/>
            <a:ext cx="60825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70c0"/>
                </a:solidFill>
                <a:latin typeface="Cambria"/>
              </a:rPr>
              <a:t>ETVX Specification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2571840" y="559440"/>
            <a:ext cx="545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Process Specification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709200" y="2376720"/>
            <a:ext cx="7725600" cy="305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B37-D212-47F9-A76A-9A81AD13143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D6B8ABC-A054-461F-987C-D6E533143CA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28560" y="2125440"/>
            <a:ext cx="788652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Provide high quality &amp; productivit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Support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testability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as testing is the most expensive task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upport </a:t>
            </a:r>
            <a:r>
              <a:rPr b="1" lang="en-US" sz="2000" spc="-1" strike="noStrike">
                <a:solidFill>
                  <a:schemeClr val="accent6">
                    <a:lumMod val="75000"/>
                  </a:schemeClr>
                </a:solidFill>
                <a:latin typeface="Cambria"/>
              </a:rPr>
              <a:t>maintainability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as maintenance can be more expensive than development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947960" y="72864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7BB5-4B87-481A-A4A8-CB9AE1DC61A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EE8E9BB-9471-4C68-ACBB-C0AE81E263C0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90320" y="1987920"/>
            <a:ext cx="8058960" cy="421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</a:pP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Cost of a defect increases with latenc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.e. fixing a requirement defect in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oper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can cost a 100 times the cost of fixing it in from beginning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nce, for high quality &amp; productivity, the process must support early defect removal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at is why there is a V(verification) in 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ETVX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and quality control tasks in the software process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360360" y="1325880"/>
            <a:ext cx="673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High Q &amp; P: Early Defect Remo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"/>
          <p:cNvSpPr/>
          <p:nvPr/>
        </p:nvSpPr>
        <p:spPr>
          <a:xfrm>
            <a:off x="2221200" y="586800"/>
            <a:ext cx="608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Desired Process Propertie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6F40-EB0C-4686-9AF2-DA318F0EFA4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9662C0F-F677-41E1-8A2F-47035836B89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Vapor Trail">
  <a:themeElements>
    <a:clrScheme name="Vapor Trail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e5224e"/>
      </a:accent1>
      <a:accent2>
        <a:srgbClr val="9d074e"/>
      </a:accent2>
      <a:accent3>
        <a:srgbClr val="7f2294"/>
      </a:accent3>
      <a:accent4>
        <a:srgbClr val="8d65ea"/>
      </a:accent4>
      <a:accent5>
        <a:srgbClr val="588fe2"/>
      </a:accent5>
      <a:accent6>
        <a:srgbClr val="127ca4"/>
      </a:accent6>
      <a:hlink>
        <a:srgbClr val="fb4ab6"/>
      </a:hlink>
      <a:folHlink>
        <a:srgbClr val="f98fe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Vapor Trail</Template>
  <TotalTime>1507</TotalTime>
  <Application>LibreOffice/7.4.7.2$Linux_X86_64 LibreOffice_project/40$Build-2</Application>
  <AppVersion>15.0000</AppVersion>
  <Words>2811</Words>
  <Paragraphs>4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5:36:41Z</dcterms:created>
  <dc:creator>user</dc:creator>
  <dc:description/>
  <dc:language>en-US</dc:language>
  <cp:lastModifiedBy>user</cp:lastModifiedBy>
  <dcterms:modified xsi:type="dcterms:W3CDTF">2020-04-27T06:27:42Z</dcterms:modified>
  <cp:revision>219</cp:revision>
  <dc:subject/>
  <dc:title>Software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55</vt:r8>
  </property>
</Properties>
</file>