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3F7-2129-474D-94F9-DD3DFC3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037-7A23-48C6-95DA-933B5F5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3C3-10BA-41AE-BA30-009E32BA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B8F-86FD-4066-AEE0-DE820422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519-B17C-4DF0-BB0C-3C2F66D5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378-EDED-422D-BE03-6DB2DF9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AF65-36FC-43B7-A9EE-64B5A593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56D-93D8-4306-BBC2-DE9C9F27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5D10-F451-4878-B0B0-B2DF77E7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BD72-F061-4526-9E4F-9F2919F2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86F8-B57D-4FA1-91D3-1DF89775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A54-5996-4727-9D55-244C10AC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1C82-8FAB-460C-9D12-ECBFEA0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762C-4FCB-4738-B47A-8F4A2D8A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8BF9-73A6-4C53-A46A-74E3C0B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7AD1-14B1-4C21-997C-960FC686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B348-0F3D-426D-9DC1-A55238D0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32B6-D61C-4034-8DBC-CF9BAA14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C62E-FB19-43F1-8F17-B3DAB7BA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2FB5B-2425-41FF-B34E-2BAB00F3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ABFB5-1903-4624-932B-4BA1CDC2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3A0AC-83BE-41AB-B496-7C7302B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309-B342-4B1C-8A11-62EADEB7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9EF3-C257-487C-8896-391E92E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1668-C717-44B0-B4C3-CEB0605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2B74-BF9C-4925-A465-FCF3554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11A0-333F-4724-8049-4C48545A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FB42D-C225-4287-B140-1F2737A3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88DB-31B9-4409-A1EB-D6AA34C8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29DB-CD61-4CBC-AA49-8BC50033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1BB6-4BB5-4854-8805-1D3CEF04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878A-DA1A-42DB-AF2D-638F7066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68C1-432F-4892-961A-ED09C5E3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0D7-FFB6-4106-874C-0D2B584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F92B-0AB1-429C-A0B9-9DF7ED9C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AA003-9476-4588-8621-8913193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9107-96CF-4D5C-B275-4662A817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DE3D-F949-47AE-A056-AC02338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A17F-749A-4C77-8A29-61040A78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18C5-B847-4292-8D92-478AA41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8DBC7-959F-4F13-98A9-1CE48538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B1BE-F498-4B00-94F7-71CADDD1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D31E-EF62-4779-BE6D-8FC1523A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34744-553D-4D81-87B0-83CB4661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DFA-A70E-4C41-86DF-D3E59877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6D70-59CE-4C2A-BC6C-5D700F3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9C82C-76E7-4523-8E50-8D81E2C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8A66-EF9F-4FDD-BF82-59CEBAE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7DD75-E209-4832-AFC2-68D39631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BE092-2095-4D26-8683-77BB22D5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EB2D-49BA-4E7A-BAE8-61D18A2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C100-9986-448C-AEBA-3E0A7CF3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07512-8A48-46A5-BD05-5031B633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3E17-D126-411B-BF9E-513097DA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3B12E-01B3-4047-8D0C-6DAB9A5A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29C-151E-4215-B89C-19C35690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3D2AA-250C-44F2-862F-A10F1507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97BC-3922-4E16-827A-BB642851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5A45D-52F6-4E11-B2EA-13198B79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5733B-7B95-45D7-849F-2F3770A8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3EAD7-0364-4DD2-950A-38A5689F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B9E30-80F4-414E-8F06-C52226CC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6A62-E9A3-4A19-A8F9-3061FCC4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E64EA-07D8-4AA0-AADF-2261060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FD29F-E86E-4C80-AD83-5B612FA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A003E-F511-4B4B-84F3-BD43DB06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8B7-436F-4881-8A3D-9624FE8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E153C-6EDB-40DA-B6AF-A11A2D23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96BAB-3EED-4C5B-9C54-5F5308B4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92A37-F6BA-442F-9724-79CB1E7C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8FAE-20CF-4D40-B5AD-867057FB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CE86A-9680-4CB0-8832-36066B55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CAFD-1C5D-4173-9595-0F5DC757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0C05-2122-40C5-992D-8E4917DA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2D6BB-C7E0-463C-9D8F-7CEFBE0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1A19-AF5F-478C-B00B-DC421282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9F0A1-FFB6-467F-905C-D59E7750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BAF-C134-4D9F-91E2-D739E76C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C2DE5-D005-4665-8A7D-4689C71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20100-F67A-448C-B511-4F95708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80A51-6A2A-4FBE-93E2-CBA7C7F6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D5657-93AB-4641-B831-983C3035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F468-0F44-4BC0-A024-48251468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02B-8EC9-45B6-86E4-1D1F435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D3290-DE1F-4C1F-8162-11D4FCB71B5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48590-7B57-4B74-BD77-3F90E2B1E31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CCA5C-8DD4-4766-9FC1-2F32F96DCE1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CF1AD-B769-4B33-BEA5-CE4B5D83C9C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FC58D-2BDA-4025-881F-FAE2B38204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7A250-4BD0-496A-BFA6-5550C82F192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C0D21-6C00-409A-A948-B0B6C9385AC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31D78-1896-4AF3-B309-CFA602E3BFF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  <a:ea typeface="MS P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1B962-7E32-4EF3-95D7-CD251B50722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B3DE1-4008-44F9-BC71-958F0AF260E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AB871-3FBD-41E2-8033-9DE1CD9E3C7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474FB-4F26-406E-9ED6-FE4BD1456C6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5021C-2F9D-4FA7-AE10-8E362A2424B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D4D22-0F80-4151-AE53-46D58E5F201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ubtitle 2"/>
          <p:cNvSpPr/>
          <p:nvPr/>
        </p:nvSpPr>
        <p:spPr>
          <a:xfrm>
            <a:off x="1981080" y="3935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  <a:ea typeface="MS PGothic"/>
              </a:rPr>
              <a:t>Software Engineer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Date Placeholder 5"/>
          <p:cNvSpPr/>
          <p:nvPr/>
        </p:nvSpPr>
        <p:spPr>
          <a:xfrm>
            <a:off x="4191120" y="6400800"/>
            <a:ext cx="3876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19165-B5C3-4AB0-9B93-C038F50B9AE3}" type="datetime2">
              <a:rPr b="1" lang="en-US" sz="2400" spc="-1" strike="noStrike">
                <a:solidFill>
                  <a:srgbClr val="ff0000"/>
                </a:solidFill>
                <a:latin typeface="Cambria"/>
              </a:rPr>
              <a:t>Tuesday, July 28, 2026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1034280" y="1550880"/>
            <a:ext cx="63482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  <a:ea typeface="MS PGothic"/>
              </a:rPr>
              <a:t>Object Oriented Software Design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F6ED2-AD67-4EDE-8931-319226FB42B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04920" y="1752120"/>
            <a:ext cx="824544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ubclass B generally has a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eriv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rt (inherited from A) and an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rt (new part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B needs to define only the incremental pa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reates an “is-a” relationship – objects of type B are also objects of type 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F425F-0197-4714-88E5-E5B1D52B5AC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2286000" y="803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C3AF0-3E42-42B1-B25C-AC94CD75087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5EB09-EB8D-48ED-8D73-61E714EF01E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286000" y="803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40994-1131-403C-B20F-9D4DB387776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5" descr="Fig7-3"/>
          <p:cNvPicPr/>
          <p:nvPr/>
        </p:nvPicPr>
        <p:blipFill>
          <a:blip r:embed="rId1"/>
          <a:stretch/>
        </p:blipFill>
        <p:spPr>
          <a:xfrm>
            <a:off x="2590920" y="15238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inheritance relationship between classes forms a class hierarch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models, hierarchy should represent the natural relationships present in the problem domai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a hierarchy, all the common features can be accumulated in a supercla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existing class can be a specialization of an existing general class – is also called generalization-specialization relationship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4C926-2970-4296-B90A-8059E466C26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3048120" y="563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6C7E2-23DE-4EBF-8410-372F5D31862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9129A-D031-4EF3-B6B9-A5B4ADBA3F0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3657600" y="21744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E6BB9-380D-48B1-A0FA-08B7C0C86AB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5" descr="Fig7-4"/>
          <p:cNvPicPr/>
          <p:nvPr/>
        </p:nvPicPr>
        <p:blipFill>
          <a:blip r:embed="rId1"/>
          <a:stretch/>
        </p:blipFill>
        <p:spPr>
          <a:xfrm>
            <a:off x="914400" y="855720"/>
            <a:ext cx="780408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560" y="1523880"/>
            <a:ext cx="845820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trict inheritanc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 a subclass takes all features of parent class.  It only adds features to specialize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Non-stri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when some of the features have been redefin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rict inheritance supports “is-a” relationship cleanly and has fewer side eff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07D1C-CC14-4B38-AE89-08EFC1BA295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3048120" y="563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80444-6ACE-496F-9856-ED1915767B2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ingle inheritanc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– a subclass inherits from only one supercla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hierarchy is a tre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Multiple inheritanc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– a class inherits from more than one clas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n cause runtime conflic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eated inheritance - a class inherits from a class but from two separate path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FBFDF-9CE2-4B79-99AE-962EF1A3CEE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Rectangle 1"/>
          <p:cNvSpPr/>
          <p:nvPr/>
        </p:nvSpPr>
        <p:spPr>
          <a:xfrm>
            <a:off x="3048120" y="5634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BEE87-552D-4E4E-961F-E590710AE23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brings polymorphism, i.e. an object can be of different typ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object of type B is also an object of type 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 an object has a static type and a dynamic ty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has implications on type check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also brings dynamic binding of operations which allows writing of general code where operations do different things depending on the ty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D05F8-8CDF-440B-92B9-2F1029E9527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1752480" y="746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and Polymorphism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B5576-54ED-43F9-9EC0-448EE00E035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basic modules are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uring design, the key activity is to specify the classes in the system being bui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rrectness of design is fundament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 design should also be “good” – efficient, modifiable, stable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n evaluate a design using coupling, cohesion, and open-closed principl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26273-2DE0-4E70-A9E2-2CC4B1FB685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1752480" y="746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odule Level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B143E-7DEB-440E-85BF-12DDD52F9DD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04920" y="1523880"/>
            <a:ext cx="824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upling is an inter-module concept, captures the strength of interconnection between modu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ore tightly coupled the modules, the more they depend on each other, the more difficult to modify 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ow coupling is desirable for making systems understandable and modifia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, three types of coupling exist – interaction, component, and inherit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666A4-C641-4728-942F-10CE23AF646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1752480" y="7462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71559-573B-454B-ABCA-3693172D8F1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04920" y="1447920"/>
            <a:ext cx="824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nteraction coupling occurs due to methods of a class invoking methods of other class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ike calling of function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Worst form will be if methods directly access internal parts of other method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Still it is bad if methods directly manipulate variables of other class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assing information through temporary variables is also bad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DDDD5-9595-4DBA-991D-F49B2233581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133720" y="663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9B7C1-61D2-4CD3-9DF1-0741B38D441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1752120"/>
            <a:ext cx="794088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ditional procedural systems separate data and procedures, and model these separate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ject orientation: views data and functions together; data abstraction is its ba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purpose of OO design is to define the classes in the system to be built and their relationshi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2E6E6-A718-436F-8762-20F2B88B96B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743200" y="762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bject Ori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80DA8-696F-43D0-A1BB-5A8642CDE89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04920" y="1447920"/>
            <a:ext cx="824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ast interaction coupling if methods communicate directly with paramet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least number of paramet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least amount of info being pas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ith only data being pas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methods should pass the least amount of data, with least number of parameter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ECBD2-63C5-4004-B96F-3F786400AD7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2133720" y="66348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0F209-0186-4B50-B52B-4DE3BD63342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136160"/>
            <a:ext cx="824544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 coupling: when a class A has variables of another class 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has instance variables of 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has some parameters of type 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has a method with a local variable of type C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A is coupled with C, it is coupled with all subclasses of C as we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 coupling will generally imply the presence of interaction coupling als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A0B08-2FF6-431A-A77C-2E97B455E55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1"/>
          <p:cNvSpPr/>
          <p:nvPr/>
        </p:nvSpPr>
        <p:spPr>
          <a:xfrm>
            <a:off x="2895480" y="46656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8BF5F-C261-4BB5-B514-5EF3C124193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coupling: two classes are coupled if one is a subclass of the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orst form – when subclass modifies a signature of a method or deletes a metho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upling is bad even when there is the same signature but a changed implement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ast, when subclass only adds instance variables and methods but does not modify an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EC2CB-4D3C-49AE-98B8-9AF0BDE64B2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upling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8777A-3ED9-45A4-8DA2-F51F48CCA46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hesion is an intra-module concep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focuses on why elements are toge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ly elements tightly related should exist together in a modu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gives a module clear abstraction and makes it easier to understan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gher cohesion leads to lower coupling:  many interacting elements are in the modu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 is to have higher cohesion in modu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ree types of cohesion in OO – method, class, and inherit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B076C-541D-4A83-B440-A75081AAA98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D2847-A492-4763-8608-0682D0707DB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thod cohesion – why different code elements are together in a method (like cohesion in functional module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ghest form is if each method implements a clearly defined function with all elements contributing to implementing this fun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uld be able to state what the module does by a simple state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9E405-CD3A-4698-A7FA-A6BDA1B98FE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390D5-AF69-41EB-BF89-30731771A13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cohesion – why different attributes and methods are together in a cla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class should represent a single concept with all elements contributing towards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ever multiple concepts encapsulated, cohesion is not as high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symptom of multiple concepts – different groups of methods accessing different subsets of attribut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3D4F4-CEB8-4762-BB0B-03C84564E8F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7412B-32A1-46DD-A61D-DAA7D184A4A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04920" y="1355760"/>
            <a:ext cx="8245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cohesion – focuses on why classes are together in a hierarch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wo reasons for subclassing –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generalization-specializatio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reus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hesion is higher if the hierarchy is for providing generalization-specializati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6788D-4230-4C96-86C6-11E962E49B6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2590920" y="5763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hesio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13ED5-F7EE-48ED-9C06-7E8C246FFD9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28600" y="1349280"/>
            <a:ext cx="86868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nciple: classes should be open for extension but closed for modif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ehavior can be extended to accommodate new requirements, but existing code is not modifi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allows addition of code, but not modification of exist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nimizes risk of having existing functionality stop working due to changes – a very important consideration while changing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ood for programmers as they like writing new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8C0C6-2F26-46D4-96A7-2011A8146D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BE0CD-6E17-4A2F-A266-4280FDA4161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28600" y="1349280"/>
            <a:ext cx="861048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 this principle is satisfied by using inheritance and polymorphis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allows creating a new class to extend behavior without changing the original cla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can be used to support the open-closed princip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ider example of a client object which interacts with a  printer object for print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A9594-8F82-4939-8261-2A5F24A3FE2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DDF5E-941F-48DE-9E12-D1B93916C0A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F94A6-B600-459C-8E72-9E2FF203084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2FD6B-F562-4027-A376-E236545B193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6" descr="Fig7-7"/>
          <p:cNvPicPr/>
          <p:nvPr/>
        </p:nvPicPr>
        <p:blipFill>
          <a:blip r:embed="rId1"/>
          <a:stretch/>
        </p:blipFill>
        <p:spPr>
          <a:xfrm>
            <a:off x="628560" y="3083040"/>
            <a:ext cx="7886880" cy="1836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8"/>
          <p:cNvSpPr/>
          <p:nvPr/>
        </p:nvSpPr>
        <p:spPr>
          <a:xfrm>
            <a:off x="457200" y="146196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93640" y="1476360"/>
            <a:ext cx="795672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O techniques can be used in requirement analysis as well as in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ethods and notations are similar in both case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 analysis (OOA) we model the problem, while in OO design (OOD) we model the solu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OOA structures are included in the solution domain structu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line between OOA and OOD is not fix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8986A-11FA-4B5E-90BB-583F1914B28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A and 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ED4BC-7EA2-42D0-9924-C819053DD6B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28600" y="1828800"/>
            <a:ext cx="8610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ent directly calls methods on Printer1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f another printer is to be allowe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new class Printer2 will be crea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 the client will have to be changed if it wants to use Printer 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ternative approach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e Printer1 a subclass of a general Print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modification, add another subclass Printer 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ent does not need to be chang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43CC4-1D06-4415-94A0-117E60D2D6F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7BE88-2CD4-4108-844F-09CEAA15285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593640" y="1176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E6DA2-693A-42B8-BB83-BB54634BC73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2590920" y="5763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pen-closed Principle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5A907-28E1-40CA-93CA-0F82FE324C0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593640" y="1176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7" descr="Fig7-8"/>
          <p:cNvPicPr/>
          <p:nvPr/>
        </p:nvPicPr>
        <p:blipFill>
          <a:blip r:embed="rId1"/>
          <a:stretch/>
        </p:blipFill>
        <p:spPr>
          <a:xfrm>
            <a:off x="779400" y="1825560"/>
            <a:ext cx="7585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228600" y="1828800"/>
            <a:ext cx="8610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inciple: Program using object o1 of base class C should remain unchanged if o1 is replaced by an object of a subclass of C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f hierarchies follow this principle, the open-closed principle gets supported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7CECB-883D-43D6-B285-598C353B02F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1905120" y="914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Liskov’s Substitutio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60186-076E-48A8-8233-48E58B720F5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228600" y="2286000"/>
            <a:ext cx="86104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ML is a graphical notation useful for OO analysis and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ows representing various aspects of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ous notations are used to build different models for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OAD methodologies use UML to represent the models they creat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F62D2-B31F-4244-B044-A90B1E9A28C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1828800" y="95724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Unified Modeling Language (UML) and Mode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AEF8E-5BF5-4783-842A-2D094DE8C0E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ing is used in many disciplines – architecture, aircraft building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model is a simplification of rea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models are wrong, some are useful”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good model includes those elements that have broad effect and omits minor el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model of a system is not the system!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F81E4-6D7B-4921-B5DE-1454CF5D8C9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ode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F61B5-1D9C-4845-807F-388A802641F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s help us visualize a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 specify the system structu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ives us a template that can guide the constru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cument the decisions taken and their rationa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15579-7AF5-4A60-9EA3-9AB015A6750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Why build model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F6F2D-E259-4F23-A115-6E139E99B16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very complex system requires multiple models, representing different asp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models are related but can be studied in isol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Architectural view, electrical view, plumbing view of a buil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el can be structural, or behavior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152A9-2262-41EE-A3D2-5F30FE562DC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odel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F22BE-0FA8-4B7A-9F96-B7078658DAE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use case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design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process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mplementation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ployment 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will focus primarily on models for design – class diagram, interaction diagram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C8FE3-A765-4B1D-9580-A8ACB5CDF41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Views in an UML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398E4-4ECF-4BF9-8B86-B6AC9FB36E5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8600" y="1541520"/>
            <a:ext cx="8610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es are the basic building blocks of an OO system as classes are the implementation units als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 is the central piece in an OO design. It specif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es in the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sociation between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btype, super type relationshi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4D46B-E71A-4E7D-BF5B-1084CE8975B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F00C0-74CF-4844-A263-87F90443A1E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593640" y="1541520"/>
            <a:ext cx="824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itself is represented as a box with name, attributes, and metho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conventions for nam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a class is an interface, this can be specified by &lt;&lt;interface&gt;&gt; stereotyp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perties of attributes/methods can be specified by tags between { }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A010E-35AA-4E8D-9286-B29A0276D00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14E2B-1FB7-418C-87F8-0FDB3908DBF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14923-A6FC-47EB-A5F9-F6B3D41737E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A and OOD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30044-2D49-4955-81AA-958B22D4A4D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Picture 5" descr="Fig7-1"/>
          <p:cNvPicPr/>
          <p:nvPr/>
        </p:nvPicPr>
        <p:blipFill>
          <a:blip r:embed="rId1"/>
          <a:stretch/>
        </p:blipFill>
        <p:spPr>
          <a:xfrm>
            <a:off x="1295280" y="1825560"/>
            <a:ext cx="65534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FE813-94EA-4DD5-B4CB-13B6EC6CB32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24FF10-6BF8-4758-85AB-4A19B410D3A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560880" y="139716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Class –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5" descr="Fig7-9"/>
          <p:cNvPicPr/>
          <p:nvPr/>
        </p:nvPicPr>
        <p:blipFill>
          <a:blip r:embed="rId1"/>
          <a:stretch/>
        </p:blipFill>
        <p:spPr>
          <a:xfrm>
            <a:off x="628560" y="2495520"/>
            <a:ext cx="78868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593640" y="1541520"/>
            <a:ext cx="824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relationship leads to class hierarch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n be captured in a class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rows coming from the subclass to the superclass with head touching sup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ows multiple sub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specialization is done on the basis of some discriminator, arrow can be label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976DB-1F8D-4F24-979E-BC02DD8CFD5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Generalization-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A4046-8899-4104-B648-0CB217CD88A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C505F-E29F-405C-881C-F23887C80F8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lass Diagram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C0A58-B6B1-4E23-AF59-4FDEFCA754E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10560" y="139716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Class Hierarchy–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1" name="Picture 5" descr="Fig7-10"/>
          <p:cNvPicPr/>
          <p:nvPr/>
        </p:nvPicPr>
        <p:blipFill>
          <a:blip r:embed="rId1"/>
          <a:stretch/>
        </p:blipFill>
        <p:spPr>
          <a:xfrm>
            <a:off x="593640" y="1919160"/>
            <a:ext cx="78012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593640" y="1541520"/>
            <a:ext cx="8245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asses have other relationship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ssociation: when objects of a class need services from other object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n by a line joining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ltiplicity can be represen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ggregation: when an object is composed of other object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ptures part-whole relationship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n with a diamond connecting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051A0-1687-4F83-AA86-D5B3611E6E0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905120" y="7542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ssociation/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C2EA4-A03A-4688-A4BD-12F664E8DA3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C9C0B-110B-40F8-B603-6CD2F0B2A8E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1295280" y="754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ssociation/Aggregation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6C952-F299-486B-83D3-2DC35EEE547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546480" y="13971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5" descr="Fig7-11"/>
          <p:cNvPicPr/>
          <p:nvPr/>
        </p:nvPicPr>
        <p:blipFill>
          <a:blip r:embed="rId1"/>
          <a:stretch/>
        </p:blipFill>
        <p:spPr>
          <a:xfrm>
            <a:off x="628560" y="2703600"/>
            <a:ext cx="7886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6840" y="1386000"/>
            <a:ext cx="8381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 represent static structure of the system (classes and their relationships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 not model the behavior of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havioral view – shows how objects interact for performing actions (typically a use case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action is between objects, not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action diagram in two style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quence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aboration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are equivalent in pow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D56B8-092B-4CAD-BC90-528057D5CE6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C55E3-4985-4F1C-AEF3-8F592327A26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6840" y="1828800"/>
            <a:ext cx="83818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jects participating in an interaction are shown at the to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ach object a vertical bar represents its lifeli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ssage from an object to another, represented as a labeled arrow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message sent under some condition, it can be specified in bracke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ime increases downwards, ordering of events is captu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B0006-7D46-42B9-9EE4-A8582686549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1"/>
          <p:cNvSpPr/>
          <p:nvPr/>
        </p:nvSpPr>
        <p:spPr>
          <a:xfrm>
            <a:off x="380880" y="10904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equence Dia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1600D-FEC4-4264-AC91-16B7061CC4C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B788B-3E2D-4542-8747-0FDF0449D56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2FE86-7D1B-48D8-9FE5-DA560CEB743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7" name="Picture 5" descr="Fig7-12"/>
          <p:cNvPicPr/>
          <p:nvPr/>
        </p:nvPicPr>
        <p:blipFill>
          <a:blip r:embed="rId1"/>
          <a:stretch/>
        </p:blipFill>
        <p:spPr>
          <a:xfrm>
            <a:off x="1585800" y="1811160"/>
            <a:ext cx="6778800" cy="4572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8"/>
          <p:cNvSpPr/>
          <p:nvPr/>
        </p:nvSpPr>
        <p:spPr>
          <a:xfrm>
            <a:off x="380880" y="16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380880" y="10904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equence Diagram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93640" y="1980720"/>
            <a:ext cx="824544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so shows how objects intera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tead of timeline, this diagram looks more like a state diagra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rdering of messages captured by numbering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s equivalent to sequence diagram in modeling pow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E5E21-56C4-4339-AC21-A4D2FE984C9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8C735-86C4-453C-B42C-3D3EAE35058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1"/>
          <p:cNvSpPr/>
          <p:nvPr/>
        </p:nvSpPr>
        <p:spPr>
          <a:xfrm>
            <a:off x="593640" y="1295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llaboration Dia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8F85A-5DAF-414A-90D9-4E0713ED1BF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5910C-29E9-4469-BF36-730F3F11F76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0" name="Picture 5" descr="Fig7-13"/>
          <p:cNvPicPr/>
          <p:nvPr/>
        </p:nvPicPr>
        <p:blipFill>
          <a:blip r:embed="rId1"/>
          <a:stretch/>
        </p:blipFill>
        <p:spPr>
          <a:xfrm>
            <a:off x="814320" y="1708200"/>
            <a:ext cx="7131240" cy="4800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8"/>
          <p:cNvSpPr/>
          <p:nvPr/>
        </p:nvSpPr>
        <p:spPr>
          <a:xfrm>
            <a:off x="374760" y="18032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380880" y="1185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llaboration Diagram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2590920" y="5047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teraction Diagrams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880" y="1476360"/>
            <a:ext cx="832176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capsulation – grouping of related ideas into one unit in which we can refer to by a single na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procedures, functions, packag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OO, object is the unit; encapsulates state and provides interface to access and modify the stat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hiding – use encapsulation to restrict external visi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O encapsulates the data, provides limited access, visi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F9863-5A38-4956-8F73-5AFB813E648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BC063-26D8-4923-A4C0-1D82E799269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56840" y="1676160"/>
            <a:ext cx="83818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 and interaction diagrams most commonly used during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other diagrams used to build different types of mod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86515-3EC0-4C75-9CE4-DB772FC3C0B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87A9E-6217-49B1-B769-AAD31844404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6840" y="167652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diagram is a dynamic model to represent behavior of an individual object or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s the states of an object and transitions between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s understand the object – focus only on the important logical stat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diagrams can be very useful for automated and systematic test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CDAD1-6FE5-402E-8A3B-E8A0F4EA9EA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ate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DE14A-F054-47D9-ABFC-74431BECEB1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3FCAE-33E6-4A71-98E3-1A14ED808B6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tate Diagra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7F58B-56E5-45EA-BDF2-B4FA9E4AEC0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8" name="Picture 5" descr="Fig8-6"/>
          <p:cNvPicPr/>
          <p:nvPr/>
        </p:nvPicPr>
        <p:blipFill>
          <a:blip r:embed="rId1"/>
          <a:stretch/>
        </p:blipFill>
        <p:spPr>
          <a:xfrm>
            <a:off x="628560" y="2631960"/>
            <a:ext cx="7886880" cy="273852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5"/>
          <p:cNvSpPr/>
          <p:nvPr/>
        </p:nvSpPr>
        <p:spPr>
          <a:xfrm>
            <a:off x="517680" y="148428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State diagram of a st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6840" y="1676160"/>
            <a:ext cx="83818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nother method for modeling the dynamic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cribes the sequence of activities, and parallel behavior in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ctivity represented by ovals, dependence shown by inputs/outpu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ant of a state diagram – captures the state of the system and transi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B45A1-0532-4FE1-9119-DA819E3DD2A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D5649C-4B20-4DE7-A589-38B07032B7E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6840" y="1386000"/>
            <a:ext cx="8381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stead of objects/classes, can represent components, packages, sub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are useful for developing architecture structu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ML is extensible – can model a new but similar concept by using stereotypes (by adding &lt;&lt;name&gt;&gt;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agged values can be used to specify additional properties, e.g. private, read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tes can be ad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C7E51-1EC7-40E5-8CB5-E4DFAED72F6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113D1-FB2E-48B1-BBA8-E40D0C24906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751C-B427-4258-B786-A87F216B222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ther Symbo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A85BA-A2CB-47D6-9D21-B316541254D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5" descr="Fig7-14"/>
          <p:cNvPicPr/>
          <p:nvPr/>
        </p:nvPicPr>
        <p:blipFill>
          <a:blip r:embed="rId1"/>
          <a:stretch/>
        </p:blipFill>
        <p:spPr>
          <a:xfrm>
            <a:off x="628560" y="1874880"/>
            <a:ext cx="78868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456840" y="1386000"/>
            <a:ext cx="8381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ny OOAD methodologies have been propo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provide some guidelines on the steps to be perform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goal is to identify classes, understand their behavior, and relationshi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UML models are used for th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UML is used, methodologies are not followed strict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A91B8-7135-4B09-AEE1-255BFEF8C2F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2438280" y="5904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54115-4917-4424-8530-3CC3C180122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28600" y="1038240"/>
            <a:ext cx="861048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step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 classes, attributes, and operations from use ca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fine relationships between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ke dynamic models for key use cases and use them to refine class diagra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ke a functional model and use it to refine the cla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timize and packag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 diagrams play the central role; class definition gets refined as we proce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566A7-AAE1-4E3D-A702-AAA6E963156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B14F7-E684-4568-9900-0E204C4C0AF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8B820-53EC-4623-8163-D300A63423F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44DD9-7583-4837-813B-556619967B7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Picture 5" descr="Fig3-10"/>
          <p:cNvPicPr/>
          <p:nvPr/>
        </p:nvPicPr>
        <p:blipFill>
          <a:blip r:embed="rId1"/>
          <a:stretch/>
        </p:blipFill>
        <p:spPr>
          <a:xfrm>
            <a:off x="1828800" y="1816200"/>
            <a:ext cx="6245280" cy="457200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572760" y="1155600"/>
            <a:ext cx="52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Restaurant example: Initial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1E26A-56BF-4421-9DD2-94BF6AC0A8A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11D9B-E4B6-4189-BECF-34E44B714DE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572760" y="1155600"/>
            <a:ext cx="52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Restaurant example: Initial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6" name="Picture 5" descr="Fig3-11"/>
          <p:cNvPicPr/>
          <p:nvPr/>
        </p:nvPicPr>
        <p:blipFill>
          <a:blip r:embed="rId1"/>
          <a:stretch/>
        </p:blipFill>
        <p:spPr>
          <a:xfrm>
            <a:off x="1600200" y="1795320"/>
            <a:ext cx="647712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6840" y="1476360"/>
            <a:ext cx="8093160" cy="48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retention – functions, procedures do not retain state; an object is aware of its past and maintains stat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ty – each object can be identified and treated as a distinct ent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havior – state and services together define the behavior of an object, or how an object respond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ssages – through which a sender object conveys a request to a target objec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requesting, O1 must have – a handle for O2, name of the operation, information on operations that O2 requi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ral format O2.method(arg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E6979-F481-42A0-83FB-06A010A396F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811600" y="6364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577BB-9B70-413F-AF4F-29DDBA0BB52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D2975-CC7A-47D1-87E7-1DC8170A172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Design using UML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1E195-5D7B-42BC-9E66-CC0FA0B4F6C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57200" y="11556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mbria"/>
              </a:rPr>
              <a:t>Restaurant example: a sequence diagra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Picture 6" descr="Fig7-15"/>
          <p:cNvPicPr/>
          <p:nvPr/>
        </p:nvPicPr>
        <p:blipFill>
          <a:blip r:embed="rId1"/>
          <a:stretch/>
        </p:blipFill>
        <p:spPr>
          <a:xfrm>
            <a:off x="1066680" y="1825560"/>
            <a:ext cx="7010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228600" y="1038240"/>
            <a:ext cx="861048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ighted methods per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xity of a class depends on number of classes and their complex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pose complexity of methods is c1, c2..; by some functional complexity metr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9144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MC = Σ ci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rge WMC might mean that the class is more fault-pr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A28D8-D842-47FD-8527-491D5679841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9691A-FFD2-4A9E-A663-091D4A097D5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228600" y="152352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pth of Inheritance Tree (DIT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T of C is depth from the root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ngth of the path from root to 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T is significant in predicting fault pronene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mber of Childre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mmediate number of subclasses of 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ives a sense of reu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AB9C5-BEFE-47A6-AF0B-9D5F56DA303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7EA91-9F14-4F9F-9321-CDEFE34D0A2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28600" y="152352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upling between 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mber of classes to which this class is coupl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wo classes are coupled if methods of one use methods or attributes of other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n be determined from cod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(There are indirect forms of coupling that cannot be statically determined)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98F22-4BB2-4799-A2D3-D2EB1CF216C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275760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8B773-B0FA-4144-9914-F526D319557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152280" y="914400"/>
            <a:ext cx="883944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sponse for a clas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tal number of methods that can be invoked from this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ptures the strength of connec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ack of cohesion in method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methods form a cohesive pair if they access some common variables (form a non-cohesive pair if no common variabl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COM is the number of method pairs that are non-cohesive – the no of cohesive pai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6940A-0806-4458-A335-F54A5951BC8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3048120" y="45396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Metric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9C5E2-8A8E-48C2-BFC4-F7B241623DF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228600" y="1523520"/>
            <a:ext cx="861048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O is a newer paradigm, slowly replacing the functional approach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O models both data and function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UML is a notation that is used often to model systems in an OO manner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UML provides various diagrams for modeling the structure, dynamic behavior, etc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rough UML modeling, design for the system can be developed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4557C-BE8E-4098-9C9A-70610A56E41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Rectangle 1"/>
          <p:cNvSpPr/>
          <p:nvPr/>
        </p:nvSpPr>
        <p:spPr>
          <a:xfrm>
            <a:off x="2757600" y="773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5218E-AF33-4B51-8FF8-CAE9C1AC14C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04920" y="1220760"/>
            <a:ext cx="82454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asses – a class is a stencil from which objects are created; defines the structure and services. A class ha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interface which defines which parts of an object can be accessed from outsi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ody that implements the oper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stance variables to hold object state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jects and classes are different; class is a type, object is an insta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te and identity is of obje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24D15-8772-43B2-890D-F168034EAD5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2913120" y="4539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09A8B-DE75-4744-B8B6-D54B53EB90B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04920" y="1981080"/>
            <a:ext cx="824544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perations in a class can b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ublic: accessible from outsid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vate: accessible only from within the cla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tected: accessible from within the class and from within subcla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some constructor and destructor oper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D669B-AE7F-4F39-A31F-11DC207D7D1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913120" y="4539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OO Concep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2B989-D1DA-4CB3-B146-8AD3E82F0B3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57200" y="13683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04560" y="1752120"/>
            <a:ext cx="84582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is unique to OO and not there in function-oriented languages/mod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ance by class B from class A is the facility by which B implicitly gets the attributes and operations of A as its par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tributes and methods of A are reused by B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B inherits from A, B is th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subcla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derive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lass and A is th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lass or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supercla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C00F6-9C4F-4CB1-890C-F9E6F4E6963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2286000" y="8031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Inherita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920FB-F0B1-4735-8761-543F78A4EB3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2:21:25Z</dcterms:created>
  <dc:creator>Dr.P.Jalote</dc:creator>
  <dc:description/>
  <dc:language>en-US</dc:language>
  <cp:lastModifiedBy>user</cp:lastModifiedBy>
  <dcterms:modified xsi:type="dcterms:W3CDTF">2020-04-27T06:00:48Z</dcterms:modified>
  <cp:revision>47</cp:revision>
  <dc:subject/>
  <dc:title>OO Analysis and Design</dc:title>
</cp:coreProperties>
</file>