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8D85-92DC-4111-A2AA-49ED3DDF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54E-EB47-4EAA-A751-5FB00AD2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4BF-408E-4853-B478-71662729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AE1-A8FA-4ED1-9651-78C2251B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5EDA-686B-46DD-B5F4-05D89F4B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8A78-825C-40BB-9936-F998CFAF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6CE7-60AF-446A-829B-3FAF778D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A6BC-3AD6-43F9-8F86-6B84406B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87BE-A077-4CE1-94FF-5C861AA3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5AC7-E482-4FB6-8DBF-63D94B85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B5C0-9BC2-4091-AF55-151AC4D7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9FC-F41B-429E-AC52-0AAE081F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52EA-4E72-44C0-A454-FCB86AA4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BD3B-080C-4E5A-AE3E-C311761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7DC6-FFCD-4EFB-99B8-21AD0390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B062-3906-4435-8D0F-ADC0891B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EB16-1900-4B70-99BF-CCCF0FCA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508A-BB95-4F51-A69F-A8439E62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BF1A-62B7-4483-9D25-35C0B341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9816-D7E7-4AF5-9B8D-607BEE62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25947-C942-4AA4-B3D9-172E5BFD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1116-E8CC-43A8-BF35-CB71E796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AD4-469A-4858-920B-4AB42F16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68D88-A863-46DB-8EE0-E416698A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553F-92DB-41C5-8E26-3BEBB14F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58371-76E2-4DB3-AB99-31B148D1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D692-27FB-481E-AE1C-F21CAD8F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BDD8-CAF3-4776-93A9-D3ACB674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C892-3F38-4423-87EA-A965B568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AEDC7-7C24-413E-92F2-F1B45298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40D20-171C-40C1-A5C4-B06035EA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77A0-1832-4386-A219-5C1531D5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342C-ABD6-4B67-9E33-88EF4031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DAD-C8A1-476B-90AE-7313B0C6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89990-2C2D-4E64-A15C-50A8F91E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42880-AED5-463B-A35A-9E5CC417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EC2B7-7877-4EAC-ADFE-19AFA702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0CB7-B396-4C60-B66A-E90FCAE4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82EC-5FC8-4370-AE3A-F9E42C8C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EF91-DA15-41D8-A59E-2665D076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254C1-7ABE-4A84-937C-895231A8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356D2-F6AE-472F-97DA-12F67593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FDFBB-03B8-4174-97E0-7788CC42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33704-8C4C-46C7-8E6D-111A53FB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00B-76EB-468B-B338-8212A9FF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6BF19-C04B-4770-9E34-2E47115B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64528-18D0-403C-9ECA-4720F580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EF32E-5EF1-4DA5-B25E-B8BEE89F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BC7FE-0396-4671-B3A4-693188A7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88F17-3CBC-4664-8314-C425B899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B0616-8B58-4876-96C9-F8B6DED9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756F8-7CC1-403B-8BDE-6A2E3CAC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DD9C5-C4A0-468B-A815-1F3C5BE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3B8F7-F0C7-473D-949C-E856A2E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5B62A-F81A-43D8-84E3-408B6366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138-8D15-47D2-A72E-F8E6076D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A8B37-DB82-49C9-9DF6-5E6AD164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926AD-FC1D-442A-914D-40952142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DD17B-D38C-4FA8-AD9B-77733E38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7EF64-DE3E-43A6-BC88-5BDA15C6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1CAFA-78E6-470C-8079-92B1BCF1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0D5A3-197B-4F70-AD01-56A7AAF5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0385A-E783-4A87-BBFC-52A4C788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35167-59C9-472C-970F-EECD161D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C30EA-C9AA-4E63-9F8F-6466AA93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BF48-84AB-4046-B680-63F42CA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DE9-6839-401B-AE28-633F25A1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1DE70-1082-4CE1-9A73-B9430895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6ED7C-1DEC-4FD8-84C7-59B8A234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18036-97D5-424E-BBF2-AE6DD31C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1C6CF-DF65-464E-8FD1-8C09B3DF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4D14F-57DE-4EBF-8F3A-964569A1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17A2B-16C8-4DA3-9844-AD2D44E2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461D1-5055-4F2A-9744-08C6C0F7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252C2-6986-4F16-87C4-8E59DDFB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DD689-A707-415A-B344-6669EC18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5068F-AA9B-4F23-9CA2-BDBB9EE1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EB0-7F69-4AC3-B088-1E65A374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22688-8724-4BD1-9C55-2E50D5B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6EC8E-6818-4DDD-96EF-34801F4F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01615-2924-48BE-A935-78C92781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4D79A-B3E9-4B42-B4EF-625A597B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5486F-45D8-4C8D-A197-4F2C85C7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384-6760-4484-8692-52E18D57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DDB51-ABE5-4CBB-BAEC-9FAF4FAD246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D6646-BFAD-4637-9E75-8F7EBFD3808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79EF1-13A5-4BE9-ACBB-93F5049BA7B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9D1B7-D38D-4EB8-B072-171AB4502F0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51B94-E1C5-4FAB-9B77-0D398B5255A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6423C-4F3A-4001-9BCC-4D4A86626C5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59439-96BB-40DA-9671-D0D9DBF9E8E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DB501-2137-464A-A4D7-496CAEA1A0A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2CAC7-F5B2-40D5-85BD-98C9263FFCE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43030-F9EB-4F2C-91F1-71D37AAF6FE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93A86-34DE-4963-9494-60DA869FB9A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CFABD-5250-438D-A0CC-FF62AB086B8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7E470-B5BF-4049-908E-A6096FB4CC0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4EF0A-68B7-4DFA-8FCD-43B016924F1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ubtitle 2"/>
          <p:cNvSpPr/>
          <p:nvPr/>
        </p:nvSpPr>
        <p:spPr>
          <a:xfrm>
            <a:off x="1981080" y="3935520"/>
            <a:ext cx="5037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100" spc="-1" strike="noStrike">
                <a:solidFill>
                  <a:srgbClr val="00b050"/>
                </a:solidFill>
                <a:latin typeface="Cambria"/>
                <a:ea typeface="MS PGothic"/>
              </a:rPr>
              <a:t>Software Engineering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Date Placeholder 5"/>
          <p:cNvSpPr/>
          <p:nvPr/>
        </p:nvSpPr>
        <p:spPr>
          <a:xfrm>
            <a:off x="4343400" y="6454800"/>
            <a:ext cx="37242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1D560-968F-4939-8ACA-8D1B7AFF9F59}" type="datetime2">
              <a:rPr b="1" lang="en-US" sz="2400" spc="-1" strike="noStrike">
                <a:solidFill>
                  <a:srgbClr val="ff0000"/>
                </a:solidFill>
                <a:latin typeface="Cambria"/>
                <a:ea typeface="MS PGothic"/>
              </a:rPr>
              <a:t>Tuesday, July 28, 2026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2037600" y="1550880"/>
            <a:ext cx="43412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Cambria"/>
                <a:ea typeface="MS PGothic"/>
              </a:rPr>
              <a:t>Software Architectu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7BE65-4FB2-45CB-990D-4DB8CA79A2F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04920" y="160020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ny types of views have been proposed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ost belong to one of these three types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mponent and Connector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llocatio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different views are not unrelated – they all represent the same system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re are relationships between elements of different views; this relation may be complex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D6AA0-3B4B-4AB1-8E04-23CCAC132F6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462BE-ECB9-4A62-8FFB-F637ECD649F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04920" y="1752120"/>
            <a:ext cx="853416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ystem is a collection of code units i.e. they do not represent runtime entiti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elements are modules, e.g. class, package, function, procedure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lationship between them is code based, e.g. part of, depends on, calls, generalization-specialization, ..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4F04E-B731-4444-8C12-EAB35E15440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7E1B4-9A7A-41A4-9514-2DC371AA102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304920" y="126036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Module 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04920" y="2133720"/>
            <a:ext cx="853416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lements are run time entities called compon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a component is a unit that has identity in executing system, e.g. objects, processes, .ex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nectors provide means of interaction between components, e.g. pipes, shared memory, socke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68A7F-FF3E-41AC-9127-8B98E2A1569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51678-E89F-4ED6-8AE5-F7CFACB664E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04920" y="13906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Component and Connector (C &amp; C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2133720"/>
            <a:ext cx="853416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cuses on how software units are allocated to resources like hardware, file system, peop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specifies relationship between software elements and execution units in the environm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xpose structural properties like which process runs on which processor, which file resides where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C5F0F-8E1E-4C78-B6BF-B88E5A9D2D7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66A5E-1826-4FF2-9595-145CDF35DE8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04920" y="126036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Allocation 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04920" y="160020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n architectural description consists of views of different types, each showing a different structur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ifferent systems need different types of views depending on the need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for performance analysis, allocation view is necessary; for planning, module view help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C&amp;C view is almost always done, and has become the primary view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e focus primarily on the C&amp;C view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odule view is covered in high level design, whose focus is on identifying module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B29E0E-B29F-4F7A-94B7-F9F5FA96428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2E746B-64AB-4B75-8B41-801F0FD6201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160020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main elements – components and connecto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s: Computational elements or data stor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nectors: Means of interaction between componen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 &amp; C view defines the components, and which components are connected through which connect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C &amp; C view describes a runtime structure of the system – what components exist at runtime and how they interact during execu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is a graph; often shown as a box-and-line drawing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st commonly used structur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258E8-D332-43AD-9F9B-835193A3D31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1981080" y="7621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E8CBA-5480-44C7-A517-C397D7CA4C5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28600" y="2209320"/>
            <a:ext cx="876312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nits of computations or data stor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s a name, which represents its role and provides it ident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omponent may have a type; different types represented by different symbols in C &amp; C view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s use ports (or interfaces) to communicate with oth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rchitecture can use any symbols to represent components; some common ones are show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77E1D-28EC-49B3-8A8D-6C07D1CE31F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20BD1-9160-44B7-A3BA-DD4DF425BF7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78FAF6-A88E-4CC0-9F2F-314BD0B766B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69629-A86E-4A15-935B-866BA68FBA3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6" name="Picture 5" descr="Fig4-2"/>
          <p:cNvPicPr/>
          <p:nvPr/>
        </p:nvPicPr>
        <p:blipFill>
          <a:blip r:embed="rId1"/>
          <a:stretch/>
        </p:blipFill>
        <p:spPr>
          <a:xfrm>
            <a:off x="3724200" y="1816200"/>
            <a:ext cx="3522600" cy="45403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301680" y="2286000"/>
            <a:ext cx="291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Sample Component 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mponent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28600" y="208404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teraction between components happen through connecto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onnector may be provided by the runtime environment, e.g. procedure ca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t there may be complex mechanisms for interaction, e.g. http, tcp/ip, ports, …; a lot of software needed to support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DD22D-A60E-4126-91CD-99A27AB36DC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522C4-CF4C-4DB7-8365-44621AA4901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2209320"/>
            <a:ext cx="853416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nectors need not be binary, e.g. a broadcast bu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nector has a name (and a type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ten connectors represented as protocol – i.e. components need to follow some conventions when using the connect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est to use different notation for different types of connectors; all connectors should not be shown by simple lin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DFDD1-4DFB-46D9-A409-5E540B7AF44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76C53-F2D1-406B-84D6-593CC6C9404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09480" y="1752120"/>
            <a:ext cx="794088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y complex system is composed of sub-systems that interact each oth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ile designing systems, an approach is used to identify sub-systems and how they interact with each oth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ftware architecture tries to do this for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 recent area with a lot of interest in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5D23D-44B8-43D9-A804-62934F6EBF3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2743200" y="762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15FD4-2B1F-425C-84A8-5F34F905FB3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1E134-105E-4863-84B9-E4C9DB64154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68B2A-DB40-4404-A147-73CBEBAAED4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101520" y="214488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 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5" descr="Fig4-3"/>
          <p:cNvPicPr/>
          <p:nvPr/>
        </p:nvPicPr>
        <p:blipFill>
          <a:blip r:embed="rId1"/>
          <a:stretch/>
        </p:blipFill>
        <p:spPr>
          <a:xfrm>
            <a:off x="3124080" y="2241720"/>
            <a:ext cx="4896000" cy="41148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2087280"/>
            <a:ext cx="8534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sign a system for taking online survey of students on campu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ultiple choice questions can be provided for students to be submitted onlin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en a student submits, current result of the survey is show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best to build using web; a 3-tier architecture is propo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as a client, server, and a database components (each of a different type)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nnector between them are also of different typ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E0C24-A7E2-4966-B960-DAD78FF642D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A8908-A844-4833-A368-58C7D6D7B29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304920" y="15955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1"/>
          <p:cNvSpPr/>
          <p:nvPr/>
        </p:nvSpPr>
        <p:spPr>
          <a:xfrm>
            <a:off x="304920" y="1041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2438280" y="62064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E9DBD-603B-4B52-B42E-6BDD7173B9F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E23C4-3D2A-4A1D-B193-6D490477499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1"/>
          <p:cNvSpPr/>
          <p:nvPr/>
        </p:nvSpPr>
        <p:spPr>
          <a:xfrm>
            <a:off x="272880" y="210024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0" name="Picture 5" descr="Fig4-4"/>
          <p:cNvPicPr/>
          <p:nvPr/>
        </p:nvPicPr>
        <p:blipFill>
          <a:blip r:embed="rId1"/>
          <a:stretch/>
        </p:blipFill>
        <p:spPr>
          <a:xfrm>
            <a:off x="822240" y="3133800"/>
            <a:ext cx="7543800" cy="14475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04920" y="2895480"/>
            <a:ext cx="8534160" cy="34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architecture level, details are not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connectors are explicitly stated, which implies that the infrastructure should provide http, browser,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choice of connectors imposes constraints on how the components are finally designed and bui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B2EDA-3A5C-4F0B-8BD3-02CF3734E3C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42200-2F3E-4BE0-A110-513995E1307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1"/>
          <p:cNvSpPr/>
          <p:nvPr/>
        </p:nvSpPr>
        <p:spPr>
          <a:xfrm>
            <a:off x="272880" y="210024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04920" y="2486160"/>
            <a:ext cx="8534160" cy="39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arch has no security – anyone can take the surve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want that only registered students can take the survey (at most once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identify students and check for one-only submission, we need an authentication serv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need to use cookies, and server has to be built accordingly (the connector between server and authentication server is http with cookie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04865-7144-42F8-982C-41D84D3E513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499B9-E436-45A3-B370-90933203FC8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"/>
          <p:cNvSpPr/>
          <p:nvPr/>
        </p:nvSpPr>
        <p:spPr>
          <a:xfrm>
            <a:off x="304920" y="19620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tension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2C7594-A45A-4B8A-AEBE-1BD5D0346B4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D6BE1-B197-44AC-901A-9E5B171CE7A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Rectangle 1"/>
          <p:cNvSpPr/>
          <p:nvPr/>
        </p:nvSpPr>
        <p:spPr>
          <a:xfrm>
            <a:off x="290520" y="199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tension 1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Picture 5" descr="Fig4-5"/>
          <p:cNvPicPr/>
          <p:nvPr/>
        </p:nvPicPr>
        <p:blipFill>
          <a:blip r:embed="rId1"/>
          <a:stretch/>
        </p:blipFill>
        <p:spPr>
          <a:xfrm>
            <a:off x="762120" y="2701800"/>
            <a:ext cx="7543800" cy="3654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2819160"/>
            <a:ext cx="853416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was found that DB is frequently dow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improving reliability, we want that if DB is down, student is given an older survey result and survey data stor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survey data given can be outdated by at most 5 survey data poi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this, will add a cache component, which will store data as well as resul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AA56C-0BDB-4E45-8B8E-0A6F2666414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5005C-C3B3-4C8D-B989-932D2F45E9F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304920" y="2144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tension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6566C-19B0-43A9-8A02-2434778CE23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1EF84-BDAD-482B-9953-11226D5EFF4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Picture 5" descr="Fig4-6"/>
          <p:cNvPicPr/>
          <p:nvPr/>
        </p:nvPicPr>
        <p:blipFill>
          <a:blip r:embed="rId1"/>
          <a:stretch/>
        </p:blipFill>
        <p:spPr>
          <a:xfrm>
            <a:off x="1266840" y="2220840"/>
            <a:ext cx="6294600" cy="41148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"/>
          <p:cNvSpPr/>
          <p:nvPr/>
        </p:nvSpPr>
        <p:spPr>
          <a:xfrm>
            <a:off x="304920" y="2079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tension 2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04920" y="3352680"/>
            <a:ext cx="8534160" cy="30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first change increased security while the second increased performance and reliabil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architecture level choices have a big impact on system properti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at is why, choosing a suitable architecture can help to build a good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29464-1A2B-411B-BE52-1E7ECEB19E3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43AD4-F395-4356-8F46-8D2C9373207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1"/>
          <p:cNvSpPr/>
          <p:nvPr/>
        </p:nvSpPr>
        <p:spPr>
          <a:xfrm>
            <a:off x="304920" y="26067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ampl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1"/>
          <p:cNvSpPr/>
          <p:nvPr/>
        </p:nvSpPr>
        <p:spPr>
          <a:xfrm>
            <a:off x="304920" y="14986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onnector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1"/>
          <p:cNvSpPr/>
          <p:nvPr/>
        </p:nvSpPr>
        <p:spPr>
          <a:xfrm>
            <a:off x="2133720" y="9144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Component and Connector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304920" y="2079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tension 2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04920" y="2057400"/>
            <a:ext cx="8534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fferent systems have different C &amp; C stru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structures are general and are useful for a class of problems – architectural styl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rchitectural style defines a family of architectures that satisfy the constraint of that sty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yles can provide ideas for creating architecture for a system; they can also be combin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discuss a few common styles nex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A27CC-A3DB-46C1-9C48-8D85262AE49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1"/>
          <p:cNvSpPr/>
          <p:nvPr/>
        </p:nvSpPr>
        <p:spPr>
          <a:xfrm>
            <a:off x="1981080" y="762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5C708-62C8-418D-9571-B3848132A6F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09120" y="1371240"/>
            <a:ext cx="807732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is the system design at the highest leve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hoices about technologies, products to use, servers, etc. are made at architecture leve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must be created accommodating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the earliest place when properties like reliability/ performance can be evalua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B8C61-DF4C-4E59-9FF0-90B6A24DA48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3017880" y="5889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Background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9EFD4-3607-496E-8163-3D2F2180903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04920" y="2057400"/>
            <a:ext cx="8534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ll suited for systems that mainly do data transforma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ystem using this style uses a network of transforms to achieve the desired resu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s one component type – filt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s one connector type – pip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filter does some transformation and passes data to other filters through pip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3C2BF-B595-4823-BA8E-E4AD7C150AC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BB50A-8CE3-4710-BC9B-572E2F0D849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Pipe and Fil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04920" y="2514600"/>
            <a:ext cx="85341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ystem needed to count the frequency of different words in a fi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ne approach: first split the file into a sequence of words, sort them, then count the number of occurrenc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architecture of this system can naturally use the pipe and filter sty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8D5F0-F63F-44CA-9F08-BCB231A13A2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31988-7CD9-48FE-82DB-21890974237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Pipe and Filter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1"/>
          <p:cNvSpPr/>
          <p:nvPr/>
        </p:nvSpPr>
        <p:spPr>
          <a:xfrm>
            <a:off x="304920" y="20667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5805D-6F74-4D6C-B434-20EFD526AA8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B8C3E-E61E-4FDB-BEAA-8890C1CC26F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330120" y="1420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Pipe and Filter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"/>
          <p:cNvSpPr/>
          <p:nvPr/>
        </p:nvSpPr>
        <p:spPr>
          <a:xfrm>
            <a:off x="330120" y="22320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Exampl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0" name="Picture 5" descr="Fig4-7"/>
          <p:cNvPicPr/>
          <p:nvPr/>
        </p:nvPicPr>
        <p:blipFill>
          <a:blip r:embed="rId1"/>
          <a:stretch/>
        </p:blipFill>
        <p:spPr>
          <a:xfrm>
            <a:off x="685800" y="3567240"/>
            <a:ext cx="7772400" cy="1919160"/>
          </a:xfrm>
          <a:prstGeom prst="rect">
            <a:avLst/>
          </a:prstGeom>
          <a:ln w="0">
            <a:noFill/>
          </a:ln>
        </p:spPr>
      </p:pic>
      <p:sp>
        <p:nvSpPr>
          <p:cNvPr id="49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04920" y="2361960"/>
            <a:ext cx="85341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component types – data repository and data access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ata repository – provides reliable permanent storag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ata accessors – access data in repositories, perform computations, and may put the results back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munication between data accessors is only through the repositor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D7D18-63F0-418D-87B8-F876013C7C9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8EF5D-2C8E-4A56-9E9A-8AD8E5C17F0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hared Data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04920" y="2754360"/>
            <a:ext cx="853416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tudent registration system of a univers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pository contains all the data about students, courses, schedules,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ccessors like admin, approvals, registration, reports which perform operations on the dat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12C51-BA4B-4004-BDC0-1F0831CB845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37DFF-7E60-4727-9C38-0EBA295A7C1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hared Data Sty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"/>
          <p:cNvSpPr/>
          <p:nvPr/>
        </p:nvSpPr>
        <p:spPr>
          <a:xfrm>
            <a:off x="331920" y="202104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B0926-F4C4-4C12-9CC5-4343DB60B0E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E5C63-D0B5-4693-9AE2-7D27D2C5A0B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hared Data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9" name="Picture 5" descr="Fig4-8"/>
          <p:cNvPicPr/>
          <p:nvPr/>
        </p:nvPicPr>
        <p:blipFill>
          <a:blip r:embed="rId1"/>
          <a:stretch/>
        </p:blipFill>
        <p:spPr>
          <a:xfrm>
            <a:off x="922320" y="2438280"/>
            <a:ext cx="7299360" cy="4023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"/>
          <p:cNvSpPr/>
          <p:nvPr/>
        </p:nvSpPr>
        <p:spPr>
          <a:xfrm>
            <a:off x="331920" y="202104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Examp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04920" y="2754360"/>
            <a:ext cx="853416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s do not directly communicate with each oth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sy to extend – if a scheduler is needed, it is added as a new access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o existing component needs to be chang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nly one connector style, a read/write, can be used for this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C09BA-8B78-493F-92E3-A7BE9FB5527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59723-6C03-4E77-9FDB-B1CC033B704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Shared Data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1"/>
          <p:cNvSpPr/>
          <p:nvPr/>
        </p:nvSpPr>
        <p:spPr>
          <a:xfrm>
            <a:off x="331920" y="202104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Examp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04920" y="1942920"/>
            <a:ext cx="8534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component types – clients and serve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ients can only communicate with the server, but not with other cli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munication is initiated by a client which sends request and the server respon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ne connector type – request/reply, which is asymmetri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ten the client and the servers reside on different machine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E63A3-92A9-46FF-BEDD-FEFC30D6458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E375F-3B6A-4CFE-9FC5-D351C50059A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lient Server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04920" y="2015640"/>
            <a:ext cx="853416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general form of this style is the n-tier stru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3-tier structure is commonly used by many application and web 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ent-tier contains the client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iddle-tier contains the business rul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atabase tier has the informatio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B54EB-47F1-4826-805E-6742989AE67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Architectural Styles for C&amp;C View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39F4A-9726-4DE1-A725-5F1FF5FF7D6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Rectangle 1"/>
          <p:cNvSpPr/>
          <p:nvPr/>
        </p:nvSpPr>
        <p:spPr>
          <a:xfrm>
            <a:off x="304920" y="1420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  <a:ea typeface="MS PGothic"/>
              </a:rPr>
              <a:t>Client Server Styl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impacts non-functional attributes like modifiability, performance, reliability, portability,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tributes like usability etc. are not impact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plays a much bigger impact on these than later decis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, we should evaluate a proposed arch for these properti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Q: How should this evaluation be done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AM analysis method is one from many different ways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DF084-7D7C-4D7E-8358-DDFF8B98074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1"/>
          <p:cNvSpPr/>
          <p:nvPr/>
        </p:nvSpPr>
        <p:spPr>
          <a:xfrm>
            <a:off x="18288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A61C9-5010-4543-BFD8-89FDC1C1716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finition: software architecture is the structure which comprises of elements, their externally visible properties, and relationships among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tails on how the properties are supported is not important for archite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definition does not say anything about whether an architecture is good or not – analysis needed for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rchitectural description describes the different structures of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545A6-1EF6-42A3-B8B4-BD0470B0857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3462480" y="403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7E6C7-4C82-48FA-86E1-09F85464BBA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alyzes some properties and tradeoffs between them; main step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llect scenario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llect requirements or constrai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scribe architectural view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tribute-specific analys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dentify sensitivity and tradeoff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0B19D-0B89-48DC-9830-36CE4C8A850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1"/>
          <p:cNvSpPr/>
          <p:nvPr/>
        </p:nvSpPr>
        <p:spPr>
          <a:xfrm>
            <a:off x="304920" y="1295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22417-6A5F-4DE5-B05C-A68488D1017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1"/>
          <p:cNvSpPr/>
          <p:nvPr/>
        </p:nvSpPr>
        <p:spPr>
          <a:xfrm>
            <a:off x="2209680" y="63648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15228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llect Scenario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cenarios describe interaction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r analysis we should pick key scenarios of interest for which analysis will be done; important exception scenarios should be includ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llect requirements or constrain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efine what is expected from the system in these scenario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should specify the desired levels for the attributes of interes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21DFA-C9B9-4CED-8426-BEDDFF166C8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157320" y="1015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7AB1B-6593-4FA0-BABC-9D2AFCEA173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5228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scribe architectural view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views of the system that will be evaluated are collected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fferent views may be needed for different types of analyses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ttribute specific analysi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views under diff scenarios are analyzed for diff quality attributes separately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ovides levels that the architecture can provide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ecomes basis of selecting architecture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ny modeling or technique can be used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dentify sensitivities and tradeoff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radeoff analysi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C0096-4768-4E73-95B9-33BF6C75B20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157320" y="1015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2847A-49D7-4BFF-91A9-A731CA9DA64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152280" y="22860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student-survey system, the architecture with the cach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analysis, we add the cache between the database and serv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fferent from having a separate cach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C16A6-C9FC-40F4-A866-C04F2066164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Rectangle 1"/>
          <p:cNvSpPr/>
          <p:nvPr/>
        </p:nvSpPr>
        <p:spPr>
          <a:xfrm>
            <a:off x="380880" y="10731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09A1F7-B976-497D-BB9E-10539E4022E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Rectangle 1"/>
          <p:cNvSpPr/>
          <p:nvPr/>
        </p:nvSpPr>
        <p:spPr>
          <a:xfrm>
            <a:off x="380880" y="16113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1DA00-75FD-4574-8672-93256F82591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Rectangle 1"/>
          <p:cNvSpPr/>
          <p:nvPr/>
        </p:nvSpPr>
        <p:spPr>
          <a:xfrm>
            <a:off x="380880" y="10731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7D189-5A36-4345-98B4-F694B00B281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Rectangle 1"/>
          <p:cNvSpPr/>
          <p:nvPr/>
        </p:nvSpPr>
        <p:spPr>
          <a:xfrm>
            <a:off x="380880" y="16113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Picture 5" descr="Fig4-12"/>
          <p:cNvPicPr/>
          <p:nvPr/>
        </p:nvPicPr>
        <p:blipFill>
          <a:blip r:embed="rId1"/>
          <a:stretch/>
        </p:blipFill>
        <p:spPr>
          <a:xfrm>
            <a:off x="685800" y="2668680"/>
            <a:ext cx="7772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0880" y="22860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1: A student submits the survey form and gets current results (normal scenario; all servers are up, load normal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2: A student tries to take the survey many tim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3: The database server is temporarily dow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4: The network/system is highly load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6ED56-D3F1-4B70-A472-37078FF16BB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1"/>
          <p:cNvSpPr/>
          <p:nvPr/>
        </p:nvSpPr>
        <p:spPr>
          <a:xfrm>
            <a:off x="380880" y="10731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8316D-9AD6-4613-95D4-45C81A5C170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380880" y="16113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- scenarios of inte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228600" y="2098800"/>
            <a:ext cx="86868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urity: a student should be allowed to take the survey at most onc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sponse Time: a student should get a response time of less than 2 sec on an average, 80\% of the tim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vailability: the system should at least have availability of 0.85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ata Currency: the survey result given to a student should not be older than 5 submissions befo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2F51C-AA23-43A7-800C-B4BA998A583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1"/>
          <p:cNvSpPr/>
          <p:nvPr/>
        </p:nvSpPr>
        <p:spPr>
          <a:xfrm>
            <a:off x="380880" y="10731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5254B-ED89-4F71-BC8C-01ADF75C5C1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1"/>
          <p:cNvSpPr/>
          <p:nvPr/>
        </p:nvSpPr>
        <p:spPr>
          <a:xfrm>
            <a:off x="380880" y="1585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- System requirements or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228600" y="2098800"/>
            <a:ext cx="86868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will consider each attribute and study each architecture under scenarios where it is releva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security and data currency – subjective evaluation based on understand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availability and response time – simple model based analysis don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CF935-8B13-4B6C-BC41-C995B224D35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Rectangle 1"/>
          <p:cNvSpPr/>
          <p:nvPr/>
        </p:nvSpPr>
        <p:spPr>
          <a:xfrm>
            <a:off x="380880" y="10731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TAM analysis method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E0A86-9EC2-4D20-8709-7978D3F9159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Rectangle 1"/>
          <p:cNvSpPr/>
          <p:nvPr/>
        </p:nvSpPr>
        <p:spPr>
          <a:xfrm>
            <a:off x="3048120" y="355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Evaluating Architectur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Rectangle 1"/>
          <p:cNvSpPr/>
          <p:nvPr/>
        </p:nvSpPr>
        <p:spPr>
          <a:xfrm>
            <a:off x="380880" y="1585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  <a:ea typeface="MS PGothic"/>
              </a:rPr>
              <a:t>An Example -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0520" y="1447920"/>
            <a:ext cx="8169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of a software system is its structures comprising of elements, their external properties, and relationship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is a high level desig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ree main view types – module, component and connector, and alloc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onent and connector (C&amp;C) view is most commonly us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DE7F4-3D21-41A3-BABA-4B66FE7A9EB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00EAF-EC5E-46CB-90A4-58F259553B4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Rectangle 1"/>
          <p:cNvSpPr/>
          <p:nvPr/>
        </p:nvSpPr>
        <p:spPr>
          <a:xfrm>
            <a:off x="2971800" y="6332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80520" y="1447920"/>
            <a:ext cx="8169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some C&amp;C styles that are commonly used, e.g. pipe-and-filter, shared data, client server,...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rchitectural description should document the different views and their relationship – views can be combin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ationale and other supporting information should also be captur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CAD98-51DC-4BF7-9A81-AC3016E86BC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E3B09-C1FF-40AC-B0CD-21039A4571B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Rectangle 1"/>
          <p:cNvSpPr/>
          <p:nvPr/>
        </p:nvSpPr>
        <p:spPr>
          <a:xfrm>
            <a:off x="2971800" y="6332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Summary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04920" y="1851120"/>
            <a:ext cx="85341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y showing a system at a high level and hiding complexity of parts, architectural description facilitates communic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s to get a common understanding between the different stakeholders (users, clients, architect, designer, …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r negotiation and agree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al description can also aid in understanding of existing systems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0A949-8900-49FC-89E8-CAF19FC0B55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1295280" y="758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Key Uses of Architectural Descri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14B54-7C3C-443D-AD0D-FF2BF594A95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304920" y="126036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Understanding and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0520" y="1447920"/>
            <a:ext cx="8169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rchitecture can be analyzed for various non-functional attributes like performance, reliability, security, etc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AM is one approach for analyzing architectures, which evaluates attributes of interest under different scenario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95C6F4-63B4-47D7-9723-21332176F50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407E8-63AB-4D1C-8948-720212EE903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1"/>
          <p:cNvSpPr/>
          <p:nvPr/>
        </p:nvSpPr>
        <p:spPr>
          <a:xfrm>
            <a:off x="2971800" y="6332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mbria"/>
                <a:ea typeface="MS PGothic"/>
              </a:rPr>
              <a:t>Summary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920" y="1508040"/>
            <a:ext cx="85341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method of reuse is to compose systems from parts and reuse existing par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model is facilitated by reusing components at a high level providing complete servic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reuse existing components, arch must be chosen such that these components fit together with other compon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, decision about using existing components is made at architecture design tim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6B0AD-8681-4943-A760-263BDE5E7AC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213372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Key Uses of Arch Description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E8639-869D-49C6-8147-99CC5D5A049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04920" y="9446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Reu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04560" y="1838160"/>
            <a:ext cx="84582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Some structures in architectural description will be used to guide system development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Partitioning at architectural level can also be used for work allocation to teams as parts are relatively independent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During software evolution, architecture helps to decide what needs to be changed to incorporate the new changes/ feature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Architectural description can help  to decide what is the impact of changes to existing components on other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12F9E-577F-436F-BA39-313C3FC4804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2286000" y="66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Key Uses of Arch Description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8E222-C037-4651-9541-131BD9D84B4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304920" y="126036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Construction and Evolu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1599840"/>
            <a:ext cx="861048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properties like performance, reliability can be determined from design, alternatives can be considered during design to reach the desired performance leve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ftware architecture opens such possibilities for software (other engineering disciplines usually can do this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.g. reliability and performance of a system can be predicted from its architecture, if estimates for parameters like load etc. is provid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CDDAB-B231-445E-B726-04BDDFA8F67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2362320" y="6364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Key Uses of Arch Description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C26F6-B04A-4273-9C34-6E1083E44C0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566640" y="971640"/>
            <a:ext cx="25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Analy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04920" y="1279440"/>
            <a:ext cx="853416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is no unique architecture of a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different views of a softwar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view consists of elements and relationships between them, and describes a stru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elements of a view depends on what the view wants to highligh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fferent views expose different properti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view focusing on some aspects reduces its complexit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A0429-A27D-42B9-8F72-07D1DE6AB08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2209680" y="6951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  <a:ea typeface="MS PGothic"/>
              </a:rPr>
              <a:t>Architectural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BBBCCD-E75B-47A5-A0BD-5B2E9C3D297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04:53:24Z</dcterms:created>
  <dc:creator>Raju</dc:creator>
  <dc:description/>
  <dc:language>en-US</dc:language>
  <cp:lastModifiedBy>user</cp:lastModifiedBy>
  <dcterms:modified xsi:type="dcterms:W3CDTF">2020-04-27T05:59:26Z</dcterms:modified>
  <cp:revision>109</cp:revision>
  <dc:subject/>
  <dc:title>Introduction</dc:title>
</cp:coreProperties>
</file>