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97F-8EE0-40DD-95AC-F3427DE1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2D6-E0FF-434A-9656-EDCCA4B0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572-5AF3-417E-8D3D-6AE91F87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AFE-3BE1-4742-B80D-9C6A4541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1E36-0387-4297-95F7-A10E0DD5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7999-E642-4DE0-8522-8461230A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5B46-5A9A-47B2-A6A4-84D81055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2AD0-A6A1-43C0-938B-2BC07626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70E8-AF20-4F9A-A763-558328E9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D55A-5A1E-4364-9496-30CD50A6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CB4F-A38C-4D45-885A-B404154F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EE2-24E8-4023-A0F5-71E26B17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C508-AAA9-4538-B3F8-68CC86F6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A9B0-46A7-4D32-812C-0D89ECCB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ACE9-F7D9-40F3-AD74-52D69828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2ADF-70CB-42D2-BB1B-20BAF23B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0014-17C5-4966-9A08-BBCC18AF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0B67-15E7-4267-BAE9-D000B4CC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4E984-AC01-4DBB-A88E-28133C00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921DB-02B0-4215-9B3F-0EE314AB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4466-A2B5-4373-9E6E-AF5771D8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31833-1F82-42D7-9929-6051823D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881-F034-469F-989E-FC353CF5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2910-4E87-4A86-87D1-54FD3030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F4CB7-BC60-4B60-AD2E-2F0B9030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E5C4B-F0DF-4C8E-B166-A138B10C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BC48-60FE-47C4-8BB0-6EE64A86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35B1F-6F3C-4DF1-82A2-0E7A96D4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2E463-4E0C-4F24-B15D-4022AE36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3C75B-29B1-418F-B616-76E7AED8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B76B7-961B-47EC-A0CB-F6A075CE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D8087-F4B9-4005-9867-6B9D9AAD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8343F-CEEC-476B-99A0-F778483F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24E-5FE0-4173-9AD7-3047B02D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4A62-5B2B-4639-802E-B36D33E4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C320B-D740-48AA-9EFB-0102FD29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46AB8-3DFD-4D72-B416-2956B80D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6DFB6-4BEC-4F1F-A7DA-F2B1891E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8C53-7B4E-4C78-A6BF-FF83DB8E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96D1-8045-4A82-9E0D-1087CFFF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DDD26-7DBF-45E1-89ED-6D3AF4F4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2F776-5D1D-46A2-B137-73C12A79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52A84-23AB-494B-A60C-18E29BCA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8FF8A-4435-4D83-AE39-80919D76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89D-6957-4EEA-953A-1F083E57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F3988-E273-4D48-8015-E6A7729D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6374A-5FBA-4A0F-9F3F-7E28DC4B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66D69-33EB-4BBC-BEE6-47C332E3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14940-EA94-4A72-AB0A-9E0CF87D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894C9-0B72-46AA-A2D9-B7046464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6C24E-AA46-4090-B5F0-A26994B1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A1E9A-46F9-4ED8-9FC7-C41C6078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922F9-EC23-4BE9-AA5B-A9149769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69349-3AAC-4FB8-B080-60AA7F7A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EBFCC-88A5-4A9D-905B-02C6C9D8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8DA-EA04-445B-86C2-6E464800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0F731-F765-4BC1-AACC-7E41F30C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8BE8B-BFD4-48F1-BF84-ED6C6F73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F3542-2A50-4E20-A8F2-6F508C13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DC256-30C0-4354-9F89-6941DA8A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34471-2628-4EDC-9757-1B208AA2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D89D6-810B-46F7-B2D7-AAAD02F1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1BFFD-55F1-4667-89A6-37F47F5B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D538C-A76F-4D58-8FEC-27195D12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E7870-21CD-4F3D-878C-DA67BD83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67CE3-6160-480A-A42E-B9A1EC15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2D0-038C-4FCD-9AE2-5DF94F50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8F58B-D245-4A56-90A2-553900D1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FE59E-29A7-41E3-90F1-E2E7EAB0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BD5C5-A430-4C9E-A21B-E1E4B433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E9889-6CFF-47D8-9B7A-BCBBB3EA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57475-00D4-46AB-A337-65533ACA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1C66C-E748-461A-863A-7DF99BB3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274F5-AE32-4BA3-960D-97C81C53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9FC17-509F-4E38-8342-8FEBA893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F3556-4D9F-4F71-8224-B8EC65FA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697DA-82F4-4F0A-AD05-EB963B80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853-7136-4316-91FE-FE7DCFCC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7EBA0-1BD9-4AC9-958C-043E3621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31538-A80E-496E-8768-89EA452A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DB6EA-1ED5-4BCD-94B4-608111CD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9682B-C805-42D3-BBE9-D3D57030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7F058-B4B0-4BB0-9751-703E98FC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549-3406-43D4-978F-CAE03655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AD180-3D74-400B-A3EB-0318B1EDED23}" type="datetime2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7DC9A-01CA-4711-906B-7F6663D4BED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C71FC-1007-440D-B4D8-B6500BA4E396}" type="datetime2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FF13F-E526-4934-9D14-69403ECF3FE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349D5-3792-4AC9-89E2-A57D1E0ECB6B}" type="datetime2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B2F33-3D0A-4CDE-A8E1-5C727E5F97C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5B425-0FE8-4FCE-8730-5FFB15BF26BD}" type="datetime2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EFFFF-03B6-4B6A-BA0A-07275DEEBEF2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mbria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mbria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38A34-F584-4958-B412-9DCEE03E1D83}" type="datetime2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4D037-6DA4-49B7-BA10-449ED6E6200F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FBA0C0-8F97-439D-A82B-574D59B1569F}" type="datetime2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5901F-D42B-4E79-B72E-FDB826E6757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4B17B-2034-4402-8C55-0846E8C21B2E}" type="datetime2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B2722-1585-4FA7-991D-B72A8553BE0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ubtitle 2"/>
          <p:cNvSpPr/>
          <p:nvPr/>
        </p:nvSpPr>
        <p:spPr>
          <a:xfrm>
            <a:off x="1981080" y="3935520"/>
            <a:ext cx="50371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100" spc="-1" strike="noStrike">
                <a:solidFill>
                  <a:srgbClr val="00b050"/>
                </a:solidFill>
                <a:latin typeface="Cambria"/>
              </a:rPr>
              <a:t>Software Engineering</a:t>
            </a:r>
            <a:endParaRPr b="0" lang="en-US" sz="2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Date Placeholder 5"/>
          <p:cNvSpPr/>
          <p:nvPr/>
        </p:nvSpPr>
        <p:spPr>
          <a:xfrm>
            <a:off x="4343400" y="6454800"/>
            <a:ext cx="37242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7C590-093A-4DB3-9F53-0FE97803D5E4}" type="datetime2">
              <a:rPr b="1" lang="en-US" sz="2400" spc="-1" strike="noStrike">
                <a:solidFill>
                  <a:srgbClr val="ff0000"/>
                </a:solidFill>
                <a:latin typeface="Cambria"/>
              </a:rPr>
              <a:t>Tuesday, July 28, 2026</a:t>
            </a:fld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1669680" y="1143000"/>
            <a:ext cx="50835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Cambria"/>
              </a:rPr>
              <a:t>Software Requirements 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300" spc="-1" strike="noStrike">
                <a:solidFill>
                  <a:srgbClr val="00b0f0"/>
                </a:solidFill>
                <a:latin typeface="Cambria"/>
              </a:rPr>
              <a:t>Analysis and Specification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374A9-6196-4007-A807-618B467C33C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09480" y="1295280"/>
            <a:ext cx="7940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 process includes sequence of steps that need to be performed to convert user needs into S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requirement process has to elicit needs and requirements and clearly specifies i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asic activiti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oblem or requirement analysi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quirement specific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alysis involves elicitation and is the hardes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AF9DF-7F5A-4E05-90FB-06108BF38A0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Rectangle 1"/>
          <p:cNvSpPr/>
          <p:nvPr/>
        </p:nvSpPr>
        <p:spPr>
          <a:xfrm>
            <a:off x="3168720" y="44460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Requirement Proces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1DE4C-1DC7-4C5A-A3E0-A2DF2244BD1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Oval 4"/>
          <p:cNvSpPr/>
          <p:nvPr/>
        </p:nvSpPr>
        <p:spPr>
          <a:xfrm>
            <a:off x="1905120" y="1523880"/>
            <a:ext cx="15238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3962520" y="2438280"/>
            <a:ext cx="1752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3962520" y="3276720"/>
            <a:ext cx="1752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962520" y="4267080"/>
            <a:ext cx="1752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Line 8"/>
          <p:cNvSpPr/>
          <p:nvPr/>
        </p:nvSpPr>
        <p:spPr>
          <a:xfrm>
            <a:off x="48006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480060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Line 10"/>
          <p:cNvSpPr/>
          <p:nvPr/>
        </p:nvSpPr>
        <p:spPr>
          <a:xfrm>
            <a:off x="4800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Line 11"/>
          <p:cNvSpPr/>
          <p:nvPr/>
        </p:nvSpPr>
        <p:spPr>
          <a:xfrm>
            <a:off x="3429000" y="19810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Line 12"/>
          <p:cNvSpPr/>
          <p:nvPr/>
        </p:nvSpPr>
        <p:spPr>
          <a:xfrm flipH="1">
            <a:off x="3580920" y="3505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Line 13"/>
          <p:cNvSpPr/>
          <p:nvPr/>
        </p:nvSpPr>
        <p:spPr>
          <a:xfrm flipV="1">
            <a:off x="3581280" y="2666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7" name="Line 14"/>
          <p:cNvSpPr/>
          <p:nvPr/>
        </p:nvSpPr>
        <p:spPr>
          <a:xfrm>
            <a:off x="3581280" y="2666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Line 15"/>
          <p:cNvSpPr/>
          <p:nvPr/>
        </p:nvSpPr>
        <p:spPr>
          <a:xfrm>
            <a:off x="5715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Line 16"/>
          <p:cNvSpPr/>
          <p:nvPr/>
        </p:nvSpPr>
        <p:spPr>
          <a:xfrm flipV="1">
            <a:off x="6172200" y="2666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Line 17"/>
          <p:cNvSpPr/>
          <p:nvPr/>
        </p:nvSpPr>
        <p:spPr>
          <a:xfrm flipH="1">
            <a:off x="57150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1" name="Line 18"/>
          <p:cNvSpPr/>
          <p:nvPr/>
        </p:nvSpPr>
        <p:spPr>
          <a:xfrm flipH="1">
            <a:off x="571500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5B4C6-D7F7-42F1-84A3-D7EB89310D6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Rectangle 1"/>
          <p:cNvSpPr/>
          <p:nvPr/>
        </p:nvSpPr>
        <p:spPr>
          <a:xfrm>
            <a:off x="3168720" y="44460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Requirement Proces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8B1DF-52E0-4759-BBD5-2425FE89504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593640" y="1371240"/>
            <a:ext cx="795672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cess is not linear, it is iterative and paralle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may be overlap between phases - some parts may be analyzed and specifi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pecification itself may help analysi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alidation can show gaps that can lead to further analysis and specific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5C300-5348-4CE5-85A1-75926BDC40A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Rectangle 1"/>
          <p:cNvSpPr/>
          <p:nvPr/>
        </p:nvSpPr>
        <p:spPr>
          <a:xfrm>
            <a:off x="3168720" y="44460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Requirement Proces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CBABD-5A97-4B1B-9D27-F799B345DAF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6854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Focus of analysis is on understanding the desired systems and it’s requirement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Divide and conquer is the basic requirement strategy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decompose the general problem into small parts, understand each part and the relation between part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Large volumes of information is generated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organizing them is a key task. 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Techniques like data flow diagrams, object diagrams etc. used in the analysis task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B3160-C6C0-497B-AA19-12704AC445F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Rectangle 1"/>
          <p:cNvSpPr/>
          <p:nvPr/>
        </p:nvSpPr>
        <p:spPr>
          <a:xfrm>
            <a:off x="3168720" y="44460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Requirement Proces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2098A-B214-4C3F-913E-5F1F6E33B9D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858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im: to gain an understanding of the needs, requirements, and constraints on the softwar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nalysis involve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terviewing client and us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ading manual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udying current system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lping client/users understand new possibiliti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ike becoming a consulta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t is necessary to understand the working of the organization, client and user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F5268-F77D-4C94-8D15-D6A4246291F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Rectangle 1"/>
          <p:cNvSpPr/>
          <p:nvPr/>
        </p:nvSpPr>
        <p:spPr>
          <a:xfrm>
            <a:off x="3168720" y="44460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blem Analysis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07A3A-450A-4942-B5E2-F45F37B9F30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609480" y="1092240"/>
            <a:ext cx="794088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me issu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btaining the necessary inform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rainstorming: interacting with clients to establish desired properti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formation organization, as large amount of information gets collect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nsuring completenes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nsuring consistenc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A5349-7F1F-40B8-B706-F7C6960CC9F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168720" y="44460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blem Analysi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9F503-DF01-4C18-B71A-5AD25F11FEE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Communication skills are very important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Basic principle: problem partition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Partition with respect to what?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Object - OO analysis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Function  -  structural analysis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Events in the system – event partitioning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Projection - get different views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C41FDF-D3E2-40D9-B9F5-A3321AB2FA2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Rectangle 1"/>
          <p:cNvSpPr/>
          <p:nvPr/>
        </p:nvSpPr>
        <p:spPr>
          <a:xfrm>
            <a:off x="3168720" y="44460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blem Analysi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42484-5738-4F00-8D1D-A184BE1244B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97000" y="1447920"/>
            <a:ext cx="8550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 defined methodology; information obtained through analysis, observation, interaction, discussions, 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 formal model of the system is buil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obtained information is organized in the SRS which is reviewed with clie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formal approach relies on the analyst’s experience and feedback from clients in review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useful in many contex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956DB-9BED-4E9E-9FF5-63A7B01C800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1752480" y="7462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Informal Approach to Analysi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EE3DD-82A3-4A8B-90A2-E5648952DA3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nambiguou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erifiab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raceab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difiab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anked for importance and/or stabilit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BF316-63C6-428D-9011-07988A90567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haracteristics of an S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FDA0F-8279-4EA3-96A7-E2962E558CF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60912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orrectnes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ach requirement accurately represents some desired feature in the final syste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ompleteness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ll desired features/characteristics specifie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is the hardest characteristic to satisf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ompleteness and correctness are strongly relat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Unambiguous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ach requirement has exactly one meaning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ithout this, errors will creep in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mportant as natural languages often us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998E9-7756-4D3F-83CE-20C8E790F94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3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haracteristics of an SR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3507F-2879-44E4-9033-19FA70E9349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09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Problem of scale is a key issue for software engineering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r small scale, understanding and specifying requirements is easy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r large problem - very hard; probably the  hardest, most problematic and error pron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: user needs in minds of peopl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mbria"/>
              </a:rPr>
              <a:t>Output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: precise statement of what the future system will do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87840-49E9-4E79-9B62-6DB903115F1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2743200" y="762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Background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83FA3-FEB9-4E5E-A1BA-627F6FF4D2D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593640" y="1752120"/>
            <a:ext cx="795672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erifiabilit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re must exist a cost effective way of checking if a software satisfies requirement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wo requirements don’t contradict each other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raceab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origin of the requirement, and how the requirement relates to software elements can be determined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anked for importance/stabilit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eeded for prioritizing in construction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reduce risks due to changing requirement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4E87C-7AB5-4427-9B83-71BF63F2ABB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8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haracteristics of an SR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0F28A-568A-425E-8D43-E09AA480A58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60948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at should an SRS contain ?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arifying this will help to ensure completenes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n SRS must specify requirements on: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esign constrai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xternal interfac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6C511-FE36-402E-A2A7-A70D3457387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omponents of an S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EB0D4-94F4-46F0-A800-58451580626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60948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the heart of the SRS document; this forms the bulk of the specifica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specifies all the functionality that the system should suppor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utputs for the given inputs and the relationship between th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 operations the system will do are functional requireme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must specify behavior for invalid inputs too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0A971-F2D1-4569-8F49-83AE496A7CF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Functional Requiremen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4FA84-C155-4360-85F6-8B2C1B735F2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93640" y="1981080"/>
            <a:ext cx="795672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nclude all the performance constraints on the software syste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enerally on response time, throughput etc. =&gt; dynamic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apacity requirements =&gt; static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ust be in measurable terms (verifiability)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3D338-9609-456B-A946-CF35EDAFE37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erformance Requiremen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9DD00-12BA-44DA-85B6-F5D095C2ECB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593280" y="1904760"/>
            <a:ext cx="80931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actors in the client environment that restrict the choic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me such restriction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ndard compliance and compatibility with other syste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rdware limitation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liability, fault tolerance, backup requireme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1CBE91-A3CD-4AD1-8411-2EB7DAC6B8F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Rectangle 1"/>
          <p:cNvSpPr/>
          <p:nvPr/>
        </p:nvSpPr>
        <p:spPr>
          <a:xfrm>
            <a:off x="1752480" y="83664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gn Constrain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553F4-3089-45E8-9251-DDCC58F398D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 interactions of the software with people, hardware, and other softwa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r interface is the most importa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se should also be verifiab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993D2-E6CC-4B6D-ABD4-48B72671F5C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External Interfac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D5186-9849-4D02-90DE-315F5F6777C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urpose, the basic objective of the syste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cope of what the system is to do, not to do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verall descriptio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duct perspectiv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duct function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r characteristic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ssumption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62A7A-A86E-4345-9533-59CDF6FFC04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tructure of an SRS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13D5F-62E3-4153-83A1-118DEB8860A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685440" y="18288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pecific requiremen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xternal interfac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unctional requirem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erformance requirem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esign constrai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standardization of the SRS was done by IEEE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85434-7DFE-4044-AE82-BE649F3849C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tructure of an SRS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6658B-9320-40AF-BDD0-A5782539621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456840" y="1904760"/>
            <a:ext cx="80931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a traditional approach for function specifications – specify each func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cases is a newer technique for specifying behavior (functionality) i.e. focuses on functional specifications on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ugh primarily for specification, it can be used in analysis and elicit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can be used to specify business or organizational behavior also, though we will focus on software.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ll suited for interactive syste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D7364-54F0-4BD8-B5CE-0B7E9FAD3CC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8" name="Rectangle 1"/>
          <p:cNvSpPr/>
          <p:nvPr/>
        </p:nvSpPr>
        <p:spPr>
          <a:xfrm>
            <a:off x="1752480" y="83664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FAB94-76EE-4FC6-8D02-1388EAFEF9F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use case captures a contract between a user and system about behavio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asically, it is presented in a textual for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so it is useful in requirements elicitation as users like and understand the story telling form and react to it easi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CDD5E-7B5B-4EDC-BA46-B9B76DE6D60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4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Basic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8EF6C-A950-41A3-9CCD-5A5701A4DF8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dentifying and specifying requirement necessarily involves people interac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 analysis cannot be automa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 (IEEE) = a condition or capability that must be possessed by a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 phase ends with a software requirements specification (SRS) docume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RS specifies what the proposed system should do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6B3E5-B96A-4F8E-89B9-1F56ED99CE1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Rectangle 1"/>
          <p:cNvSpPr/>
          <p:nvPr/>
        </p:nvSpPr>
        <p:spPr>
          <a:xfrm>
            <a:off x="2743200" y="762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Background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9F2E0-352A-4156-A9D1-225E4395A76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593280" y="1886040"/>
            <a:ext cx="80931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ctor: a person or a system that interacts with the proposed system to achieve a goa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.g. User of an ATM (goal: get money); data entry operator (goal: Perform transaction)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ctor is a logical entity, so receiver and sender actors are different (even if the same person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imary actor: the main actor who initiates a use cas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Use case is to satisfy his goal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actual execution may be done by a system or another person on behalf of the Primary actor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D8855-2AAA-4731-A359-D35B9FBAE4D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9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0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Basics 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DA346-8500-4ED0-82F3-511C50DD5AB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593640" y="1981080"/>
            <a:ext cx="795672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cenario: a set of actions performed to achieve a goal under some condi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ctions specified as a sequence of step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step is a logically complete action performed either by the actor or the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in success scenario – when things go normally and the goal is achiev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ternate scenarios: when things go wrong and goals cannot be achiev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D0C2E-5681-443A-8AFD-35AEC2B3D98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Basics 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A2779-6750-4FE6-84C5-85616FBBA32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use case is a collection of many such scenario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scenario may employ other use cases in a step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.e. a sub-goal of a use case goal may be performed by another use cas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us, use cases can be organized hierarchical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943E9-32CC-426E-8B30-1AE7005BAB4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2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Basics 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21A4B-26D0-403E-A945-E593E2498F2A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593640" y="1904760"/>
            <a:ext cx="795672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cases specify functionality by describing interactions between actors and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cus on external behavio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cases (UCs)are primarily textua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C diagrams show UCs, actors, and dependenci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y provide an overvie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ory like description is easy to understand by both users and analys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y do not form the complete SRS, only the functionality par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293D5-6DDD-4578-9905-3156495F1C2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Basics 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A0450-8818-477B-B1DA-B570FDF9F46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593640" y="1981080"/>
            <a:ext cx="795672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Case 1: Buy stock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imary Actor: Purchas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oals of Stakeholders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urchaser: wants to buy stock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any: wants full transaction inform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econdition: User already has an accou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A156D-D6D3-42A4-819B-C382A08386E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81717-A5D0-4B96-B5B9-EDC8131B4A3F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593640" y="1486080"/>
            <a:ext cx="795672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in Success Scenario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r selects to buy stock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gets name of web site from user for trading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stablishes connec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r browses and buys stock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intercepts responses from the site and updates user portfolio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shows user new portfolio standing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DF4316-F3BA-4E50-B7D5-80F42F8D053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9" name="Rectangle 1"/>
          <p:cNvSpPr/>
          <p:nvPr/>
        </p:nvSpPr>
        <p:spPr>
          <a:xfrm>
            <a:off x="2583000" y="56340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Rectangle 1"/>
          <p:cNvSpPr/>
          <p:nvPr/>
        </p:nvSpPr>
        <p:spPr>
          <a:xfrm>
            <a:off x="762120" y="9334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E0900-301C-40EC-B7C7-9929DF81256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593640" y="1722240"/>
            <a:ext cx="7956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ternativ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a: System gives error message, asks for new suggestion for site, gives option to canc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a: Web failure. 1-Sys reports failure to user, backs up to previous step. 2-User exits or tries agai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a: Computer crash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b: web site does not acknowledge purchas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5a: web site does not return needed inform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48FB9-4006-499A-A02A-C55E2AEF7F5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5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Rectangle 1"/>
          <p:cNvSpPr/>
          <p:nvPr/>
        </p:nvSpPr>
        <p:spPr>
          <a:xfrm>
            <a:off x="838080" y="119844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E7F5DD-DA7A-45CF-9ECA-F32223469236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Case 2: Buy a produc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imary actor: buyer/custom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oal: purchase some produc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econdition: Customer is already logged i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31A0C-2E54-4A55-BD96-F313F84ACEF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1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2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F5BF9-58BB-491F-AE9C-4B21DB46E70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ain Scenario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ustomer browses and selects item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ustomer goes to checkou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ustomer fills shipping option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presents full pricing inform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ustomer fills credit card inform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authorizes purchas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confirms sal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sends confirming emai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34502-3754-42F8-AA80-125ED35C2F07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7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2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D3A91-8C15-4EA1-8862-72A878D36C8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593640" y="1793880"/>
            <a:ext cx="795672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lternative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6a: Credit card authorization fail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08440" indent="-2214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ows customer to reenter inform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3a: Regular customer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08440" indent="-2214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ystem displays last 4 digits of credit card numb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108440" indent="-2214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sks customer to OK it or change i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108440" indent="-2214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ves to step 6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7A3CBB-D27E-46F6-A014-637C96EBD7D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4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2 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082EA-7020-47CD-B6BE-D935F51DEA4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equirements understanding is hard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isualizing a future system is difficul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apability of the future system will not be clear, hence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need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will not be clea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s change with tim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t is essential to do a proper analysis and specification of requirement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26F2F-67D7-4890-8160-BBEE70B1F93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Rectangle 1"/>
          <p:cNvSpPr/>
          <p:nvPr/>
        </p:nvSpPr>
        <p:spPr>
          <a:xfrm>
            <a:off x="2743200" y="762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Background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66A20-3577-4F36-9E44-97736317A2A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0520" y="1584360"/>
            <a:ext cx="8534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Use Case1: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Put an item for auc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Primary Actor: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Sell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Precondition: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Seller has logged i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Main Success Scenario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ller posts an item (its category, description, picture, etc.) for  auc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ystem shows past prices of similar items to sell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ystem specifies the starting bid price and a date when auction will clos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ystem accepts the item and posts i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Exception Scenarios: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 a) There are no past items of this category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ystem tells the seller this situation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FFB93-7E6D-43E1-BA25-BEE5C5254E8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Rectangle 1"/>
          <p:cNvSpPr/>
          <p:nvPr/>
        </p:nvSpPr>
        <p:spPr>
          <a:xfrm>
            <a:off x="2743200" y="47484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Rectangle 1"/>
          <p:cNvSpPr/>
          <p:nvPr/>
        </p:nvSpPr>
        <p:spPr>
          <a:xfrm>
            <a:off x="914400" y="106056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– An Auction Sit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5C7F5-FEE5-4296-ACD6-349B78786AA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04920" y="186480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Use Case2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Make a bi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Primary Actor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Buy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Precondition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The buyer has logged i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Main Success Scenario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uyer searches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browse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selects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some ite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ystem shows the rating of the seller, the starting bid, the current bids, and the highest bid; asks buyer to make a bi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uyer specifies bid price, max bid price, and incremen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ystems accepts the bid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Blocks funds in bidders accoun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ystem updates the bid price of other bidders where needed, and updates the records for the ite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5535D-2382-41C3-B0F5-150334A02A9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– An Auction Site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16C90-3EA5-4115-9B72-2F83AB1EFFE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0520" y="2193480"/>
            <a:ext cx="816948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Alternative Scenarios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 a) The bid price is lower than the current highes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ystem informs the bidder and asks to rebi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4a) The bidder does not have enough funds in his accoun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ystem cancels the bid, asks the user to get more fund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5849E-2036-4EA5-9258-60983F9499E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1" name="Rectangle 1"/>
          <p:cNvSpPr/>
          <p:nvPr/>
        </p:nvSpPr>
        <p:spPr>
          <a:xfrm>
            <a:off x="2313000" y="67644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2" name="Rectangle 1"/>
          <p:cNvSpPr/>
          <p:nvPr/>
        </p:nvSpPr>
        <p:spPr>
          <a:xfrm>
            <a:off x="914400" y="1305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– An Auction Site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ED204-CBC5-48B6-AE74-E66F3698DF1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049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Use Case3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Complete auction of an ite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Primary Actor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Auction Syste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Precondition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The last date for bidding has been reach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Main Success Scenario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lect highest bidder; send email to selected bidder and seller informing final bid price; send email to other bidders also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Debit bidder’s account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credit seller’s accoun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mbria"/>
              </a:rPr>
              <a:t>Transfer from seller’s account commission amount to organization’s accoun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move item from the site; update record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Exception Scenarios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Non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5ACFC-F140-477B-8C46-A1872C44B7C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 – An Auction Site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4DFCB-6B52-46C0-8912-809CC5954F1D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593640" y="1706400"/>
            <a:ext cx="8321760" cy="47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Use Case 0 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Auction an item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Primary Actor: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Auction system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Scope: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Auction conducting organizatio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Precondition: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Non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Main Success Scenario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eller perform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put an item for auc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arious bidder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make a bi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n final date perfor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complete the auction of the ite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t feed back from seller; get feedback from buyer; update record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8175A-1FD7-4BF1-B357-1C8DD6719BA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Rectangle 1"/>
          <p:cNvSpPr/>
          <p:nvPr/>
        </p:nvSpPr>
        <p:spPr>
          <a:xfrm>
            <a:off x="2392200" y="558720"/>
            <a:ext cx="51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4" name="Rectangle 1"/>
          <p:cNvSpPr/>
          <p:nvPr/>
        </p:nvSpPr>
        <p:spPr>
          <a:xfrm>
            <a:off x="914400" y="11224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Summary – Summary-Level Use Cas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48A1D-1C2B-4665-B49A-75BCEEAD656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0520" y="2193480"/>
            <a:ext cx="816948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cases form a good medium for brainstorming and discuss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ence can be used in elicitation and problem analysis also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cases can be developed in a stepwise refinement mann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ny levels possible, but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naturally emerg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36807-24C7-4FDD-B30C-8AAF823838C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9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0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eveloping Use Case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A27C0-7F30-40AC-8AE2-45715DFB222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593640" y="1981080"/>
            <a:ext cx="7956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Actors and goal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epare an actor-goal lis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vide a brief overview of the use cas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defines the scope of the syste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pleteness can also be evaluat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ain Success Scenario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each use case, expand the main success scenario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will provide the normal behavior of the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can be reviewed to ensure that interests of all stakeholders and actors is me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0D8C7-5DA8-47F0-B5D1-CB39F6A2954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5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6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eveloping Use Cases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16B6E-89DB-4E0C-B021-F5C6C525A23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593640" y="1793520"/>
            <a:ext cx="79567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Failure conditions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List possible failure conditions for use case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For each step, identify how it may fail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This step uncovers special situation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Failure handling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Perhaps the hardest part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Specify system behavior for the failure conditions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lvl="1" marL="664920" indent="-2214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New business rules and actors may emerge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6E143-D5D9-449F-984F-554770E6E86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eveloping Use Cases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CB18B-4A52-4981-86AE-BABC6BBA66A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593640" y="1981080"/>
            <a:ext cx="795672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four levels can drive analysis by starting from top and adding details as analysis proceed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 cases should be specified at a level of detail that is sufficient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r writing, use good technical writing rule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simple gramma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early specify all parts of the use cas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en needed combine steps or split step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36206-202C-4EC2-ABD8-3A84C2D3A7E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7" name="Rectangle 1"/>
          <p:cNvSpPr/>
          <p:nvPr/>
        </p:nvSpPr>
        <p:spPr>
          <a:xfrm>
            <a:off x="2313000" y="64152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Use Cases Approach …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8" name="Rectangle 1"/>
          <p:cNvSpPr/>
          <p:nvPr/>
        </p:nvSpPr>
        <p:spPr>
          <a:xfrm>
            <a:off x="914400" y="1270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eveloping Use Cases …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0B100-22C1-4BE2-94B5-B5A53AD1FA50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04920" y="1282320"/>
            <a:ext cx="85341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It is widely used and focuses on functions performed in the system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Data flow modeling views a system as a network of data transforms through which the data flow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It uses data flow diagrams (DFDs) and functional decomposition in modeling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mbria"/>
              </a:rPr>
              <a:t>The Structured System Analysis and Design (SSAD) methodology uses DFD to organize information, and guide analysis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EE6CB-616C-43DC-B41C-E29FE88F4E5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3" name="Rectangle 1"/>
          <p:cNvSpPr/>
          <p:nvPr/>
        </p:nvSpPr>
        <p:spPr>
          <a:xfrm>
            <a:off x="2971800" y="539640"/>
            <a:ext cx="49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Model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7CA76-61F1-443A-B1D4-D561D7CB515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6094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RS establishes the basis of agreement between the user and the suppli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rs needs have to be satisfied, but user may not understand the softwa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velopers will develop the system, but may not know about the problem domai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RS is the medium to bridge the communication gap and specify user needs in a manner both can understan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3D667-B2BE-49F9-8D65-A2E1D08F41D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3168720" y="444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Need for S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34332-E692-43A3-8EE6-801A48420FA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049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DFD shows flow of data through the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FD views a system as transforming inputs to outpu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ransformation is done through transfor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FD captures how transformation occurs from input to output as data moves through the transfor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FD is not limited to softwa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C0B7F-E5D9-43AF-86FF-CBA44D6BDE0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8" name="Rectangle 1"/>
          <p:cNvSpPr/>
          <p:nvPr/>
        </p:nvSpPr>
        <p:spPr>
          <a:xfrm>
            <a:off x="2438280" y="73836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(DFDs)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18D5E-A1D6-461A-9E8E-07FF5C0D4E2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0520" y="1827000"/>
            <a:ext cx="8169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F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ransforms are represented by named  circles/ bubbl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ubbles are connected by arrows on which named data travel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rectangle represents a source or sink and is originator/consumer of data (often outside the system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FF217-D4F7-4AC1-B18C-3825AC563AB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3" name="Rectangle 1"/>
          <p:cNvSpPr/>
          <p:nvPr/>
        </p:nvSpPr>
        <p:spPr>
          <a:xfrm>
            <a:off x="2438280" y="73836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587CB-1631-410E-AF08-A5BCB755833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5" descr="Fig3-2"/>
          <p:cNvPicPr/>
          <p:nvPr/>
        </p:nvPicPr>
        <p:blipFill>
          <a:blip r:embed="rId1"/>
          <a:stretch/>
        </p:blipFill>
        <p:spPr>
          <a:xfrm>
            <a:off x="762120" y="1679400"/>
            <a:ext cx="7543800" cy="4721400"/>
          </a:xfrm>
          <a:prstGeom prst="rect">
            <a:avLst/>
          </a:prstGeom>
          <a:ln w="0">
            <a:noFill/>
          </a:ln>
        </p:spPr>
      </p:pic>
      <p:sp>
        <p:nvSpPr>
          <p:cNvPr id="58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7E022B-7434-4063-9E40-DA42931D274A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8" name="Rectangle 1"/>
          <p:cNvSpPr/>
          <p:nvPr/>
        </p:nvSpPr>
        <p:spPr>
          <a:xfrm>
            <a:off x="2438280" y="73836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9" name="Rectangle 1"/>
          <p:cNvSpPr/>
          <p:nvPr/>
        </p:nvSpPr>
        <p:spPr>
          <a:xfrm>
            <a:off x="380880" y="11905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0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3DF4C-070F-4504-AD51-7770A0E54828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593640" y="1679400"/>
            <a:ext cx="79567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xternal files are shown as labeled straight lin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need for multiple data flows by a process is represented by * (which means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relationship is represented by +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 processes and arrows should be nam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ocesses should represent transforms, arrows should represent some data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3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A2CDC-0B43-40F2-A26C-A45CA8E09A8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4" name="Rectangle 1"/>
          <p:cNvSpPr/>
          <p:nvPr/>
        </p:nvSpPr>
        <p:spPr>
          <a:xfrm>
            <a:off x="593640" y="10638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FD Conventio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5" name="Rectangle 1"/>
          <p:cNvSpPr/>
          <p:nvPr/>
        </p:nvSpPr>
        <p:spPr>
          <a:xfrm>
            <a:off x="2849400" y="47952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093AC-421D-440F-AC69-EAA43216D34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456840" y="1547280"/>
            <a:ext cx="80010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cus is given on what transforms happen, how they are done is not importa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ually major inputs/outputs are shown, minor are ignored in this model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 loops and conditional thinking will be includ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DFD is NOT a control chart, no algorithmic design/ thinking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83B70-B769-4001-B16A-8A1D6FD382EE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0" name="Rectangle 1"/>
          <p:cNvSpPr/>
          <p:nvPr/>
        </p:nvSpPr>
        <p:spPr>
          <a:xfrm>
            <a:off x="2836800" y="671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F34B2-3D86-4B2F-8E04-B5459BF4AD91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72600" y="2437920"/>
            <a:ext cx="8153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get stuck , reverse direc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control logic comes in, stop and restar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abel each arrow and bubb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ke use of +  &amp;  *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ry drawing alternate DFD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D5490-CA9D-47E1-B67E-14EE1719C39D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5" name="Rectangle 1"/>
          <p:cNvSpPr/>
          <p:nvPr/>
        </p:nvSpPr>
        <p:spPr>
          <a:xfrm>
            <a:off x="2836800" y="671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6" name="Rectangle 1"/>
          <p:cNvSpPr/>
          <p:nvPr/>
        </p:nvSpPr>
        <p:spPr>
          <a:xfrm>
            <a:off x="316080" y="12654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rawing a DFD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0B17D-7F2A-4D1E-9F2B-660076668F9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593640" y="1981080"/>
            <a:ext cx="79567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FD of  a system may be very large which can be organized hierarchicall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rt with a top level DFD with a few bubbles then draw DFD for each bubbl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eserve I/O when “exploding” a bubble so that consistency is preserv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rawing the leveled DFD becomes a top-down refinement process, and allows modeling of large and complex syste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0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CCDD2-314B-4CD4-9DF1-288DE4DBC9B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1" name="Rectangle 1"/>
          <p:cNvSpPr/>
          <p:nvPr/>
        </p:nvSpPr>
        <p:spPr>
          <a:xfrm>
            <a:off x="2836800" y="671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2" name="Rectangle 1"/>
          <p:cNvSpPr/>
          <p:nvPr/>
        </p:nvSpPr>
        <p:spPr>
          <a:xfrm>
            <a:off x="316080" y="12654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Leveled DFD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3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68ADB-FED4-4BD1-AAA0-FF16C607ED9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09480" y="1981080"/>
            <a:ext cx="792504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 a DFD, arrows are labeled with data item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ata dictionary defines data flows in a DF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shows the structure of data; the structure becomes more visible when exploding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 can use regular expressions to express the structure of data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6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0EA84-CE4B-4C09-B2C4-C0FE7FE05C1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7" name="Rectangle 1"/>
          <p:cNvSpPr/>
          <p:nvPr/>
        </p:nvSpPr>
        <p:spPr>
          <a:xfrm>
            <a:off x="2836800" y="671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8" name="Rectangle 1"/>
          <p:cNvSpPr/>
          <p:nvPr/>
        </p:nvSpPr>
        <p:spPr>
          <a:xfrm>
            <a:off x="316080" y="12654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ata Dictionary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DAD8A-A87A-4E34-B069-C122810ED11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593640" y="2193480"/>
            <a:ext cx="824544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the timesheet DF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eekly_timesheet = employee_name + id + [regular_hrs + overtime_hrs]*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ay_rate = [hourly | daily | weekly] + dollar_am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mployee_name = last + first + middl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d = digit + digit + digit + digit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92E58-55EC-4D05-A345-CE10F79BC85C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3" name="Rectangle 1"/>
          <p:cNvSpPr/>
          <p:nvPr/>
        </p:nvSpPr>
        <p:spPr>
          <a:xfrm>
            <a:off x="2836800" y="671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4" name="Rectangle 1"/>
          <p:cNvSpPr/>
          <p:nvPr/>
        </p:nvSpPr>
        <p:spPr>
          <a:xfrm>
            <a:off x="316080" y="12654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ata Dictionary Example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5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6CF6D-C458-4F6F-B9DF-BDD46A0DC35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609480" y="19807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Unlabeled data flow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issing data flow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xtraneous data flow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onsistency not maintained during refinemen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issing processe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oo detailed or too abstrac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ontains some control information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8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6A12E-5C02-4236-8BDC-CD9C6BFD53C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9" name="Rectangle 1"/>
          <p:cNvSpPr/>
          <p:nvPr/>
        </p:nvSpPr>
        <p:spPr>
          <a:xfrm>
            <a:off x="2836800" y="671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ata Flow Diagram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0" name="Rectangle 1"/>
          <p:cNvSpPr/>
          <p:nvPr/>
        </p:nvSpPr>
        <p:spPr>
          <a:xfrm>
            <a:off x="316080" y="1265400"/>
            <a:ext cx="75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Drawing a DFD – Common Error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1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F7289-CD7C-43E5-9521-3D26EB8E7AB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Helps the user to understand his need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rs do not always know their need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ust analyze and understand the potential need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goal is not just to automate a manual system, but also to add value through I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requirement process helps to clarify need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RS provides a reference for validation of the final product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lear understanding about what is expec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alidation - “ software satisfies the SRS. “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86E89-74D2-46B6-9A33-B8D0032B211B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3168720" y="444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Need for SR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96EED-5533-4D68-ABB7-E1EE82E8CD8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593640" y="1752120"/>
            <a:ext cx="795672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tructured system analysis and design (SSAD) –focuses only on analysi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SAD is used a lot when automating existing manual system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ain steps of SSAD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raw a context diagra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raw DFD of the existing system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raw DFD of the proposed system and identify the man-machine bounda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4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B2F56-A1D3-43D1-8C0B-57CFF92A608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5" name="Rectangle 1"/>
          <p:cNvSpPr/>
          <p:nvPr/>
        </p:nvSpPr>
        <p:spPr>
          <a:xfrm>
            <a:off x="2438280" y="6714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tructured Analysis Method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6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60FC9-60CD-4179-95D2-6FC5A08E59D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593640" y="1547640"/>
            <a:ext cx="7956720" cy="26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iews the entire system as a transform and identifies the contex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 is a DFD with one transform (system), with all inputs, outputs, sources, sinks for the system identifi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9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31FE4-C798-4AE5-960F-6C1AF69E4098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0" name="Rectangle 1"/>
          <p:cNvSpPr/>
          <p:nvPr/>
        </p:nvSpPr>
        <p:spPr>
          <a:xfrm>
            <a:off x="2836800" y="6714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ontext Diagrams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1" name="Oval 2"/>
          <p:cNvSpPr/>
          <p:nvPr/>
        </p:nvSpPr>
        <p:spPr>
          <a:xfrm>
            <a:off x="3581280" y="4648320"/>
            <a:ext cx="1295640" cy="1218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27c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2" name="TextBox 3"/>
          <p:cNvSpPr/>
          <p:nvPr/>
        </p:nvSpPr>
        <p:spPr>
          <a:xfrm>
            <a:off x="3809880" y="5105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2303640" y="3927600"/>
            <a:ext cx="1066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127c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Rectangle 9"/>
          <p:cNvSpPr/>
          <p:nvPr/>
        </p:nvSpPr>
        <p:spPr>
          <a:xfrm>
            <a:off x="5878440" y="3984480"/>
            <a:ext cx="106704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127c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5" name="Rectangle 10"/>
          <p:cNvSpPr/>
          <p:nvPr/>
        </p:nvSpPr>
        <p:spPr>
          <a:xfrm>
            <a:off x="5427720" y="5448240"/>
            <a:ext cx="106668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127c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6" name="Rectangle 11"/>
          <p:cNvSpPr/>
          <p:nvPr/>
        </p:nvSpPr>
        <p:spPr>
          <a:xfrm>
            <a:off x="1866960" y="5295960"/>
            <a:ext cx="1066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127c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7" name="TextBox 12"/>
          <p:cNvSpPr/>
          <p:nvPr/>
        </p:nvSpPr>
        <p:spPr>
          <a:xfrm>
            <a:off x="5472000" y="5502240"/>
            <a:ext cx="10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External Entit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5932440" y="4156200"/>
            <a:ext cx="10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External Entit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9" name="TextBox 14"/>
          <p:cNvSpPr/>
          <p:nvPr/>
        </p:nvSpPr>
        <p:spPr>
          <a:xfrm>
            <a:off x="2341440" y="40435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External Entit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0" name="TextBox 15"/>
          <p:cNvSpPr/>
          <p:nvPr/>
        </p:nvSpPr>
        <p:spPr>
          <a:xfrm>
            <a:off x="1866960" y="5367240"/>
            <a:ext cx="10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External Entit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651" name="Straight Arrow Connector 8"/>
          <p:cNvCxnSpPr>
            <a:stCxn id="649" idx="3"/>
            <a:endCxn id="641" idx="1"/>
          </p:cNvCxnSpPr>
          <p:nvPr/>
        </p:nvCxnSpPr>
        <p:spPr>
          <a:xfrm>
            <a:off x="3424320" y="4365360"/>
            <a:ext cx="348480" cy="461160"/>
          </a:xfrm>
          <a:prstGeom prst="straightConnector1">
            <a:avLst/>
          </a:prstGeom>
          <a:ln w="9360">
            <a:solidFill>
              <a:srgbClr val="e5224e"/>
            </a:solidFill>
            <a:miter/>
            <a:tailEnd len="med" type="triangle" w="med"/>
          </a:ln>
        </p:spPr>
      </p:cxnSp>
      <p:cxnSp>
        <p:nvCxnSpPr>
          <p:cNvPr id="652" name="Straight Arrow Connector 19"/>
          <p:cNvCxnSpPr>
            <a:stCxn id="650" idx="3"/>
            <a:endCxn id="641" idx="2"/>
          </p:cNvCxnSpPr>
          <p:nvPr/>
        </p:nvCxnSpPr>
        <p:spPr>
          <a:xfrm flipV="1">
            <a:off x="2906640" y="5257440"/>
            <a:ext cx="675360" cy="434160"/>
          </a:xfrm>
          <a:prstGeom prst="straightConnector1">
            <a:avLst/>
          </a:prstGeom>
          <a:ln w="9360">
            <a:solidFill>
              <a:srgbClr val="e5224e"/>
            </a:solidFill>
            <a:miter/>
            <a:tailEnd len="med" type="triangle" w="med"/>
          </a:ln>
        </p:spPr>
      </p:cxnSp>
      <p:cxnSp>
        <p:nvCxnSpPr>
          <p:cNvPr id="653" name="Straight Arrow Connector 22"/>
          <p:cNvCxnSpPr/>
          <p:nvPr/>
        </p:nvCxnSpPr>
        <p:spPr>
          <a:xfrm flipV="1">
            <a:off x="4773240" y="4479480"/>
            <a:ext cx="1135800" cy="434160"/>
          </a:xfrm>
          <a:prstGeom prst="straightConnector1">
            <a:avLst/>
          </a:prstGeom>
          <a:ln w="9360">
            <a:solidFill>
              <a:srgbClr val="e5224e"/>
            </a:solidFill>
            <a:miter/>
            <a:tailEnd len="med" type="triangle" w="med"/>
          </a:ln>
        </p:spPr>
      </p:cxnSp>
      <p:cxnSp>
        <p:nvCxnSpPr>
          <p:cNvPr id="654" name="Straight Arrow Connector 24"/>
          <p:cNvCxnSpPr>
            <a:stCxn id="641" idx="5"/>
            <a:endCxn id="645" idx="1"/>
          </p:cNvCxnSpPr>
          <p:nvPr/>
        </p:nvCxnSpPr>
        <p:spPr>
          <a:xfrm>
            <a:off x="4686120" y="5689440"/>
            <a:ext cx="741960" cy="178200"/>
          </a:xfrm>
          <a:prstGeom prst="straightConnector1">
            <a:avLst/>
          </a:prstGeom>
          <a:ln w="9360">
            <a:solidFill>
              <a:srgbClr val="e5224e"/>
            </a:solidFill>
            <a:miter/>
            <a:tailEnd len="med" type="triangle" w="med"/>
          </a:ln>
        </p:spPr>
      </p:cxnSp>
      <p:cxnSp>
        <p:nvCxnSpPr>
          <p:cNvPr id="655" name="Straight Arrow Connector 27"/>
          <p:cNvCxnSpPr>
            <a:endCxn id="641" idx="7"/>
          </p:cNvCxnSpPr>
          <p:nvPr/>
        </p:nvCxnSpPr>
        <p:spPr>
          <a:xfrm flipH="1">
            <a:off x="4685760" y="4362480"/>
            <a:ext cx="1168920" cy="464400"/>
          </a:xfrm>
          <a:prstGeom prst="straightConnector1">
            <a:avLst/>
          </a:prstGeom>
          <a:ln w="9360">
            <a:solidFill>
              <a:srgbClr val="e5224e"/>
            </a:solidFill>
            <a:miter/>
            <a:tailEnd len="med" type="triangle" w="med"/>
          </a:ln>
        </p:spPr>
      </p:cxnSp>
      <p:cxnSp>
        <p:nvCxnSpPr>
          <p:cNvPr id="656" name="Straight Arrow Connector 32"/>
          <p:cNvCxnSpPr/>
          <p:nvPr/>
        </p:nvCxnSpPr>
        <p:spPr>
          <a:xfrm flipH="1" flipV="1">
            <a:off x="4800240" y="5532120"/>
            <a:ext cx="627840" cy="157680"/>
          </a:xfrm>
          <a:prstGeom prst="straightConnector1">
            <a:avLst/>
          </a:prstGeom>
          <a:ln w="9360">
            <a:solidFill>
              <a:srgbClr val="e5224e"/>
            </a:solidFill>
            <a:miter/>
            <a:tailEnd len="med" type="triangle" w="med"/>
          </a:ln>
        </p:spPr>
      </p:cxnSp>
      <p:cxnSp>
        <p:nvCxnSpPr>
          <p:cNvPr id="657" name="Straight Arrow Connector 36"/>
          <p:cNvCxnSpPr/>
          <p:nvPr/>
        </p:nvCxnSpPr>
        <p:spPr>
          <a:xfrm flipH="1" flipV="1">
            <a:off x="3369960" y="4647960"/>
            <a:ext cx="281520" cy="373680"/>
          </a:xfrm>
          <a:prstGeom prst="straightConnector1">
            <a:avLst/>
          </a:prstGeom>
          <a:ln w="9360">
            <a:solidFill>
              <a:srgbClr val="e5224e"/>
            </a:solidFill>
            <a:miter/>
            <a:tailEnd len="med" type="triangle" w="med"/>
          </a:ln>
        </p:spPr>
      </p:cxnSp>
      <p:cxnSp>
        <p:nvCxnSpPr>
          <p:cNvPr id="658" name="Straight Arrow Connector 41"/>
          <p:cNvCxnSpPr/>
          <p:nvPr/>
        </p:nvCxnSpPr>
        <p:spPr>
          <a:xfrm flipH="1">
            <a:off x="2944080" y="5486040"/>
            <a:ext cx="607320" cy="367560"/>
          </a:xfrm>
          <a:prstGeom prst="straightConnector1">
            <a:avLst/>
          </a:prstGeom>
          <a:ln w="9360">
            <a:solidFill>
              <a:srgbClr val="e5224e"/>
            </a:solidFill>
            <a:miter/>
            <a:tailEnd len="med" type="triangle" w="med"/>
          </a:ln>
        </p:spPr>
      </p:cxnSp>
      <p:sp>
        <p:nvSpPr>
          <p:cNvPr id="659" name="Footer Placeholder 3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0" name="Slide Number Placeholder 7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25633-9C18-4333-AE7F-D85BB8C4264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5" descr="Fig3-4"/>
          <p:cNvPicPr/>
          <p:nvPr/>
        </p:nvPicPr>
        <p:blipFill>
          <a:blip r:embed="rId1"/>
          <a:stretch/>
        </p:blipFill>
        <p:spPr>
          <a:xfrm>
            <a:off x="1295280" y="1547640"/>
            <a:ext cx="6553440" cy="4776840"/>
          </a:xfrm>
          <a:prstGeom prst="rect">
            <a:avLst/>
          </a:prstGeom>
          <a:ln w="0">
            <a:noFill/>
          </a:ln>
        </p:spPr>
      </p:pic>
      <p:sp>
        <p:nvSpPr>
          <p:cNvPr id="66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E6B89-5B80-420C-9B07-B0E4B45C8716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2286000" y="6714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Example – Context Diagra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8F931-1A2B-4C33-AB1E-C9C64B1223EB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593280" y="1371240"/>
            <a:ext cx="80931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current system is modeled as a DFD to understand its working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context diagram is refin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ach bubble represents a logical transformation of some data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eveled DFD may be us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enerally, it can be obtained after understanding and interacting with user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Validate the DFD by walking through it with user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11A41-5549-4DDF-9C25-11B020D9A36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8" name="Rectangle 1"/>
          <p:cNvSpPr/>
          <p:nvPr/>
        </p:nvSpPr>
        <p:spPr>
          <a:xfrm>
            <a:off x="2836800" y="671400"/>
            <a:ext cx="52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FD of the Curr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CAC98-A7DF-49D9-80FB-DC9ABCABE46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5" descr="Fig3-5"/>
          <p:cNvPicPr/>
          <p:nvPr/>
        </p:nvPicPr>
        <p:blipFill>
          <a:blip r:embed="rId1"/>
          <a:stretch/>
        </p:blipFill>
        <p:spPr>
          <a:xfrm>
            <a:off x="762120" y="1676520"/>
            <a:ext cx="7772400" cy="4952880"/>
          </a:xfrm>
          <a:prstGeom prst="rect">
            <a:avLst/>
          </a:prstGeom>
          <a:ln w="0">
            <a:noFill/>
          </a:ln>
        </p:spPr>
      </p:pic>
      <p:sp>
        <p:nvSpPr>
          <p:cNvPr id="67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5885F-36D1-4CDE-BE38-65D60E6598E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3" name="Rectangle 1"/>
          <p:cNvSpPr/>
          <p:nvPr/>
        </p:nvSpPr>
        <p:spPr>
          <a:xfrm>
            <a:off x="1143000" y="9190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Example – DFD of Existing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BD2BA-7615-4EC6-9D5F-7F19DAFE1BE7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457200" y="16588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re are no general rules for drawing the DFD of the future sys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FD should model the entire proposed system - process may be automated or manual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alidate with the us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n establish man-machine boundary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at processes will be automated and which remains manua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how clearly the interaction between automated and manual proces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3A7CF-28AD-44F9-AA42-8C4AEAB115A9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8" name="Rectangle 1"/>
          <p:cNvSpPr/>
          <p:nvPr/>
        </p:nvSpPr>
        <p:spPr>
          <a:xfrm>
            <a:off x="2124000" y="7272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Modeling the Proposed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CA5D9-3A58-437A-8C9A-66FD6B2C892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5" descr="Fig3-6"/>
          <p:cNvPicPr/>
          <p:nvPr/>
        </p:nvPicPr>
        <p:blipFill>
          <a:blip r:embed="rId1"/>
          <a:stretch/>
        </p:blipFill>
        <p:spPr>
          <a:xfrm>
            <a:off x="380880" y="106668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68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3733F-0AED-4379-83C9-3C8EA11DE9C0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3" name="Rectangle 1"/>
          <p:cNvSpPr/>
          <p:nvPr/>
        </p:nvSpPr>
        <p:spPr>
          <a:xfrm>
            <a:off x="1828800" y="641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Example – DFD of Proposed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F6EB2-BE7C-4EED-A40D-92568EFE6E8E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568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inal output of requirements task is the S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y are DFDs, OO models, etc. are not SRS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RS focuses on external behavior, while modeling focuses on problem structu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r interface is not modeled, but have to be in S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rror handling, constraints etc. are also needed in S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ransition from analysis to specification is not straight forwar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Knowledge about the system acquired in analysis is used in specific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D73B6-943D-4CD4-AB88-CD7040F4EB8F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8" name="Rectangle 1"/>
          <p:cNvSpPr/>
          <p:nvPr/>
        </p:nvSpPr>
        <p:spPr>
          <a:xfrm>
            <a:off x="1143000" y="9190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Requirements Specificatio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7F9AD-CA61-474F-8304-53D4DA48919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80520" y="16761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Requirement validation is important because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ere is a lot of room for misunderstanding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errors possible in requirement analysis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t is expensive to fix requirement defects later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ust try to remove most errors in the SR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ost common error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mission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 3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consistenc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 10-3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correct fact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 10-3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7176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mbiguit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 5 -2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5986D-1282-4984-A715-8BDF44DAD3E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3" name="Rectangle 1"/>
          <p:cNvSpPr/>
          <p:nvPr/>
        </p:nvSpPr>
        <p:spPr>
          <a:xfrm>
            <a:off x="1143000" y="9190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Requirements Validation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781AC-2E16-4906-9E58-A05F30BF4E5C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7621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RS is reviewed by a group of people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8080" indent="-2192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 group includes author, client, user, development team representative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review process is a standard inspection proces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19240" indent="-2192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ffectiveness: can catch 40-80% of requirement errors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06B64-5473-4066-AD04-71DC3E3C2A21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8" name="Rectangle 1"/>
          <p:cNvSpPr/>
          <p:nvPr/>
        </p:nvSpPr>
        <p:spPr>
          <a:xfrm>
            <a:off x="1143000" y="9190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Requirements Review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D070A-E990-4FB0-8422-96C211302703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609480" y="2133720"/>
            <a:ext cx="784872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igh quality SRS is essential for high quality softwa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 errors get manifested in the final softwa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satisfy the quality objective, we must begin with high quality S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s defects are not few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9EEC1-3C38-45C6-B612-B864AB502CD2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3168720" y="444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Need for SRS .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32F48-CC94-4182-AB75-7C4A33297AD2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609480" y="133020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aving a good quality SRS is essential for a better quality &amp; productivity softwar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requirement phase has 3 major sub phas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alysis, specification and valid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d or problem understanding and modeling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ethods used: SSAD,  OOA, Prototyping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Key properties of an SRS: correctness, completeness, consistency, traceability, unambiguousnes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12D8E-F522-4EAD-BD3D-6B4A1561EA94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3" name="Rectangle 1"/>
          <p:cNvSpPr/>
          <p:nvPr/>
        </p:nvSpPr>
        <p:spPr>
          <a:xfrm>
            <a:off x="2571840" y="563400"/>
            <a:ext cx="58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ummary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A15DA-9638-4154-BBDA-AD05D558BA9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593640" y="1523880"/>
            <a:ext cx="795672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ust contain functionality, performance, external interfaces and design constrain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Use case is a method to specify the functionality which is also useful for analysi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alidation – is done through review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18253-D238-48F7-A21B-4BD4AB7A084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8" name="Rectangle 1"/>
          <p:cNvSpPr/>
          <p:nvPr/>
        </p:nvSpPr>
        <p:spPr>
          <a:xfrm>
            <a:off x="2571840" y="563400"/>
            <a:ext cx="58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ummary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DE5A7-BD02-4D62-99CB-7182823D04C4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533160" y="121896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ood SRS reduces the development cos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RS errors are expensive to fix later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quirement changes can cost a lot (up to 40%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ood SRS can minimize changes and error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ubstantial savings; extra effort spent during requirement saves multiple times that effort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n Exampl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ost of fixing errors in requirement, design, coding, acceptance testing and operation are 2, 5, 15, 50, 150 person-month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7600F-F4EA-4101-A226-17E63610B825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168720" y="444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Need for SR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4697C-3C27-4595-9761-43BD9CE0DD75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533160" y="1523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xample …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fter requirement phase 65% req errs detected in design , 2% in coding, 30% in acceptance testing, 3% during oper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50 requirement errors are not removed in the req. phase, the total cost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US" sz="2400" spc="-1" strike="noStrike">
                <a:solidFill>
                  <a:srgbClr val="0070c0"/>
                </a:solidFill>
                <a:latin typeface="Cambria"/>
              </a:rPr>
              <a:t>32.5 *5 + 1*15 + 15*50 + 1.5*150 = 1152 h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f 100 person-hours invested additionally in requirement to catch these 50 defects, then development cost could be reduced by 1152 person-hou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et reduction in cost is 1052 person-hour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7" name="Date Placeholder 1"/>
          <p:cNvSpPr/>
          <p:nvPr/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17DAC-48BA-4D5C-BB8E-D483161EED93}" type="datetime2">
              <a:rPr b="0" lang="en-US" sz="1000" spc="-1" strike="noStrike">
                <a:solidFill>
                  <a:srgbClr val="898989"/>
                </a:solidFill>
                <a:latin typeface="Cambria"/>
              </a:rPr>
              <a:t>Tuesday, July 28, 2026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3168720" y="444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Need for SRS …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Footer Placeholder 2"/>
          <p:cNvSpPr/>
          <p:nvPr/>
        </p:nvSpPr>
        <p:spPr>
          <a:xfrm>
            <a:off x="59364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Cambria"/>
              </a:rPr>
              <a:t>Software Engineering, Debre Markos University</a:t>
            </a: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72160" y="380880"/>
            <a:ext cx="19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DD25B-6718-4727-A70E-A15617EE0139}" type="slidenum">
              <a:rPr b="0" lang="en-US" sz="10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04:19:19Z</dcterms:created>
  <dc:creator>Raju</dc:creator>
  <dc:description/>
  <dc:language>en-US</dc:language>
  <cp:lastModifiedBy>user</cp:lastModifiedBy>
  <dcterms:modified xsi:type="dcterms:W3CDTF">2020-04-27T05:57:49Z</dcterms:modified>
  <cp:revision>108</cp:revision>
  <dc:subject/>
  <dc:title>Process and Process Models</dc:title>
</cp:coreProperties>
</file>