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062-8572-4545-8D0A-1B6D5121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CB13-F218-4918-85CE-8EC575E5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5D7-2919-4622-8F7D-B2DEA7A2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517-6575-406C-B866-2974C9BA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19A-3C58-40CA-AC5A-9F71D2E1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0DF-35C4-4F36-941F-EB577EB5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89B-3B52-4224-90D5-C59E38B6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BF4-6853-4315-83AF-12FBF80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626-09A9-4FD2-8A4B-96CE6231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E2E-57B5-423D-93BA-FAA7A73B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8EA-0B38-4F4D-A41F-5560F03F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00B-AA44-4BDD-AA27-55A356E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799-B4E9-4C06-8C1E-6CBB34B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A20-C1D5-4B8B-8BFD-E48D2E26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EC8A-BA6F-4995-9719-CC6DCF1A2A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anced Computing, M.Tech 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307C-EB67-4219-86C6-0069F343A8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624880" cy="570060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50D-6E07-4384-B419-09856776A8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a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as a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 model in which an organization outsources the equipment used to support operations, including storage, hardware, servers and networking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 provider owns the equipment and is responsible for housing, running and maintain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ent typically pays on a per-us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C12B-87B2-4432-AAE4-B41186437A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C87F-8ACF-4062-94EE-A55C6EE34D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840-BD89-4462-9A4C-4C878C6AAD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A080-79A4-45D1-BD2D-C86DCB6755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4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-based computing, where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vided to computers and other devices on demand, like the electricity gr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 to anything that involves delivering hosted services over the internet and encompasses any subscription-based or pay-by-use service that, in real time, extends IT’s exist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A8FA-407A-41CF-9CFD-2339DFD6F6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lou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-scal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data c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models of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y-interactive Web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EB4E-7B07-4BAF-A225-35F5C3C745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gments of Cloud Compu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has three main segments which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(S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(P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(I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gment serves different products for businesses and individuals with different purp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894-FCAB-4BDE-9394-B0E5FDA50D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(Sa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sed on, demand software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software services come in different varieties. They vary in their pricing scheme and how the software is delivered to the end u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force.com (CRM), Google (GOOG) and NetSuite (N) are some of the companies which provide on demand software or Saa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79F7-DDC9-4BCB-9A40-7331ED2A30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form Segment (Pa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products that are used to deploy inter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Suite, Amazon, Google, and Microsoft have also developed platforms that allow users to access applications from centralized ser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, Net Suite, Rackspace cloud, amazon.com and salesforce are some of the active plat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58C-0065-4DC9-91AE-B887AC333C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S cont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ely data-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so be processing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wling, indexing, searching, mining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genomics” life scienc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ientific data (physics, astronom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2.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CBB3-53E0-4C86-9883-4F15D59BBE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90FE-D705-4C9B-A8FE-AB1CAB71AA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segment :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S, the backbone of the entire conc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vendors’ environments such as Google gears allow users to build ap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storage, such as Amazon’s S3, is also considered to be part of the infrastructure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9AD6-8828-4BD7-98BB-60761E01DE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D9D2-2EA1-4186-A627-F9CAC763E1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coloandcloud.com/wp-content/uploads/2012/05/PaaS-Chart.gif"/>
          <p:cNvPicPr/>
          <p:nvPr/>
        </p:nvPicPr>
        <p:blipFill>
          <a:blip r:embed="rId1"/>
          <a:stretch/>
        </p:blipFill>
        <p:spPr>
          <a:xfrm>
            <a:off x="357120" y="285840"/>
            <a:ext cx="7934400" cy="595296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577E-87C8-439A-A0CB-0DF3A22CE7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4-27T23:24:24Z</dcterms:modified>
  <cp:revision>744</cp:revision>
  <dc:subject/>
  <dc:title>Diapositiva 1</dc:title>
</cp:coreProperties>
</file>