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3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  <p:sldId id="324" r:id="rId86"/>
    <p:sldId id="325" r:id="rId87"/>
    <p:sldId id="326" r:id="rId88"/>
    <p:sldId id="327" r:id="rId89"/>
    <p:sldId id="328" r:id="rId90"/>
    <p:sldId id="329" r:id="rId91"/>
    <p:sldId id="330" r:id="rId92"/>
    <p:sldId id="331" r:id="rId93"/>
    <p:sldId id="332" r:id="rId94"/>
    <p:sldId id="333" r:id="rId95"/>
    <p:sldId id="334" r:id="rId96"/>
    <p:sldId id="335" r:id="rId97"/>
    <p:sldId id="336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slide" Target="slides/slide69.xml"/><Relationship Id="rId87" Type="http://schemas.openxmlformats.org/officeDocument/2006/relationships/slide" Target="slides/slide70.xml"/><Relationship Id="rId88" Type="http://schemas.openxmlformats.org/officeDocument/2006/relationships/slide" Target="slides/slide71.xml"/><Relationship Id="rId89" Type="http://schemas.openxmlformats.org/officeDocument/2006/relationships/slide" Target="slides/slide72.xml"/><Relationship Id="rId90" Type="http://schemas.openxmlformats.org/officeDocument/2006/relationships/slide" Target="slides/slide73.xml"/><Relationship Id="rId91" Type="http://schemas.openxmlformats.org/officeDocument/2006/relationships/slide" Target="slides/slide74.xml"/><Relationship Id="rId92" Type="http://schemas.openxmlformats.org/officeDocument/2006/relationships/slide" Target="slides/slide75.xml"/><Relationship Id="rId93" Type="http://schemas.openxmlformats.org/officeDocument/2006/relationships/slide" Target="slides/slide76.xml"/><Relationship Id="rId94" Type="http://schemas.openxmlformats.org/officeDocument/2006/relationships/slide" Target="slides/slide77.xml"/><Relationship Id="rId95" Type="http://schemas.openxmlformats.org/officeDocument/2006/relationships/slide" Target="slides/slide78.xml"/><Relationship Id="rId96" Type="http://schemas.openxmlformats.org/officeDocument/2006/relationships/slide" Target="slides/slide79.xml"/><Relationship Id="rId97" Type="http://schemas.openxmlformats.org/officeDocument/2006/relationships/slide" Target="slides/slide80.xml"/><Relationship Id="rId98" Type="http://schemas.openxmlformats.org/officeDocument/2006/relationships/slide" Target="slides/slide81.xml"/><Relationship Id="rId9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4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ftr" idx="4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 type="sldNum" idx="4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C8AB-59C4-41F3-AEA1-30D01FEE8D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B7932-8C08-441E-A002-D161E3CD4C6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Header Placeholder 4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ro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issue will contain an internal quality control, but appendix, fallopian tube, uterus or small intestine  may be us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2A12-4B20-4C34-B30B-2FD0D0D8C2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01E75-61EA-4E3D-9EB1-14FBBB7D62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88D71-E74A-46B5-BCC5-32FDD0BCC8E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0DE75-6E6E-4518-8129-EE2A08D9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04404-3630-46A0-AD6B-3E820019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3434A2-0982-47AB-B5EE-7835512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72D011-6E3D-46DD-B603-E1C6E522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D911D1-2F63-4B76-8A74-D1DB33CD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C11A9F-C1C8-43C1-BAEC-252E8F68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6AB3BE5-DB45-4B0D-BDCE-5D38D48D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ABFD7-427C-4E30-8FD1-9A0FCD7E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D83A93-4F12-4DAF-B0C0-63EA3996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59E947-414D-4AF9-8698-037874747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D372B3-073B-4028-BAB9-ED247F706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CB0C04-628C-44DE-A782-7A5BE230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8AFEA-8E4F-48A2-9BF1-82CCB738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2DC9D0-1C4E-4820-8D70-10C3AC427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2C785E-3447-4405-B124-C47200D70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44C661-CB56-4443-8778-4B30BAD7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6DF669-8EFB-4272-999E-F83DB4073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668749-30B8-475B-933D-20E2F6D4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1E18C0-D56F-4255-831A-CCDBCCEA8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49FBA3B-0B66-42CC-BD0A-21590AFA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E624F8-F9D6-4EB0-9B63-CEE6338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45EB84E-D7A7-41D2-85DF-6B71038F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267658-1199-40C9-97B0-83FA5E970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CA1AE-5EB1-4017-967E-2F569FC08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4FECC4-37E2-4828-9779-5C232D16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0575FF8-A55A-4717-AF3F-6A8770A6D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A2A4FDB-AFF8-4A4A-907C-44C45CEF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171B0D-6C7E-4DAB-8C0A-EFD7B1022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4B63D52-6A99-4EED-9E34-BD6C525B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613F78D-FD17-4B21-9037-07ECC605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CA085D9-005B-43F1-9732-3E4E1E98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96573FF-AA01-4428-A05A-0274B441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06B0214-94BC-4F8F-9CF9-04992E3F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81652C6-C0B9-4738-9CC2-5AF1AC31F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8B059A2-A387-45CE-8527-5D4201ACC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A0BB4A-FF86-4E19-899A-F9EC09C3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4B839F4-6FB7-4ECC-B5CC-6C3F4D842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236A79-9374-47DA-9703-8627E173B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A3BC33-E65D-4096-B777-0B475978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52695E-9E4F-4D17-BEA5-4ADC0F8A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C97AFC-A38A-4BC0-BE52-A059FD4A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84979B-F940-45ED-B9DD-FAB42213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237675-6467-45A0-9D97-B2821273B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07472-472A-4FFC-B895-44F71028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56184CB-A2F1-4025-8E92-AD9B54AE9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2D8ECC-7A8C-4935-92BB-6F29ABE0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3BAD12-91EC-4DCC-97B4-9D14DDDE0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818527-30A7-4EAB-ADDD-BEE41E4FF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904AD2-0BB1-49D3-A228-11A00658C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AD4457D-2B13-40BA-9A90-A3DE92839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B568A15-BEFD-42A9-A543-E97225E65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BC5172-632C-423C-8B13-F0AA32737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D5F929B-68E3-4F89-BA5F-185E7DDC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B1E7A0F-1FF9-4122-991B-80A187DF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56DB439-0011-4CE1-B79E-172579E1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EF9976B-D3DD-4AB8-BB1E-F155CF1E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4813EE5-2AB2-4D2E-889C-4D54C6C4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B4BAECD-731C-44A1-A45A-C2BEE701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BE869C5-A342-434C-8657-1D78D845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15386A9-0216-4750-8D90-0460588F2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434BC38-40C4-4600-B89F-6C93CF091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D6D4622-252B-4E46-9977-CDD4E0FEC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7D7D03E-D5E1-475E-840C-A6185D41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5618647-122D-4E49-9A23-C1541DE0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ED62250-E22A-429B-83F2-CCF38D90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53D8676-1705-4991-91FC-035A8F79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4D220B8-C47E-47F0-AC85-8D2EA16B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EFAEE5C-13D1-40CA-AEE7-8247989F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7AC695-CFF4-475B-9928-16B3EF790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DD16BBB-CDA2-4BBE-86A6-07176C61B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075A5B6-8BC1-443F-8094-553576A8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00E6F68B-0885-4B99-B5F1-DD773616B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957E26-524B-46A9-8BBB-1B810D55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73C284-0978-434E-999A-B1FCCCE69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42D5A3-F57E-4AFB-97EC-7DFAD3C8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A7347D5-D838-4E36-9CC4-0DACD3365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EE8E64-5BEC-4D1A-838E-9ACBD1A3E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D6B05FA-919D-4F02-945E-DCEA7EBE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587BC2C-E2D6-4A5C-B568-8CA6FF10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AFACAB8-BE5B-4AA5-B889-A6CDE990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8B69B9C-262E-45CB-9C7D-4396A0D22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D9387D5-200C-4AE4-9ADB-503915ABB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C41E1C86-E10B-403A-A0A6-2CE52680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3A0847D-462B-436A-9541-069470EF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C1BA4E2-576D-4E15-B9F5-CEA95999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1567F-38DA-4993-A14E-C7A1730D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0C4F53-B70A-4CC1-B2C7-6274CC2C0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16D5BF-1EAA-4AEB-B05E-BA99B10DE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77731-69E5-4059-A5F9-53BEDCB7D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809B4C-5C87-43F8-BDC1-219429EBC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DDAB69-901D-4FA8-AD72-CB7212A27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4742F-7772-47DA-8BE7-55D7DA44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69032C-B22A-4B3F-9136-F8A30A28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60E5D0-E7FF-4030-B16B-1FC4268CE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319171-CBB8-4218-B1F3-D732B8728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1F72C53-BAC7-458E-8ED3-D440FB4A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4531F-6114-424E-9D67-9C967AB60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E76D89-DD1D-4C04-9D12-98CBDD96A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D489E-FA1D-4601-9E74-410FD1986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1FB96B-93FB-47BC-B192-9CA61129E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E0DE6E-8235-4591-9D3A-BEC9F1001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C7270AA-2B7E-43E5-AB64-CB146D95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62E4C-110D-4DD3-9CD3-4232AF3AD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431C8-4A51-4077-8DFA-82484354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3F63D7-3A9A-4E14-8CCA-C6ABD50B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8BA713-3FEF-4B2C-BDE0-A9217C5F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69B95-E346-40CB-83F3-1934F191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3D866B-0C76-46B3-B6FC-D3C445CE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110D59-33B0-44C5-B023-013A617F9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5E2CF1-8072-4DEF-83E4-70A517A6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7F9239-AA3A-4555-B161-CE216C37E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DDEEEA-49EE-4C5D-A797-7DC87510A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B779AC1-1AB5-4F2E-BB15-0872EAFB0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079A8-7AE7-4522-9DF8-01BAF649D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F616D6-0D91-4D37-834F-54A165F3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2B6007-0AEA-4BBB-AD02-19EBE36D4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8529D8B-CDA0-44DE-95F5-A685D007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388F81-EED8-45EA-BACB-71F203D1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C2EACD-4A0D-46F9-8612-7ACE9427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853ADEF-6C05-4675-B34F-A3D5B785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651042-ED63-44A6-92A5-D5ABD122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16A1D27-5AFF-4309-95D7-7593E485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B25E6DB-AAD4-46EE-B0A1-022279F0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8D43C5-3817-4854-919A-18EF70C3B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604A7-D858-4007-8FF5-1FAFE1F8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44F15F-7B30-4654-84EF-134D353E8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1AFAD2A-EF1A-464C-8D0E-D0255CAC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78E5D7-8055-42DB-9DC1-DB57C8D01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DF1675-17BB-4B8B-BA49-B46ED1880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F705F4-ED4E-4B7F-BC73-1D99DF9F8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D72383-05B9-40CB-B7FF-F97AA977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911172-2EB7-472E-BFFE-B9AD316E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2B1AC2B-4332-4A8B-9AA8-FDD6AFE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47F82B-D15C-4F9A-939D-7BA6E4DB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BE3AFA-19E8-4658-AEC3-AE0300EC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6D44E-AFB1-4C32-99DD-F8C8B1EE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644D626-16FA-4CB7-A0D2-91329C3C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D14B73-9765-4C61-90BC-BDDDE36F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D7672D-07FE-4572-8B8A-B584FE5B3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C00062-A63E-444A-ADE3-D127DD5B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8F35F2-05C7-4FE6-8AD6-7D4E65F06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49E27BB-ADE1-42C7-A423-30129EC7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C1381D-A11A-4953-A468-888A60FF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E8FD3D7-6232-46B3-81DE-D8E595D5B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879C16A-BE89-423F-8345-99AC9FE73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431FCD-1DC3-4383-B34F-ECB0C55FD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BACFB-746C-41FB-9AB3-8876F5109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80465A-E18F-44B2-B9B6-AB95796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EAC2BA-F2A8-41A5-A734-FCDF933D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AE2CDF-1369-4A7D-B4B9-7BE964784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FFE4A46-F5BB-412A-8425-68C5C61F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FEE898-F228-4BBC-911E-B5896FAB6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8F0F760-A415-4281-94FD-31113A40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43CE59-E532-43A0-B87A-DC69D3355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F89371D-38B4-4C8B-A0C6-D0AF7BF2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4A3EE7-E399-41A9-A57F-B27689234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D36606-8BBB-46AF-A3B2-690DC33A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B7418-A9D3-44CA-9606-E1076E77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044CF4-A87D-4FCB-8F5E-DFA9F373B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20D151-DFF4-4ABB-B5CC-2B6AC6BF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73737C-D38D-41E6-8724-5EBF48AC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CF3C3B-7F20-4249-B089-56C94B2F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D2BA8E-3375-402F-A1DA-C1C74EAC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4436BC-BF91-470A-80AD-C0A145BE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8D9546-DD42-4569-8EE8-C037C9E22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B1507-0C0B-457B-BF73-1B22937A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9E1716-1C0C-4145-A700-A448D15A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B9CAA1-3BC3-4F91-9A1B-57B89D7A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5DA4-0659-4797-A610-F4237329EF5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D05C-8910-40BD-8316-B2ABAAE3A78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17" descr="ascpcolor"/>
          <p:cNvPicPr/>
          <p:nvPr/>
        </p:nvPicPr>
        <p:blipFill>
          <a:blip r:embed="rId2"/>
          <a:stretch/>
        </p:blipFill>
        <p:spPr>
          <a:xfrm>
            <a:off x="6477120" y="0"/>
            <a:ext cx="251460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D342F-4F51-4249-9601-83F481AEF0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A651-BECB-46DE-8BB5-5F040FD7B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76FE-4D59-4D19-A3F7-324358DE2D7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E3B3-D2B6-48D3-AFA9-8BF2FF1B77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DA69F-9C8D-4E43-80F6-0231D5BFBB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27E2-5899-44F2-B422-182BA7B0ED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A5B4-783D-43AA-90C4-18E663BF13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DB90-5F2F-4A13-B95C-87729D645DD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CB88A-863E-4EC0-9B6D-9516E7A5A3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1134-A432-4704-9285-82EE05BACD8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6A8F-408C-4532-81D7-A1B6C8A62F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F126-7722-45E0-AB38-FB04D8BBCD6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0" descr="ascpcolor"/>
          <p:cNvPicPr/>
          <p:nvPr/>
        </p:nvPicPr>
        <p:blipFill>
          <a:blip r:embed="rId2"/>
          <a:stretch/>
        </p:blipFill>
        <p:spPr>
          <a:xfrm>
            <a:off x="3886200" y="-152280"/>
            <a:ext cx="4038480" cy="2019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B3921-F130-46B4-8F4A-EA752E9FB47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4ABA6-CB37-4C05-A09C-DF82FA28F3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F4CA-B060-4A91-9E89-52F8D7637E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9EFFD-12F4-4E81-B565-6B8FC1EBF77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E916-4882-410F-B589-60FAFD20EE2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E0DAC-2933-4AD5-BAE6-0172DAEF4D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CB694-EBF3-41B1-B51F-DD6120E687F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31DB3-AC06-4371-BC4F-9913A231BE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4D22-BD54-4C9C-BAB9-7466D31953F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47F6-3D86-414E-B081-38343CBF89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5B1A-442B-4CB8-A44B-BB5917138F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8F92-0A54-4594-9D12-5DE5728CCA3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A26C-58BC-449F-BC96-D07D5941093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22CC-DC7B-4CEE-9A4F-9D0CF81129D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0FAC9-3997-461F-8E4C-C06A6EF0D59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676160" y="2362320"/>
            <a:ext cx="684828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Arial"/>
              </a:rPr>
              <a:t>CHAPTER 5</a:t>
            </a: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f2f2f2"/>
                </a:solidFill>
                <a:latin typeface="Arial"/>
              </a:rPr>
              <a:t>5. Special Staining methods </a:t>
            </a:r>
            <a:br>
              <a:rPr sz="3800"/>
            </a:b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3500280" y="0"/>
            <a:ext cx="4714920" cy="15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145763"/>
          <p:cNvPicPr/>
          <p:nvPr/>
        </p:nvPicPr>
        <p:blipFill>
          <a:blip r:embed="rId1"/>
          <a:stretch/>
        </p:blipFill>
        <p:spPr>
          <a:xfrm>
            <a:off x="7162920" y="4648320"/>
            <a:ext cx="1714320" cy="17143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6"/>
          <p:cNvSpPr/>
          <p:nvPr/>
        </p:nvSpPr>
        <p:spPr>
          <a:xfrm>
            <a:off x="4286160" y="4572000"/>
            <a:ext cx="4714920" cy="1785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 txBox="1"/>
          <p:nvPr/>
        </p:nvSpPr>
        <p:spPr>
          <a:xfrm>
            <a:off x="228240" y="0"/>
            <a:ext cx="89154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ment membranes are commonly  demonstrated with a silver stain employing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henamine silver 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enamine silver methods rely on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e oxidation of carbohydrates within the tiss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form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aldehyde grou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groups will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directly act to reduce silver 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methenamine silver solution to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metallic sil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ility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nd silver ions from sol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dependentl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uce silver to a visible metallic for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referred to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gentaff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ment membranes may also be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demonstrated using the Periodic Acid-Schiff (PAS) techn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FA455-9776-4645-9391-8EAD2A53FFF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22860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stic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fiber demonstration is useful to identif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roph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d b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eriosclerotic chan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vidence of other vascular diseases, and vessel invasion by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Verhoeff-Van Gieson (VVG) s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commonly used to demonstrate elastic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issue section is initially over stained with a solution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hematoxylin-ferric chloride-iod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n differentiated for optimal demonstration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elastic fib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3B358-4684-4DD4-A6B0-E2674E89E97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 txBox="1"/>
          <p:nvPr/>
        </p:nvSpPr>
        <p:spPr>
          <a:xfrm>
            <a:off x="228600" y="4572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Ferric chlor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iod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 a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d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link hematoxylin dye molecules to tissue compon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, they act as oxidizers to convert hematoxylin to hemate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lute solution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ferric chlorid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n used to break the tissue-mordant-dye complex, thereby differentiating structures within th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elastic fibers have a strong affinity for the iron -hematoxylin compl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hey will retain dye molec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le other structures dissociate dye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F74ED-89B9-4FB5-81BA-775322077AF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astic fibers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odium thiosulfate remov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 iodine and ferric chloride from tissue sec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Van Gies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 acts as a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countersta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quality control tissues include lung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parenchyma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arter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2F39-23D1-4181-A0AD-B38C020FF36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0" y="457200"/>
            <a:ext cx="8986680" cy="6400800"/>
          </a:xfrm>
          <a:prstGeom prst="rect">
            <a:avLst/>
          </a:prstGeom>
          <a:ln w="0">
            <a:noFill/>
          </a:ln>
        </p:spPr>
      </p:pic>
      <p:sp>
        <p:nvSpPr>
          <p:cNvPr id="69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2E60-194E-4041-A1DA-A03B4056B2A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hoeff solution should be made fresh for each 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fferentiation step is critical to optimal results, as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over-differentiation results in loss of finer fi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longed staining in van Gieson counterstain will continue to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differentiate sec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e to 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its picric acid compon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C9DC7-9693-4163-85E9-6FB014FAB25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228240" y="380520"/>
            <a:ext cx="89154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chrome Sta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used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istinguish collagen from musc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id in the diagnosis of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fibrotic changes, neuromuscular diseases and tumors of muscle ori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son’s Tri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Masson’s trichrome sta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, Bouin’s solution is used initially as a mordant to link the dye molecu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the tissue components of intere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i are stained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igert’s hematoxy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resistant to decolorization by subsequent acidic staining sol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BB885-765E-4627-A586-A1215F0550C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 txBox="1"/>
          <p:nvPr/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iebrich-scarlet-acid-fuch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tains all acidophilic tissue elements such 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ytoplasm, musc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la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treatment by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hosphomolybdic/phosphotungstic acid serves as a decolor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causing the Biebrich-scarlet-acid-fuchsin to diffuse out of the collagen fibers while leav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cle cells 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quent application of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aniline bl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stain the collagen after which, 1% acetic acid is employed to properly differentiate the tissue s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F6094-7E8B-4627-8E5D-A926EEB5CFF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7239240" cy="4572000"/>
          </a:xfrm>
          <a:prstGeom prst="rect">
            <a:avLst/>
          </a:prstGeom>
          <a:ln w="0">
            <a:noFill/>
          </a:ln>
        </p:spPr>
      </p:pic>
      <p:sp>
        <p:nvSpPr>
          <p:cNvPr id="70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BCD5-3F2D-485B-9E80-58330396D87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2286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able Bouin’s solution used at the correct temperature will ensure optimal st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er differentiation by  posphomolybdic/phosphotungstic acid yields proper intensity of red-staining ent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d red staining of muscle may indicate that Biebrich-scarlet-acid-fuchsin solution has a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ty of blue-staining entities is modified by increasing/decreasing incubation time of aniline b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ded blue staining of connective tissue may indicate over differentiation of section by 1% glacial ace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DA087-75DB-41A5-94B5-3AFA6B294DC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outline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456840" y="1066320"/>
            <a:ext cx="84582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d0d0d"/>
                </a:solidFill>
                <a:latin typeface="Arial"/>
              </a:rPr>
              <a:t>5.Special Staining metho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1 Connective tissue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2 Protein, Nucleic acid and Amylo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3 Carbohydrates and Lip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4 Pigments, Minerals and B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5 Micro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5157-BD17-4364-877F-50F77FDF289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 txBox="1"/>
          <p:nvPr/>
        </p:nvSpPr>
        <p:spPr>
          <a:xfrm>
            <a:off x="228600" y="2971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2 Protein, nucleic acid and amyl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B8095-96C3-4626-BB09-F73C467FAC8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ns,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ining of prote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 are major constitutes of cells and tissues, are made up of amino acids linked by peptide b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thods of demonstration of proteins in tissu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istophysical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mino acid histochemical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zyme histochemical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-fluorescent metho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uno histochemical metho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EA233-527B-469D-B470-DE4DB8B9ADB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Histophysic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physical methods ar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sed on physical configuration of their molec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not on their chemical composi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methods are based on selective staining with large or small molecule dyes for example,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trichrome method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these technique, proteins present in collagen, fibrin, elastic, reticulin, and amyloid can be demonst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E8A69-2B61-4126-9A0F-43EE72F3EC2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152280" y="380880"/>
            <a:ext cx="86868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: Histochemical reactions in protein demon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4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915400" cy="5715000"/>
          </a:xfrm>
          <a:prstGeom prst="rect">
            <a:avLst/>
          </a:prstGeom>
          <a:ln w="0">
            <a:noFill/>
          </a:ln>
        </p:spPr>
      </p:pic>
      <p:sp>
        <p:nvSpPr>
          <p:cNvPr id="71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CED9-6FE4-4A6F-B205-558BF7242FF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 txBox="1"/>
          <p:nvPr/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ino acid histochemical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 acid histochemical methods are based upon identification of exposed groupings and linkages within amino acid molecul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is staining methods,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ome of the amino acids  in the proteins and not the whole proteins are demonstr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of Amino group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inhydrin-Schif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reaction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y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neutral pH and 37oC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inhydrin reacts with alpha aminogroups to produce aldehy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 aldehyde can then be demonstrated us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chiff re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F9D6-86DE-448D-9F18-7F0D5694184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xation solu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utral formal saline or formaldehyde vap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od of st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ke the section to 70 % alcoh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reat with Ninhydrin solution at 370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Wash with running tap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Place the slide in Schiff reagent for 45 minu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Wash with running tap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Counter stain with alum haematoxyl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Wash with running tap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 Dehydrate with graded alcoh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 Clean in xyle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 Mount in DP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ul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ino group =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tain pinkish pur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D8861-67EA-4D6B-87C4-AE0E1505D6A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 txBox="1"/>
          <p:nvPr/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of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heny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roup by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illon rea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yros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tion is treated with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hot mercuric-sulphric-acid nitrate mix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inkish 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develops at the site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yrosine containing prote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rosine is the only amino acid, which contains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xyphenyl gro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method can be regarded as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specific for tyros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rosine is invariably present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l tissue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llon reaction is a suitable general protein metho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13C6-E322-4B12-87E1-F808E823DE8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 txBox="1"/>
          <p:nvPr/>
        </p:nvSpPr>
        <p:spPr>
          <a:xfrm>
            <a:off x="151920" y="304560"/>
            <a:ext cx="899172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cleic Ac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NA has a 5-carbon sugar called deoxyribose, and RNA contains a 5-carbon sugar called rib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 in these sugars is a single hydroxyl group (OH-), and it is this difference that allows for selective demonstration of DNA and RNA by special stain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wo most common special staining techniq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zed for visualizing nucleic acids ar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eul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hyl green-pyronin Y s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1150-FEA5-44CE-91B8-B1C10A3CF01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282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ulgen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ulgen stain takes advantage of the ability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ydrochloric acid to hydrolyz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chemically alter the deoxyribose sugar of DNA into an aldehy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dehyde reacts with Schiff’s reagent, which specifically binds to aldehy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mbination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cid hydro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dehyde st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what constitutes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Feulgen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ght green counter stain is often applied to the tissue section to achiev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better contra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ibose sugar of RN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naffected by this acid hydro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, therefore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will not st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BFC4-466F-4D2D-990B-CA867212533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Picture 2" descr=""/>
          <p:cNvPicPr/>
          <p:nvPr/>
        </p:nvPicPr>
        <p:blipFill>
          <a:blip r:embed="rId1"/>
          <a:stretch/>
        </p:blipFill>
        <p:spPr>
          <a:xfrm>
            <a:off x="0" y="1752480"/>
            <a:ext cx="9088560" cy="2895840"/>
          </a:xfrm>
          <a:prstGeom prst="rect">
            <a:avLst/>
          </a:prstGeom>
          <a:ln w="0">
            <a:noFill/>
          </a:ln>
        </p:spPr>
      </p:pic>
      <p:sp>
        <p:nvSpPr>
          <p:cNvPr id="73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29C80-FF52-4EA5-92AD-2B88FC45F4A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1. Connective tissue staining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4282-B171-4880-880C-826761A9240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e Feulgen stain, hydrolysis is the most critical ste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the hydrolysis time is increased, an increasingly stronger reaction can be achieved until an optimal state is re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ed hydrolysis past this optimal state causes the reaction to become weaker and ultimately fai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E151-55E7-43F1-958C-EF73110A864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228240" y="4568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hyl Green-Pyronin Y S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to demonstrat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sections are incubated in a solution of purified methyl green and pyronin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ethyl green preferentially binds to DNA and pyronin Y to R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ason that two basic dyes bind preferentially is suggested to be related to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ifferent degrees of polymerization observed in DNA and R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more highly polymerized, is bound only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ethyl gr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where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which is less polymerized than DNA, is bou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only by pyronin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FCB35-071D-40B3-B297-B2143ADA3B8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,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28600" y="45684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ically, Carnoy’s fixative yields the best results, though protocols have been modified to allow formalin fixed tissues to be stain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staining, it is imperative that the stained slides are not exposed to wat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lides should be dehydrated in acetone or tertiary butanol and mounted in a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ynthetic res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B0E4-D786-4D75-95BA-806AA621F81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Picture 2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915400" cy="5715000"/>
          </a:xfrm>
          <a:prstGeom prst="rect">
            <a:avLst/>
          </a:prstGeom>
          <a:ln w="0">
            <a:noFill/>
          </a:ln>
        </p:spPr>
      </p:pic>
      <p:sp>
        <p:nvSpPr>
          <p:cNvPr id="74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BF155-F8E6-4BD7-92BE-801DA561BA5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in Nucl…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304920" y="4572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yloi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loid is an intercellular material that is deposited in various tissues such as heart, muscle, skin, liver, spleen, kidneys and br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amyloidosis can be classified based either on the underlying cause or by pattern of amyloid distrib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loidosis may be associated wit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enetic predisposition, chronic inflammatory diseases, tumors or Alzheimer’s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the progression of the amyloidosis can be halted through treatment of the underlying condition, so early diagnosis is extremely importa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2AB3A-8475-4E71-8524-23352803F7D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Nucl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 txBox="1"/>
          <p:nvPr/>
        </p:nvSpPr>
        <p:spPr>
          <a:xfrm>
            <a:off x="228600" y="4572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Congo 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go red is a dye with a selective affinity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myloid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elieved that the linear shape of the molecule is responsible for its ability to bind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β -pleated sheet structure of the amyl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nding is thought to be throug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on-polar hydrogen bon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taining methods used favor the formation of these bonds over electrochemical bonds that may bind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Congo 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ther tissue ele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000C-1174-4647-BEEE-E788D58BA6D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 Nucl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 txBox="1"/>
          <p:nvPr/>
        </p:nvSpPr>
        <p:spPr>
          <a:xfrm>
            <a:off x="151920" y="457200"/>
            <a:ext cx="899172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bination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igh p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igh sodi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staining solution favors selective binding of the dye and the amyl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inding arrangement between the dye and the amyloid produces a unique effect (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pple-green birefring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when the stained tissue is observed with polarized l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presence of apple-green birefringence has become the most reliable diagnostic feature of amylo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atoxy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usually the counterstain of choice for the Congo red s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0BE3B-4BE0-417A-867A-F7D6DB02D3A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895120" y="228240"/>
            <a:ext cx="624852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teins Nucl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yloid deposits are formed in tissues spontaneously or in association with a wide range of disease condi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posits are intercellular and may become large enough to cause damage to surrounding tissu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ending on the type of underlying disease, amylo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osits may form in muscle, heart, skin, tongue, liver, spleen, kidneys or adren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E314-3486-45B1-9112-B6F20B6692A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767800" cy="571500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609D3-FD1F-4383-9C40-4CD32ADEB99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1676520" y="2819520"/>
            <a:ext cx="624816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3 Carbohydrates and Lipid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45D14-5533-49BF-9715-27BE9F576B0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55627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ve tissu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228600" y="380520"/>
            <a:ext cx="8686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ree types of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ent in connective tissue matrix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ar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ge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stic fib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ar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the prote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lag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ated with glycoprote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form a delicate framework for many soft organs and a network around nerve fibers, fat cells, lymph nodes and smooth and skeletal muscle fib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llagenous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the protein collagen and provide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reatest strength of the three fiber ty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genous fibers are found i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gaments, tendons, cartil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C40E-ED6E-4F97-B399-CD7D4178765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-360" y="457200"/>
            <a:ext cx="6248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bohydrat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304920" y="60948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 are widely distributed in both plants and anim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y are often referred to as “starches” or “sugars” but can be divided into numerous subtypes based on their chemical stru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years, diverse terminology has been used to describe and classify tissue carbohydr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purposes of this chapter related to the staining of tissue carbohydrates, two main entities will be considered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ycoge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c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lso known as mucosubstanc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3"/>
          <p:cNvSpPr/>
          <p:nvPr/>
        </p:nvSpPr>
        <p:spPr>
          <a:xfrm>
            <a:off x="4343400" y="0"/>
            <a:ext cx="457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rbohydrates and  …</a:t>
            </a:r>
            <a:br>
              <a:rPr sz="18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B61BD-BD1E-403F-BC01-325B978B002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6248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yco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 txBox="1"/>
          <p:nvPr/>
        </p:nvSpPr>
        <p:spPr>
          <a:xfrm>
            <a:off x="228240" y="685800"/>
            <a:ext cx="88390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ycogen is a simple polysaccharide that is widely distributed throughout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found in greatest amounts in the liver, hair follicles, endometrial glands, vaginal and ectocervical epithelium, and cardiac and skeletal mus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ycogen may have diagnostic significance in several types of tumors including carcinoma, mesothelioma and rhabdomyosarc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rmal glycogen distribution patterns may be disrupted in diseases caused by carbohydrate metabolism enzyme deficiencies such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von Gierke’s dis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ompe’s disease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4952880" y="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rbohydrates and 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61FB-0D31-4C9A-A692-20EF39A93B0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 txBox="1"/>
          <p:nvPr/>
        </p:nvSpPr>
        <p:spPr>
          <a:xfrm>
            <a:off x="228600" y="380880"/>
            <a:ext cx="8686800" cy="647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iodic Acid-Schiff (P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AS reaction demonstrate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dehyde grou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ed by the oxidation of certain tissue carbohydrates and glyco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xidation of the tissue sections is performed using period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oxidation, tissue sections are treated wit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chiff reagent, a colorless mixture of basic fuchsin, HCl and sodium metabisulf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incubation, basic fuchsin binds to the newly formed aldehyde groups in th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4D7C-40C3-4499-A12E-8246EA6B948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counterstains may then be used to visualize other tissue el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atoxyl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unterstaining is very commonly used to demonstrate cell nuclei, although other counterstains may also be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lder methods include treating the sections in a sulfurous rinse solution before the running water was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an serve to reduce background staining by removing excess Schiff reagent from th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0B0F8-6D0A-47FF-BCB7-B657DDC6626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304920" y="3805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ly used to evaluat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lycogen deposits in the li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um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e bladder, kidney, liver, ovary, pancreas and lung may also contain glycogen granules of diagnostic signific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ities of the basement membranes revealed by PAS staining can aid in the diagnosis of several disord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on of the basement membranes can also be used to measure the invasiveness of skin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04FAE-0493-44E2-982F-370BF655A48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4" descr=""/>
          <p:cNvPicPr/>
          <p:nvPr/>
        </p:nvPicPr>
        <p:blipFill>
          <a:blip r:embed="rId2"/>
          <a:stretch/>
        </p:blipFill>
        <p:spPr>
          <a:xfrm>
            <a:off x="228600" y="457200"/>
            <a:ext cx="8458200" cy="6400800"/>
          </a:xfrm>
          <a:prstGeom prst="rect">
            <a:avLst/>
          </a:prstGeom>
          <a:ln w="0">
            <a:noFill/>
          </a:ln>
        </p:spPr>
      </p:pic>
      <p:sp>
        <p:nvSpPr>
          <p:cNvPr id="78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A427A-3F11-4504-8F6C-BE4EA76D39F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uc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family of polypepti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ecreted by a variety of epithelial and connective tissue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lassification of mucins is complex but can, for purposes here, be simply divided into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eut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cid muc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ucins are produced by many tumo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 carcinoma, liposarcoma and mesothelio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 systemic production of mucins is also found in diseases caused by enzyme deficiencies (Hurler disease, Schele disease, Hunter disea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EF914-D324-4F73-9406-F166890F4C5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304920" y="5335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Arial"/>
              </a:rPr>
              <a:t>Mucicarmine s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ucicarmine stain contains carmine (a red dye) bound in solution to alumin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believed that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luminum acts as a morda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binding to the acid groups of the mu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binding causes the carmine dye, which is carried along with the aluminum, to impart a deep pink or red color to the mu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 nuclei are usually stained with hematoxylin and the remaining tissue elements are counterstained with metanil yell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24D3-5954-42E0-821B-7E916B1919E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-360" y="533520"/>
            <a:ext cx="8915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icarmine i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sed to demonstrate acidic mucins secreted by cells of epithelial orig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also b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sed to stain the capsule of the </a:t>
            </a:r>
            <a:r>
              <a:rPr b="0" i="1" lang="en-US" sz="2400" spc="-1" strike="noStrike">
                <a:solidFill>
                  <a:srgbClr val="ff3399"/>
                </a:solidFill>
                <a:latin typeface="Arial"/>
              </a:rPr>
              <a:t>Cryptococcus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8763120" cy="3505320"/>
          </a:xfrm>
          <a:prstGeom prst="rect">
            <a:avLst/>
          </a:prstGeom>
          <a:ln w="0">
            <a:noFill/>
          </a:ln>
        </p:spPr>
      </p:pic>
      <p:sp>
        <p:nvSpPr>
          <p:cNvPr id="7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FFCC-38C5-4374-929D-037EF36CC42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45720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cian 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ian blue is a water soluble dye that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derives its blue color from the copper in the 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basic dye and, therefore, has an affinity for tissue elements containing anionic groups suc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s acid mucins and other acidic carbohydrate mo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FE21-DC94-4CAB-95A1-1C7FD8FF4DF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4920" y="380520"/>
            <a:ext cx="861048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stic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mposed of the protein elastin and offer the greatest flexibility among the fiber typ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stic fibers allow tissue to stretch and are located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k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alls of blood vesse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ticular Fi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perform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pport fu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body and are common 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iver, kidne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ple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irrhotic liver shows disturbed patterns of reticular fibers, explaining the routine use of reticular stains in liver biopsy specime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2C4E-E9E0-4073-9294-6D9B3C6291C1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 txBox="1"/>
          <p:nvPr/>
        </p:nvSpPr>
        <p:spPr>
          <a:xfrm>
            <a:off x="-360" y="5331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cian blue is used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nstration of acid mucins, which can be produced by several types of epithelial and connective tissue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id mucins also play a role in collagen diseases and in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early stages of athero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ersatility of alcian blue staining methods is a valuable tool for the evaluation of the various acid muc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D69B-76F4-47C3-8825-72D4ED51751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Picture 2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599320" cy="579132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7E539-A80C-4046-BB00-AD64C66FAD8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04920" y="380520"/>
            <a:ext cx="81532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are classified as simple, compound and der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 occur in cells either as microscopic droplets or bound to other tissue ele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ining of simple lipids with Sudan and oil red O dyes will be discussed h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nical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normal deposition of fat may develop because of injury and from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fat emboli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ch may dislodge, relocate and cause loss of function or deat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303B-DC1B-4EA0-983F-561A02AF58D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228600" y="380520"/>
            <a:ext cx="86104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sarco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be differentiated from other tumor types using lipid-stain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ive changes in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yelin and cell membranes may exude fat drople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monstrated by these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imple lipids are demonstrated using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oil red O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nd Sudan black B stai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se “staining” techniques demonstrate physical processes rather than chemical interactions displayed by most st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ye (oil red O or Sudan black B) is dissolved in a lipid solvent such as propylene glyc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153E-689C-48C4-9556-BF021250182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380880" y="533520"/>
            <a:ext cx="83059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at solvents, such as isopropanol, may be used, but result in some lipid lo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e molecules are found to be more soluble in the cellular lipid than in the dye solvent imparting a positive stain color to the tissue lip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sections are then stained with an appropriate counterstain (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atoxylin/nuclear fast r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1B682-62AD-4FD0-AE73-D46D203DD60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81880" cy="26668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3" descr=""/>
          <p:cNvPicPr/>
          <p:nvPr/>
        </p:nvPicPr>
        <p:blipFill>
          <a:blip r:embed="rId2"/>
          <a:stretch/>
        </p:blipFill>
        <p:spPr>
          <a:xfrm>
            <a:off x="457200" y="3568680"/>
            <a:ext cx="8381880" cy="3297240"/>
          </a:xfrm>
          <a:prstGeom prst="rect">
            <a:avLst/>
          </a:prstGeom>
          <a:ln w="0">
            <a:noFill/>
          </a:ln>
        </p:spPr>
      </p:pic>
      <p:sp>
        <p:nvSpPr>
          <p:cNvPr id="81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95A7B-827A-4621-8724-0A0EBAE63483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80880" y="198108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61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4 Pigments, Minerals and B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59DF-CD53-4A31-BDDF-CEF8A1BB67D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1371600" y="2844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gments and Minerals</a:t>
            </a:r>
            <a:br>
              <a:rPr sz="24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ig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ments play an important part in the diagnosis of diseases and conditions such as gout, kidney and gallbladder stones, jaundice, melanomas, Albinism, hemorrhage and tuberculo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can be either normal or pathologic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igments are identified either by their color, size and shape or by chemical 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gments can be separated into three categories: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artifact, exoge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ff3399"/>
                </a:solidFill>
                <a:latin typeface="Arial"/>
              </a:rPr>
              <a:t>endogen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19C4-B08B-4D9D-A6E3-47495BDD6CB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2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153280" cy="4038480"/>
          </a:xfrm>
          <a:prstGeom prst="rect">
            <a:avLst/>
          </a:prstGeom>
          <a:ln w="0">
            <a:noFill/>
          </a:ln>
        </p:spPr>
      </p:pic>
      <p:sp>
        <p:nvSpPr>
          <p:cNvPr id="82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D1732-BCB3-420C-89E7-35615D0FC29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304560" y="380880"/>
            <a:ext cx="83055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ndogenous pigments are described in this chap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la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st recognized pigment is melan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in, a brown or black pigment derived from metabolism and not directly associated with blood, is normally found in skin cells (melanocytes), hair follicles, eyes (iris) and areas of the embryonic br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stribution and amount of melanin is what accounts for the wide variety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kin, hai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ye col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elanin is found in conditions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alignant melano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29041-9A87-4A84-8FAC-B652F729D4B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 txBox="1"/>
          <p:nvPr/>
        </p:nvSpPr>
        <p:spPr>
          <a:xfrm>
            <a:off x="228600" y="3805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also display characteristic patterns in tumors, thereby aiding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in the differential diagnosis of certain  tumor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are commonly demonstrated by the use of stains involving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lver solu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tains rely o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mpregnation of silver ions to th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sequen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duction of those silver ions to their visible metallic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icular fibers are agyrophilic  in that they possess the ability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sorb silver from solu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are unable to reduce it to visible metallic form without the use of a reducing solu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3BF9-E031-408F-81A4-2BE5F171E92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228240" y="4568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anin possesses the strange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ability to bind silver from silver solutions and reduce it directly to metallic sil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almost completely insoluble in organic solvents because of it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ight bond with 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pecial staining techniq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elanin are varied in approach and can be simple or compl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morl’s re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simple technique that uses melanin to reduce ferric iron (Fe3+) to ferrous iron (Fe2+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31B9-DEA7-45E3-907A-4EB4FE020D1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380520" y="533160"/>
            <a:ext cx="85345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errous iron then combines with ferricyanide to form ferrous ferricyanide, also known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urnbull’s b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complex techniques use silver nitrate sol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ontana-Masson method for melanin and the Warthin-Starry method for melanin are two such metho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nal step is application of nuclear fast red counterst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C730-CB10-4177-8CDD-E67500BEEB4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-360" y="533160"/>
            <a:ext cx="891540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all the special staining techniques  for melanin, this reaction is not melanin-specific and may stain other elements, such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rgentaffin, chromaff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om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fusc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3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8286480" cy="4114800"/>
          </a:xfrm>
          <a:prstGeom prst="rect">
            <a:avLst/>
          </a:prstGeom>
          <a:ln w="0">
            <a:noFill/>
          </a:ln>
        </p:spPr>
      </p:pic>
      <p:sp>
        <p:nvSpPr>
          <p:cNvPr id="84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3190-8405-413E-BA60-CD622943201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mosider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mosiderin, a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blood-derived pi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 crystalline aggregate of proteins involved in iron sto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pathological conditions involving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sider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rrh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lytic anemia, metabolic iron disturbances, liver fibrosis, toxins, cirrhosis, heart 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and diabetes melli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earing yellow to golden brown in unstained tissue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hemosiderin is insoluble in alkalis and soluble in strong acid solu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3DB68-1FB5-4DCB-A61B-91B89672DF6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304920" y="533160"/>
            <a:ext cx="861048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xation in formalin alters hemosiderin so that it can be solubilized slowly in weak aci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allory’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erl’s methods for ir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he ferric ion in tissue binds with ferrocyanide in solution forming ferric ferrocyanide, otherwise known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russian b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ferric iron in hemoglobin is tightly bound to proteins, it is first necessary to use acid to release it from the protein comple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mbination of hydrochloric acid (releasing solution) and potassium ferrocyanide (binding solution) is able to rel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tain the ferric iron at the same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uclear fast red is the typical counterstain for these sta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91D7-BDB0-4D21-8292-6848977905B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Picture 2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264520" cy="2438640"/>
          </a:xfrm>
          <a:prstGeom prst="rect">
            <a:avLst/>
          </a:prstGeom>
          <a:ln w="0">
            <a:noFill/>
          </a:ln>
        </p:spPr>
      </p:pic>
      <p:sp>
        <p:nvSpPr>
          <p:cNvPr id="84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2DD7-318F-48BA-A6BD-1B3C66F969A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228600" y="533160"/>
            <a:ext cx="8686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pofusc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ofuscin, a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yellow-brow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reddish-brown pig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is found in many parts of the body including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bone marrow, adrenal, kidney, liver, heart, testis, ovary, cervix, brain and spinal c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fuscin is formed by the slow oxidation of lipids and lipoprotei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been nicknamed 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“wear-and-tear” pig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arge accumulations of lipofuscin are found in people of advanced 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identified using special staining techniques, lipofuscin can be found in a variety of colors, shapes and siz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7B5AE-3BC7-4A5D-B23F-13457EBE743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380520" y="533160"/>
            <a:ext cx="85345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hysical properties of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ipofuscin are dependent upon the length of time that the original lipid or lipoprotein has  undergone oxid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commended that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more than one special staining technique be performed to confirm the presence of lipofusc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 lipofuscin is present in some lipid storage disea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uch a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tten’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ease, and can be found at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edges of cerebral hemorrhage or infar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Special staining techniques for lipofuscin include oil red O, Sudan black B, Gomori’s aldehyde fuchsin , methyl green basophilia, periodic acid-Schiff and Fontana-Mass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0B207-3258-4385-8E33-77F172F9C27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533520" y="533520"/>
            <a:ext cx="7696080" cy="3047760"/>
          </a:xfrm>
          <a:prstGeom prst="rect">
            <a:avLst/>
          </a:prstGeom>
          <a:ln w="0">
            <a:noFill/>
          </a:ln>
        </p:spPr>
      </p:pic>
      <p:sp>
        <p:nvSpPr>
          <p:cNvPr id="85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683F-0DE8-486C-8198-1DB33CF6ECDD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456840" y="533160"/>
            <a:ext cx="8381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cleic acid metabolism creates uric acid, which is normally excre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rate is the form of uric acid that circulates in the  blood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stallized urate is in the form of monosodium ur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lor of crystalline urate is characteristically yellow but can vary from colorless to brown, depending on the thickness of the cryst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 crystallization or increased urate in the blood predisposes a patient to gou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oor kidney function, kidney stones and arthrit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6466-A03B-41EB-AF0B-248B0886761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228600" y="380520"/>
            <a:ext cx="8686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elective silver precipitation on tissue sections may be caused by use of improperly cleaned glass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 solution should be made fresh with high quality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ss ammonium hydroxide added to ammonical silver solution impairs impregnation of reticular fibers and results in weak st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kalinity of silver solution may contribute to loss of tissue section from sl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charged or adhesive-coated slides is recommen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A92B-2445-4568-830F-7DF7BD33718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380880" y="53352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ther diseases, such as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leukemia, urates can ultimately be deposited in the kidney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happens because an extremely high number of cells are destroyed, resulting in nucleic acid metabolism and generation of ur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issue, uric acid crystals are present as sodium urate, which is soluble in aqueous solutions and slightly soluble in weak alcoholic solu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fixative of choice is 95% alcohol, which prevents the dissolution of the urat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dium urate crystals can be visualized on a hematoxylin &amp; eosin (H&amp;E) stained sli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98C2-5065-4551-B48E-64ACC0EAC4D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152280" y="533160"/>
            <a:ext cx="876312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rates will demonstrate a negative yellow or blue birefringence, based on the alignment of the urate cryst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pecial staining technique,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omori’s methenamine-silver method, can also be used to identify urate crystals in tissue s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ssue sections are placed into a methenamine-silver solu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Urates, like melanin, can bind silver from silver solutions and reduce it directly to metallic silv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reducing the silver, sodium thiosulfate is used to remove the unreduced silver from the tissue sec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ection is then counterstained with light g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CE456-82A3-4D2E-898E-2149B0B2C6B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-360" y="3505320"/>
            <a:ext cx="89154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important to note that an alcoholic fixative must be used in order to preserve the ur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188200" cy="2590920"/>
          </a:xfrm>
          <a:prstGeom prst="rect">
            <a:avLst/>
          </a:prstGeom>
          <a:ln w="0">
            <a:noFill/>
          </a:ln>
        </p:spPr>
      </p:pic>
      <p:sp>
        <p:nvSpPr>
          <p:cNvPr id="87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3046B-CF6F-43B7-AD47-3BEE4C336ED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gments and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380880" y="533160"/>
            <a:ext cx="83822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waste product of Red cell  degradation is  biliverd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verdin is transported to the liver, where is it further reduced to bilirub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rubin is then removed from circulation in the blood and is secreted as a component of 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iverdin and bilirubin are considered bile pig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le pigments can vary in color from yellowish-brown to gre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 excess bile pigment is seen in patients with gallstones, sepsis, liver degeneration, congenital liver enzyme disorders and liver tum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71C0-A090-4800-BEF8-652102851FD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rbohydrates and 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 txBox="1"/>
          <p:nvPr/>
        </p:nvSpPr>
        <p:spPr>
          <a:xfrm>
            <a:off x="304920" y="5331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most reliable and reproducible special staining technique for demonstrating bile pigments is Hall’s tech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echnique bilirubin is easily oxidized to biliverdin in a solution of ferric chloride and trichlorace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tissue section is then counterstained with Van Gieson’s s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Only bile and bile pigments in the liver are detected using this special staining techniq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monstrate bile pigments in other locations outside the liver, such as hemorrhage, either th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Gmelin technique or Stein’s stain should be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F561-60D4-4A06-8D38-B23B7120B61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304920" y="29714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 amounts of bile pigments are lost during routine tissue processing and staining because of their slight solubility in organic sol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deposits of bile pigments, however, can resist these processing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commended that two control sections should be processed with the test sec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91720" cy="2857680"/>
          </a:xfrm>
          <a:prstGeom prst="rect">
            <a:avLst/>
          </a:prstGeom>
          <a:ln w="0">
            <a:noFill/>
          </a:ln>
        </p:spPr>
      </p:pic>
      <p:sp>
        <p:nvSpPr>
          <p:cNvPr id="88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1F04-1BC6-4B30-9FA2-C951F56B52D8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590920" y="228600"/>
            <a:ext cx="624816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gment and …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457200" y="6858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c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nic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is an insoluble mineral that is part of the normal composition of bones, teeth and nai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one of the most important minerals used by the human body, participating in such vital functions as blood clotting, neuronal signaling, muscle response and heart rhyth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Calcium deficiency cannot be identified using special staining techniq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Pathologically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bnormal deposits of calcium can be found associated with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necrotic tissue areas in cases of tuberculosis, atherosclerosis, kidney calcinosis, sarcoidosis, hyperparathyroidism and kidney st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B62C8-BCE6-424C-9DEE-45EA1AC938C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gments and ….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56840" y="457200"/>
            <a:ext cx="84582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m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</a:t>
            </a: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wo well-known special staining techniques for demonstrating calcium deposi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n Kossa and Alizarin red 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Von Kossa calcium stain is an indirect method for identifying calcium in tiss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mary calcium salts in tissue are calcium phosphate and calcium carbona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is technique, silver is substituted for calcium and is then reduced to metallic silver with sunligh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Arial"/>
              </a:rPr>
              <a:t>The stain of choice for identification of calcium is the alizarin red 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ium st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BCBA-FBD6-4FF1-9393-09C68D7E37F4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456840" y="32767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ical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ring the staining technique, the reaction must be monitored microscopically to ensure that diffusion artifact does not occu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Tissues preserved in non-acidic fixatives are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3399"/>
                </a:solidFill>
                <a:latin typeface="Arial"/>
              </a:rPr>
              <a:t>best for demonstrating calcium deposi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0" name="Picture 2" descr=""/>
          <p:cNvPicPr/>
          <p:nvPr/>
        </p:nvPicPr>
        <p:blipFill>
          <a:blip r:embed="rId1"/>
          <a:stretch/>
        </p:blipFill>
        <p:spPr>
          <a:xfrm>
            <a:off x="228600" y="0"/>
            <a:ext cx="8137440" cy="2971800"/>
          </a:xfrm>
          <a:prstGeom prst="rect">
            <a:avLst/>
          </a:prstGeom>
          <a:ln w="0">
            <a:noFill/>
          </a:ln>
        </p:spPr>
      </p:pic>
      <p:sp>
        <p:nvSpPr>
          <p:cNvPr id="89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99CD-86EF-4154-81C7-0D39543C582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240" y="27432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5 Microorganisms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24546-4732-4073-BD80-9B4791175F50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228600" y="4568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Picture 2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610480" cy="6400800"/>
          </a:xfrm>
          <a:prstGeom prst="rect">
            <a:avLst/>
          </a:prstGeom>
          <a:ln w="0">
            <a:noFill/>
          </a:ln>
        </p:spPr>
      </p:pic>
      <p:sp>
        <p:nvSpPr>
          <p:cNvPr id="67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38E9-C30D-4BF3-8A62-F62BEB8678EC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croorg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3049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MONSTRATION OF MICRO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of infective microorganism can be done in histologic examination though rarely se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use of difficulty in demonstrating microoragan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infective microorganisms are too small to be seen in light micros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many large organisms are not distinctive by 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imes the number of the microoraganisms are few that even in special stain can be mis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2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974A-0627-43C2-850F-D402E4E223D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 txBox="1"/>
          <p:nvPr/>
        </p:nvSpPr>
        <p:spPr>
          <a:xfrm>
            <a:off x="228600" y="304920"/>
            <a:ext cx="86868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necropsy specimen over growth of non important organisms can obscure important pathog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these difficulties an experienced pathologist can make a diagnosis of infection by correlating clinical and morphololigc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ctio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m’s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ehl-Neelson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lver stain (for spirochetes and fung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emsa s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25E3-F228-4DAD-9908-588A1F953402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nective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228600" y="304560"/>
            <a:ext cx="8686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ment Membra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ement membrane is a modified connective tissue tha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vides support to epithelial ce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scle fib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ipheral ner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ermits diffusion of nutrients and wastes between cells and capillaries in underlying connective tiss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Jon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ethenamine silver sta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excellent for the demonstration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glomerul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ubular basement membranes of kidney biops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outinely used as a component of kidney biopsy panels </a:t>
            </a: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to demonstrate evidence of renal disea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4C7EA-50AA-4C2A-9DB1-3EF3F74EE2C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22:43:23Z</dcterms:created>
  <dc:creator>Fit</dc:creator>
  <dc:description/>
  <dc:language>en-US</dc:language>
  <cp:lastModifiedBy>DMU</cp:lastModifiedBy>
  <dcterms:modified xsi:type="dcterms:W3CDTF">2019-06-18T19:11:44Z</dcterms:modified>
  <cp:revision>104</cp:revision>
  <dc:subject/>
  <dc:title>CHAPTER 4  4.Special Staining methods</dc:title>
</cp:coreProperties>
</file>