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</p:sldIdLst>
  <p:sldSz cx="9144000" cy="6858000"/>
  <p:notesSz cx="923766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0" y="0"/>
            <a:ext cx="9237600" cy="700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 type="dt" idx="45"/>
          </p:nvPr>
        </p:nvSpPr>
        <p:spPr>
          <a:xfrm>
            <a:off x="5231880" y="-36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 type="ftr" idx="46"/>
          </p:nvPr>
        </p:nvSpPr>
        <p:spPr>
          <a:xfrm>
            <a:off x="-36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 type="sldNum" idx="47"/>
          </p:nvPr>
        </p:nvSpPr>
        <p:spPr>
          <a:xfrm>
            <a:off x="5231880" y="6657480"/>
            <a:ext cx="4002120" cy="3510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9532-C439-404F-905B-212030B53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2865600" y="525600"/>
            <a:ext cx="3504960" cy="26287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923400" y="3330720"/>
            <a:ext cx="7388280" cy="31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5232240" y="6657840"/>
            <a:ext cx="4002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CC14-814B-419C-AD33-503A041485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4E047-BAC3-417A-82CB-A51A55933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47AFC-1D47-46B1-862C-C1650DB1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EC5255-35B4-4F68-8BF5-F12D7161B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36477E-E0DB-41C2-B74B-2C1A13B6A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D43FD8-F503-41BA-9A70-0D8872063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57C195-8FEB-4161-8D61-B7796DF6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050E09-27DC-4101-92F6-98E8E94F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334EDC-7599-466B-A546-6DC0C75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EADE6-735F-40CE-A913-9DE75A8C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B45E15-F253-43BA-892A-5244D998A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FDB13D-E501-445B-AD09-7BC3B209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CC0919-4881-4456-AC2B-DD3DF132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3293B-C551-4E77-9D63-5F094129B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C87E8B2-F690-4FD1-8667-E9D6F23C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7DE02B-65E6-4E66-961A-3C148186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BCC325-5B35-4213-9DD4-77D86B3C1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1B2F41-5966-4348-9C51-C1C6CB1B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E5CDEC-D705-4BBB-A26A-566CF231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009611-C28B-4BC6-953A-730423C0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471494-27F4-48CD-83BF-E4CC0D7EB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7CDEB6-6308-4DA0-A072-6F2E3AC2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115F88-D5FF-4EF9-89C4-A929FCEA7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52A2E2-0824-4DFF-891F-BD657368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9EF44-5753-4962-94B9-47765221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842DA-F667-462F-922D-73F4205E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1B141DB-2A9F-4339-9FEE-819ABA23E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3BF6E2B-4A89-4E74-9449-EDF6D7B2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4D207E-5599-4340-983A-4EB02F8C0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63669E1-CAE3-4B46-9B0B-A775A93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5A2C60E-B065-4589-B2F6-F04C4368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6C0E0C-CC61-4938-B4B7-40B82BD2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5FCB584-5111-40A6-82F9-0B791D0B5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CFCAC9A-427B-4CB8-8327-54FE8AB1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0E52537-D79C-46AD-8B26-0967581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8E58523-B225-4018-8404-76B08BB7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C3CFC12-03C5-4EEC-97E5-7BC25F613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BEE9253-545D-4A34-8BEA-DE32C7D41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826697-AB11-4749-BD4B-4E714A7B0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A81493-F3FF-49EC-A46B-8D59DFFF6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10C571-B183-4A43-B0A3-04203AD57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EE996-7036-4B18-8BB8-C53C2F2A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DB90F4-7EB6-4B9C-83D6-89567D600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CAA970E-905B-4427-876A-C20C381E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ABF750-4D73-43F1-8E22-6F4400EB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E7E061-D0C5-440D-AA77-019B7BCD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E2C9E4-9CD1-442E-9EB4-901979C47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93157C-A1CC-45DF-86F0-90A18BE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D46C93C-89B2-4BD9-9163-B94D348B6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520931-66AE-4AEE-A2E7-1E1ABDB5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5B25B1C-B953-48BD-BBBA-74666D00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401BDEC-8F4D-4716-A8EB-CAE8BCF3C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44EDD8A-EEB6-4224-97A5-82187EED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7969EC6-A734-45E1-90E1-3B20634E1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10D3723-257C-4B4F-80EC-9F1503E9D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486A7C5-B058-4BF3-9FA9-8D1E8B966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F290394-100E-4A33-A5B5-2A417BAD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48FDFD3-B4CC-4B3F-91BD-D7702A575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B9903C-8100-4F59-AB9C-6BBD1E6A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688DDBE-EEE3-4A9F-B6F0-E09207F8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9858822-1C99-4D7B-B758-0D20BEB18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6A32047-6226-47EF-AE7E-1D7C9D066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09BF2DD-540F-4E9E-B877-9C218266C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C65C40-A8CB-430F-9E1F-75F4F1DC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E590375-65AB-4099-BA6B-3E70FA9F9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F1B092C-1011-47B2-833B-37CC0454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5569665-FBDC-4748-8FF8-E42BBF80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2437EA0-6D29-4867-9DE7-AB15BC938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4338399-B44A-4D29-8312-99DC8FFC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0410D46-9294-4021-8EC9-25FB78D2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A306B2-2105-4854-A76E-D50228F1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A3CB0A5-11E7-49C1-8738-00C5847D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F20007D9-45C2-450C-B391-6241E69A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82CE91E-2C40-4C45-9E64-970E3C77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44550EB-217E-4883-8248-546654E6E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BC8A2CF-24B1-4B8C-A13C-8F5ABA191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36EF301-BCC7-4A62-A99B-8E34165AE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B546AE9-FD42-4578-9889-E7342B83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B27B8AF-1599-4852-BF95-4D9D1560E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301BE4A-EF05-4D6C-AE10-C1D5C9CF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5396983A-99A5-4B13-8DA6-D4735811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F2CB323-6F50-431F-8C36-61CC3E14A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125CC12-1BB3-4734-A32E-6F3A4F02F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C051D02-5AC1-4161-9774-68A645D6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DA1E3B-8B85-4981-B9AF-ED7B8103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C7D4999-D48F-4DCF-8199-28CA6CF0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16547-9CA5-4E1D-9996-FD706971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995F409-05B2-4483-A4B8-944393BF0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8EB518-51BC-4A38-95AA-E206EF60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34208F4-67AB-4B5A-BEA7-79192BA2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31D8E9-A3AC-4F1B-9FE3-1968E20A3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12FB63-A5DF-4432-B278-16FBC096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95BA-4162-46F2-A169-DE2A68E0E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97209A-3B74-451B-B137-C0AFA435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2FE13-F50F-4904-93F1-5FEBA10C6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41ECCC-DBFA-410A-80C6-2796F478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D63A4A-13BE-45A5-A76F-A3F5F7547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5115232-B128-487E-B9D0-6FF492ED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AD2070-7431-4201-9BC8-7C31B66B7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67AA94-7E5C-4B74-A96C-7EC10E5BB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B9C884-301E-4A32-B398-1DD150C0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415DC-DAD7-44EA-A315-EFF388F9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5EFF7-27CD-4042-9D41-EAA87230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2850-986D-4B0F-9824-5DF73017E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D24C3E-3372-4C29-A256-11386945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4F5117-3B90-4AFB-98FF-5338BB3F2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CA9983-4B86-4E4B-841F-BFABC3A01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144D8-507C-4A39-8FC3-85B0A67C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A56D2-CFF1-406F-97A4-DB9F0FB8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F1D85-CF83-4999-A38D-59CFC745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534BEA-41A6-41AD-B996-F8152B451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B56194-837D-43F0-9CB9-6676A7DE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CBF873-8F4A-4BB5-930A-D0D54EB9E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6C94D3-451B-4985-AA99-3CEF673FE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52084-DC5C-4313-82AD-8D004FBF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2E91D5-8071-42D5-9FCD-C1E032DE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DCFA9B0-758F-4D1F-B8BD-5A28353C4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5C323C-33E5-4298-891A-4B0F44CE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ECEB35-EF24-489E-9689-16A859E7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3669DA-2C56-4C9F-9AC2-44D317291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D89B25-1E07-456E-B791-00062C8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791AB45-7351-47C1-BAE2-428556D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447F679-2022-4E9E-A12A-6BA667B67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7D291F-EDF8-4BF5-BBDA-2810A64D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0DB150-98BE-4050-8D57-CE3392EFA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1C1C1-2EF0-428C-B979-5311B91D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84BD8B-D386-44FC-8DBD-B0C7C1B5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EE4E47-BCCE-4B16-B285-F86717417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E91812-0E92-4E5E-9E3B-243EDB5C6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094036-3105-4B15-8703-CF802E28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AB772B-3108-4485-AFAF-6586562B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CB87EC3-25C4-4862-BF74-AFF1E60F0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2F80A6A-BB75-4B8F-83B5-BF56B5904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67D9C9-9A95-4B21-BDB3-3C54EE24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9AA0A-0F3F-43DF-B98C-16FA2596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3846A63-9050-40B0-8A2B-13D84DE9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DF12-FF45-4CBB-907D-8C3D2FB2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0DC51D-24F5-4FEF-B7B6-C2E33049C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1594C8-9DFD-468F-A60A-61F739B9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F9AA6F-AF87-4495-86FE-27A02FDC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ADAB71-93D1-4C4F-85C7-175844280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7F0FE66-FF88-4D25-BAFB-C709B851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DF1A74D-7FE1-417F-B2B6-E2C6A9CA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3E31D78-3DAD-41B3-9772-6B7E9B99D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F7C85FB-80A7-4416-84B6-880C850D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E7240F9-6969-41BF-96A0-6B6A617B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FB04814-D19C-4141-85C7-1CDB9662D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B82A82-CD20-428D-B173-CF8484E3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F50356-3D78-415F-9818-83393EA33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6C944A-2DC9-4BFE-8A97-6A91FBB6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DB50412-D9CF-48BB-9466-2C5F443F8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82E34D4-BE7E-4614-88D6-399FE89B7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A4D6EF-3AE5-442C-AC1F-AC236054A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B7ECD7-3F3A-4A1C-8855-427A6DDFA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129BD2-AE2E-4179-83E4-E8583947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81F81A-1681-4780-BFEE-EE9E7C47F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918CF62-288B-48ED-864D-6ACFB0C1D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3FAEAF-4186-44FC-8C3E-83D40BF2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66843-9499-4636-B013-C49D9516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6840" y="457200"/>
            <a:ext cx="62485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CFCCCF-2DD9-44BE-8D6F-7F99FF85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CE9A2B-4D3E-4FE1-A25C-1573B05F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125FA6-A0E1-4AF6-9EC8-045305817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0B27B08-B1CD-47B2-AE3C-6FA788E9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2F29EA2-5E22-4CB6-875F-23553F205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0B60CF4-781D-4A64-A882-98F596C7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68FC1D6-8C76-451B-B451-F885F9D9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9300E4-96F4-468F-A72A-9235308B0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89465D-7C9B-4F97-A7F7-36149748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2AC0E1-02ED-4B76-8BF6-3FDAAF5A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92407-64F8-46FD-A901-500AC7FE6C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17A4D-2AFB-413D-BF2E-8E73A00052F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Picture 17" descr="ascpcolor"/>
          <p:cNvPicPr/>
          <p:nvPr/>
        </p:nvPicPr>
        <p:blipFill>
          <a:blip r:embed="rId2"/>
          <a:stretch/>
        </p:blipFill>
        <p:spPr>
          <a:xfrm>
            <a:off x="6477120" y="0"/>
            <a:ext cx="251460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sldNum" idx="2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760-1721-413D-8919-A86BE82569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FCCC-78D3-4EC4-B798-EEDF90371C9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sldNum" idx="3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5FC0-6D09-48EC-96E0-73C0715D46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3A3A-F084-4F3B-9C57-CE6191D0862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ftr" idx="3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3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862FE-EDCD-42C8-B246-16CC701DDC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8266-A3AF-40EB-8CC7-B177A6B48A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ftr" idx="3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sldNum" idx="3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E419-1039-436C-A8AF-4B52E8BE24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D34F2-3318-421F-B921-AEAF6DAA16C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ftr" idx="3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sldNum" idx="4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F1857-206D-4919-AA69-7D6EEB7F5DC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91C1-89C4-4942-ABE9-8052EB4484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ftr" idx="4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sldNum" idx="4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C0C3D-F52D-4AD9-AE88-C64F14E7CB9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C765-A827-4440-A0AC-06DA17A9A8A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0" descr="ascpcolor"/>
          <p:cNvPicPr/>
          <p:nvPr/>
        </p:nvPicPr>
        <p:blipFill>
          <a:blip r:embed="rId2"/>
          <a:stretch/>
        </p:blipFill>
        <p:spPr>
          <a:xfrm>
            <a:off x="3886200" y="-152280"/>
            <a:ext cx="4038480" cy="20192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DA18D-27F1-4231-A0A7-1AC843A70C0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4CA43-C749-40CB-9C57-F7E152AF37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7E86-74FA-4517-A0ED-3A66F06E24E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ftr" idx="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1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F9CF-4007-4ECE-90FC-124176C90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12E9C-E131-454B-BE36-06D561F89BF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C4F3B-8AEF-4B71-94C1-ABBE18208A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dt" idx="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DC027-3B36-4936-93C9-3939381C2D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F24F0-2FC8-493B-8D0D-EA669703D8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1DB33-0664-488C-8DD0-6990FB33F84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ftr" idx="1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BECF-1843-4136-ADCE-93F882B72D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dt" idx="2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20FA-DC7C-4696-AEE7-8CA9AE70AD8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ftr" idx="2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73D0-05E2-44DE-9B01-6AD98BAD0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27118-807C-453E-A2FC-1DEBB957DF5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729E-4C2E-4DFF-ABE5-C2126A16A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07D71-7E63-48A4-8C7F-BDD5ADB9A9E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7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logy and museum techniq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74122-1B74-4777-ACEC-739BBEC14B46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on completion of this chapter, the student will be abl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Define cytopatholog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List various applications of cytopathological diagno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4. Explain the diagnostic techniques used in cytopath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BA612-B357-40A1-8B31-1C700E76DD3B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62485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apter outlin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Cytology and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2 Pathology museum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A4AE-6C42-4429-9045-236098F0DFEE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1  introduction to Cytology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456840" y="1066680"/>
            <a:ext cx="84582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logy is the scientific study of the structure and function of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involves the examination of samples from asymptomatic individuals to detect  premalignant or early malignant chan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tic work involves the assessment of material from patients with established signs or symptoms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 basic premise that the content of a cytology specimen should accurately and reproducibly represent the cell population of the target tissue or le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2906F-308A-48EA-9DC2-9E51918B28EA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09480" y="114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ytopath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ytopathology is the study of cells from various body sites to determine the cause or nature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ain applications of cytopatholog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reening for the early detection of a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nosis of symptomatic canc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up of patients treated for can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FBDF-0AA6-4CBB-9958-8A4458DBD03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6091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t types of cytopathologic method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-needle aspiration cytology (FNAC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Fine-needle aspiration cytology (FN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FNAC, cells are obtained by aspirating from the diseased organ using a very thin needle under negative press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ly any organ or tissue can be sampled by Fine-needle aspi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pirated cells are then stained and are studied under the microsco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ficial organs (example, breast, lymph node, skin and soft tissue) can be easily aspir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995C-BA6B-4D09-B977-9635AA6CC1FF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5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457200" y="533160"/>
            <a:ext cx="830592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ep organ lesions, such as the lung, liver, pancreas, kidneys and adrenal glands are aspirated with guidance by fluoroscopy or ultrasou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e needle aspiration cytology is cheap and fast in diagnosing many diseases e.g., Tuberculosis, lymphoma and oth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Exfoliat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foliative cytology refers to the </a:t>
            </a:r>
            <a:r>
              <a:rPr b="0" lang="en-US" sz="2400" spc="-1" strike="noStrike">
                <a:solidFill>
                  <a:srgbClr val="0070c0"/>
                </a:solidFill>
                <a:latin typeface="Arial"/>
              </a:rPr>
              <a:t>examination of cells that are shed spontaneously in to body fluids or secre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, sputum, cerebrospinal fluid (CSF), urine, effusions in body cavities (pleura, pericardium, peritoneum) and vaginal discharge can be used for the diagnosis of cancer cells and cancer mark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46AD-09A5-4E24-8F5A-5A7C1C76D0B9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895120" y="0"/>
            <a:ext cx="624852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yto…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457200" y="5335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Abrasive cyt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rasive cytology refers to methods by which cells are dislodged by various tools from body surfaces such as skin, mucous membrane, and serous membra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ethod can be used in preparation of samples for cervical smear (Pup smear) for early detection of cancer of theuterine cervi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B528-0EEA-480E-A1E0-DD460F0A3E95}" type="slidenum">
              <a:rPr b="0" lang="en-US" sz="1200" spc="-1" strike="noStrike">
                <a:solidFill>
                  <a:srgbClr val="000000"/>
                </a:solidFill>
                <a:latin typeface="Arial Black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6T00:05:08Z</dcterms:created>
  <dc:creator>Fit</dc:creator>
  <dc:description/>
  <dc:language>en-US</dc:language>
  <cp:lastModifiedBy>DMU</cp:lastModifiedBy>
  <cp:lastPrinted>2019-03-17T06:49:50Z</cp:lastPrinted>
  <dcterms:modified xsi:type="dcterms:W3CDTF">2019-03-17T06:51:43Z</dcterms:modified>
  <cp:revision>15</cp:revision>
  <dc:subject/>
  <dc:title>6.Cytology and museum techniques</dc:title>
</cp:coreProperties>
</file>