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CC86-8649-4BC8-904F-55496D330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CBD0-9F93-47BF-AEB7-55471D771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EFFE-6A36-4709-9DCF-871C074BB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FF68-DEF2-4673-AE97-1510513D7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AAE-6F11-44B1-B283-89F62A1CA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A1BB-3952-4785-BA8F-5BD736526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942E-A517-4F4A-989E-B03BAA72F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4C28-A2B8-4767-A0FC-CAB113131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1592-EA9B-4095-AF97-509B07F02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C1B8-AD82-4E07-A4E0-52220916E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D93F-17AF-46D6-B08A-01C85AF5B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221B-D7CF-465A-BDDB-8D6B345F4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6124-7337-451A-9F2A-A37793605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6E1B-8BE3-4892-A50B-E938D54D6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E8E1-5037-41FB-837C-BC2D346EC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F290-4741-4BEF-AB1D-00A33BD91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5401-403A-4B63-8064-C1536DBA3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4F9E-DC9C-4DB1-9493-9308C40B8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A91E-782C-442B-A188-F04570B32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58B7-5602-4EF7-B829-0733AC991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1545-100B-4235-9219-4409F0B9A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8F6D-C6B2-442A-9199-E5A20DBB5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1F95-0AAE-43F6-BF4E-E08600A87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450A-75A8-4C44-B21D-3CDCBF142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926A-741B-40E8-BA96-E1A01D588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AB2D-4CE0-47BE-B4FD-A4CDA7E1A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C483-6829-4E7D-82E6-16D57DDFC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E51-3136-4453-94C4-A96F2C63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821-74BA-423B-BB04-B563AB8A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0AC-0E15-4E6A-9B05-EEB38DCF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68B-9D06-41D7-9D72-914036BF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224E-6631-488C-9B87-AF734C17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0CA4-0CFF-497B-A6FD-92F1249B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E3A1-E90B-4D49-9087-7023D346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5FB8-4BFC-4DF0-88D7-D5CE2228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9585-D6D3-42B9-9ED6-7C66493D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4B30-E349-4703-BA4D-871FB30B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CD5B-B8A2-4B94-B59E-9F7166D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AE5-4E95-4A9E-994A-0EC6D527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ACAE-2381-406B-ABC3-A713334C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B56C-BEF4-4883-BE89-A03788FC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01D0-E740-487E-9E79-D7AAF972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50AA-D16D-465E-A343-75D2E2CE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E3B7-C368-48D8-878A-0FA35189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8D1C-E007-4E54-80C0-49B1EBA2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B8C3-8974-4F02-8B47-427E7FF3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0A94-CFDB-4EE8-A955-ABDF9113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95C09-6B03-4B80-B0C0-11413BA2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FBFA-64BE-47C6-A455-40C38D45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555-9EF9-440B-BE5E-3924698E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E8413-19E2-4276-BA8D-77588D16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8623-5DE0-4FC8-8187-70EC01D0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FA33-5786-4FC1-A91F-BA07FCC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A81F-F03A-4C3E-B293-355CD7ED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1E2B-80FB-4A82-883D-9DF9198D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4EDD-91E3-4B29-AD89-D25AFEDC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DF77-2532-4499-BB6D-DD9F8DAC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9210-7F6A-40DD-9505-6887517B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3DC20-295D-42BD-AF9E-CD0EF425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E260-6ABF-448D-B7C4-6472B642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90B-5E13-4A21-9AF6-5D921068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096D-4BE0-46B7-8065-A24D56A5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56BA1-78B2-4D59-A949-8C7E3E99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0D539-86C1-42DB-9AE6-343A0EB7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BC67-D906-4334-8837-823AB8A2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1B7D-3249-412B-9C76-B765476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2964-A585-43CC-AB59-68D144BB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7AA5-F4F6-4F14-9373-409D93E0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4CC73-043C-4858-BC96-5F1F5214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1CDF-D181-4A7C-A482-97FD0F1A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B4F0D-A853-4D2E-A1EF-D9F5CE17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B8E-1C54-4F1A-8C12-D58685A4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B7A52-D775-4329-86E0-ED54C6BF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BFE0E-1A66-4F28-B28E-D1D7EF7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41FF4-4476-41EC-8337-03202B7E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F8AAD5-E1D3-4FB2-A63D-495D7FC9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ABD29-C632-4A92-BA8A-FA29ED76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04E6E-BD8C-4835-A655-16978322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A4F6C-98E1-419D-87F8-EA6AA7B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4F2C7-B066-4EC0-9119-90AFD02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62895-3867-436E-9F4E-51AE9B96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22D5F-C3D0-4C5A-9C21-5CBDF051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7DB-1224-4792-B68D-A93E72FA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6DCFE-FA6C-4D5B-A842-1CD52895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D34-4FB2-4A3D-90A5-9ED3ADA6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60F-EAC7-4FF0-90D2-910319C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14D-9DBA-408A-AC0C-96A91CC5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190-929D-461C-85F7-6113D8DAF83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FF65-5D1B-4818-BA37-BA88D51C572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B26-EDD6-4DCE-A9F9-79F24C1B59D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9C38-9D50-4FDC-ABEF-3A1E02A9FD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32BF-DA32-41D4-85A8-71747EDC23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2659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487692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Log window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low the tool bar is the Log window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you run a SAS program, a listing of the program is printed in this window.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lists all the contents of all the programs in order you have submitted for exec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ails concerning the running of the program are printed here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e.g. how much time it too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If the program doesn’t work, SAS prints messages along with the program that indicate where it found erro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G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indow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lists error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&amp;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warning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sulting from your last program submis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og window should always be examined after running a SAS progr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04920" y="43812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alibri"/>
              </a:rPr>
              <a:t>Program Editor window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13336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Once SAS is started, by default the cursor will be located at the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GRAM EDITOR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here that </a:t>
            </a: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the various commands that make up a SAS program are typ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is where you type in your programs, or recall previously written program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is also where you submit your programs for execution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ce a SAS program is typed &amp; edited into the Program Editor window it is ready to be submitted for exec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304920" y="29700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Calibri"/>
              </a:rPr>
              <a:t>Output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If the program runs successfully then the output from the program will appear in the Output window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access the Output window use the menu command Window &amp; click on output or clink on output window at the window bar which is found at the bottom of the scree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window lists the output resulting from execution of your programs. It contains printable results, if any exists, from the SAS procedures you ra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ice that you can toggle between windows by using Window menu from the menu b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b74b"/>
                </a:solidFill>
                <a:latin typeface="Calibri"/>
              </a:rPr>
              <a:t>Function key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other important SAS Application window is the KEYS window, which contains the function key  in th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GRAM EDITOR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o acces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keys press 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F9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the following default settings will be display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762120" y="439560"/>
            <a:ext cx="746748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50292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Calibri"/>
              </a:rPr>
              <a:t>Results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4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results window is structured in such a way that its outputs from program are organized into folders, sub folders, and items within each subfolder for each specific SAS procedure outp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access the SAS output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on Results tab in the SAS workspace window ba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on the plus sign to expand to sub folder &amp; item of your choice 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uble click on an output line of your choice also gives you the same resul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77240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9b74b"/>
                </a:solidFill>
                <a:latin typeface="Calibri"/>
              </a:rPr>
              <a:t>SAS: Statistical Analysis System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AS System is an information delivery system that transforms data into information for better decision-making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AS programming languag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nables you to access &amp; manage your data. For example, you can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ead, transform, format &amp; combine dat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You can also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odify valu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&amp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reate variab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SAS, you use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statement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o write a series of instructions called a SAS program.  The programs are written using the SAS languag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AS workplace enables you to write &amp; edit SAS programs, as well as manage your data &amp; outp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518148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Calibri"/>
              </a:rPr>
              <a:t>Explorer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window which contains a number of SAS reserved &amp; your own libraries which contain SAS data sets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temporari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permanent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SAS environ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b74b"/>
                </a:solidFill>
                <a:latin typeface="Calibri"/>
              </a:rPr>
              <a:t>Exit S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7617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exit SAS you can simply click on the close window symbol in the upper right-hand corner of the Display Manager windo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are then asked if you really want to terminate your SAS sess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respond by clicking OK, then the Display Manager window closes &amp; the SAS session end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course, any programs, logs, or output produced during the SAS session are lost unless they have been sav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Ending your interactive SAS sess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You can end your interactive SAS session using several methods, includ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ing on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the upper right corner of the main SAS wind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sue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Y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SA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mand on the SAS command 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i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file pull-down menu in the main SAS window menu b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LT + F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b74b"/>
                </a:solidFill>
                <a:latin typeface="Calibri"/>
              </a:rPr>
              <a:t>Submitting SAS Programs for exec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SAS program typed into the Program Editor window is submitted for processing b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elect part of the program you want to submit for execution &amp; then do one of the follow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ing on the Submit button from the tool bar (submit icon--          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se submit from the run menu on the menu ba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 the  short cut key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F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 submit on the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command ba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amp; click on the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right ma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38088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Clearing the window and filename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lear a SAS window of its contents, do one of the following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RTL + 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on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dit &gt; Clear a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the command bar and press Ent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ght click on the window whose content you wont to clear &amp; select clear all from the edit men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Getting Help from the command ba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can get help for SAS language elements &amp; SAS products by using the HELP command in the command b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you enter the HELP command, the SAS system help displays help for either the active window or for the type of help you specify in the HELP command argum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4267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9b74b"/>
                </a:solidFill>
                <a:uFillTx/>
                <a:latin typeface="Calibri"/>
              </a:rPr>
              <a:t>Accessing S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Double click on the SAS icon      on the deskto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nstantia"/>
              </a:rPr>
              <a:t>Start -Run</a:t>
            </a: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, fill in the dialog box that pops up with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"C:\Program Files\SAS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Institute\SAS\V9\sas.exe"</a:t>
            </a:r>
            <a:r>
              <a:rPr b="0" lang="en-US" sz="2400" spc="-1" strike="noStrike">
                <a:solidFill>
                  <a:srgbClr val="0000cc"/>
                </a:solidFill>
                <a:latin typeface="Constantia"/>
              </a:rPr>
              <a:t>and hit Enter</a:t>
            </a: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Click on: Start </a:t>
            </a:r>
            <a:r>
              <a:rPr b="1" i="1" lang="en-US" sz="2800" spc="-1" strike="noStrike">
                <a:solidFill>
                  <a:srgbClr val="0000cc"/>
                </a:solidFill>
                <a:latin typeface="Constantia"/>
              </a:rPr>
              <a:t>- </a:t>
            </a: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all programs-the SAS system-the SAS system for windows V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either case, once you have invoked SAS, the Display Manager window (SAS work space) shown in Figure below should be displayed on your scre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52380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90720" y="930240"/>
            <a:ext cx="7391160" cy="561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9" name="Line 5"/>
          <p:cNvSpPr/>
          <p:nvPr/>
        </p:nvSpPr>
        <p:spPr>
          <a:xfrm>
            <a:off x="2362320" y="37339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2209680" y="320040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362320" y="4038480"/>
            <a:ext cx="285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op line of the Display Manager window is called the menu bar. It contains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le, Edit, View, Tools, Run, Solutions, Window, and Help menu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cc"/>
                </a:solidFill>
                <a:latin typeface="Constantia"/>
              </a:rPr>
              <a:t>when the Program Editor window is active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le, Edit, View, Tools, Solutions Window and Help menu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cc"/>
                </a:solidFill>
                <a:latin typeface="Constantia"/>
              </a:rPr>
              <a:t>when the Log window is active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window is made active by clicking on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upper border of an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active window is dark bl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that of an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inactive window is gra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ft-clicking any of the commands in the menu bar produces a drop-down li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low the menu bar is a small window called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commanded ba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ext can be typed &amp; a row of buttons called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tool ba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buttons in the tool bar correspond to frequently used commands that can also be accessed from the drop-down lists in the menu b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 initial scre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1044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066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en you start first SAS, by default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LOG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 &amp;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PROGRAM EDITOR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windows are the only two windows visib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y are split evenly so that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LOG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 window occupies the upper half &amp;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PROGRAM EDITOR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 window occupies the lower half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380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3000" spc="-1" strike="noStrike">
                <a:solidFill>
                  <a:srgbClr val="0000cc"/>
                </a:solidFill>
                <a:latin typeface="Constantia"/>
              </a:rPr>
              <a:t>output window 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is also open &amp; is positioned behind the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LOG &amp;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ROGRAM EDITOR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 window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The other two important windows open and placed behind the output window are </a:t>
            </a:r>
            <a:r>
              <a:rPr b="1" lang="en-US" sz="3000" spc="-1" strike="noStrike">
                <a:solidFill>
                  <a:srgbClr val="0000cc"/>
                </a:solidFill>
                <a:latin typeface="Constantia"/>
              </a:rPr>
              <a:t>explorer &amp; result window.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Currently selected windows are called ACTIVE &amp; they appear in the foreground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0:14:22Z</dcterms:created>
  <dc:creator>USER</dc:creator>
  <dc:description/>
  <dc:language>en-US</dc:language>
  <cp:lastModifiedBy>user</cp:lastModifiedBy>
  <dcterms:modified xsi:type="dcterms:W3CDTF">2019-01-17T19:52:36Z</dcterms:modified>
  <cp:revision>39</cp:revision>
  <dc:subject/>
  <dc:title>Topics to be covered</dc:title>
</cp:coreProperties>
</file>