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B626-EDF2-404C-90BB-982C5B2A5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CFF8-F89C-4F29-9E5C-AEDF4E36F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154C-610F-45B8-982C-028AE8348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7DC2B-8FB0-45C5-BD89-FAEBBF31E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13A4F-7BFE-4831-92CB-9EEACD9A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C619D-DC4B-4D5C-822F-6575CA337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C5E84-3253-4F16-9C9C-69FE505C0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70CC3-27C4-4FE5-A946-B4428F514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10607-8050-4259-871A-3B227BD82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B1941-D27E-4A30-B276-63408C03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E2A45-48AA-42AB-B349-68839E9AA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0B562-F4A9-4833-B471-AC859B7B7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B64FB-C8AF-41BE-A8F0-B0524CD5B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3781-5EF1-4880-9E05-3223B5763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FE33E-1CCE-45C9-89D9-90D9E5D0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A28A-9382-4016-986B-962E48565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6283E-03C7-4F92-A5DB-83A2594A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E880-B8D3-4626-B695-C5FFB08F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42F15-FDA8-4B02-8354-73841E92F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97BDE-823C-41E5-A28B-CCB4CD720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59494F-585C-4823-A812-3181BA75F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719AE-409F-4FF1-BC31-137ED9DC9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CAA34-ABE7-44D4-AFA9-79EB62A6E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1B485-1427-45D8-860C-92136BC7B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F0931-A12E-4AAD-A48C-ABD9FDFF5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8D08-079C-4CBB-A1F3-754F2C3F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5C63B-DA6F-4A17-9C17-3DB7C494A8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E68D6-FCE6-493D-AA79-CD5C3C768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5F8F8-015C-433B-965C-390C6B462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A929A-E95E-4B58-A276-A43EE8664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22D23-C163-4588-A6EA-7A715427E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FE9E61-6EE0-4ECD-AAE7-4EE149A95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72647-0C5E-4A6E-B20F-FB0126EBE0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FE0DC-A73F-4A11-B26E-AFDCCA38E0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FE992-B946-4C32-9183-2A836ED98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9958E-9066-4D89-BA23-FA0AE6EF5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1562-9B74-4C24-9A45-E8875958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B652D-D133-4692-8695-3320EC376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40413-DE22-48FE-9B15-12FD17601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2853F-11FF-4ED8-AD3A-E10BE18D5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CADBB-708E-4F6F-B548-2980C2560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3635A-B217-4036-8142-DD9C34A33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FB5C7-B4CB-4FA1-8873-E32DDBC2B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145EC-8D35-4A2F-B502-A5CC64019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1BF0FC-B954-4CAC-86CA-4A49238ACB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D6F9B-FB89-4ED2-9F47-B66785355D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4F312-4509-41CD-AD3A-98F3BAF42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0D8BF-75E6-4838-8EEB-46CFE6B09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5B207-8C27-4091-B596-5C7DBC8CC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7F82C-9CD3-4429-A8B4-8B626BBCF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130869-B06A-4F40-A102-1C13B3AA40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B2BE3-07B9-4C1B-9ED8-6FFB2DA7B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C3C4DC-1D39-4709-9483-76A3886A5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DC76C-6BD8-4710-8A5D-3BCF00036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EDC02-46D6-4A0A-9C09-1D2BD314F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78667-59C7-4562-9650-E95E9F02E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77B21-2484-4A12-81EC-43E5A6FA5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1AA32B-19B1-4EE9-916A-D23B61547A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C07A-30AC-4595-8C3D-B1411046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0DF8ED-7B51-43BA-B2EE-958AE6E86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61ED-AEE6-4877-9D15-582E750D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B959-EA7B-4845-8DA7-0AC43D04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2DDF-F7E5-4206-B02E-BD4FCA6E4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4419-D538-4617-BB74-7CC0539F156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1141-4DC0-436C-B49E-271B883151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D452-35F2-441C-87B7-D4F3CB03E6F0}"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D5AE-D42F-4E48-A8A4-97174AB880D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2D36-D239-47E7-A50B-5EA82B7425C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063E-CFD0-408D-89A7-FE74067CA7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93DD-E899-4885-AA3C-CFD198BAE6F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7171-8D2B-4909-A9C5-722BF15F9E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3E88-11B9-4424-B887-8CDA830F740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60CD-6CBF-4337-8CF2-CEE59351BC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72E0-5F94-496E-8126-41AFA51C19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E90B-F0DB-4476-A26E-0C3C9CB37F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257400"/>
            <a:ext cx="8458200" cy="614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One factor experiments </a:t>
            </a:r>
            <a:endParaRPr b="0" lang="en-US" sz="24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 Analysis of variance, the simplest case involves analyzing the effects of a </a:t>
            </a:r>
            <a:r>
              <a:rPr b="1" i="1" lang="en-US" sz="1800" spc="-1" strike="noStrike" u="sng">
                <a:solidFill>
                  <a:srgbClr val="000000"/>
                </a:solidFill>
                <a:uFillTx/>
                <a:latin typeface="Arial"/>
                <a:ea typeface="Arial"/>
              </a:rPr>
              <a:t>single factor on the continuous response variabl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AEF1-8966-440E-AE34-F9263FEA82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1"/>
          <p:cNvSpPr/>
          <p:nvPr/>
        </p:nvSpPr>
        <p:spPr>
          <a:xfrm>
            <a:off x="304920" y="179280"/>
            <a:ext cx="8381880" cy="5762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B5D3-38B2-4B1C-8A04-5F6C92C227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1"/>
          <p:cNvSpPr/>
          <p:nvPr/>
        </p:nvSpPr>
        <p:spPr>
          <a:xfrm>
            <a:off x="304920" y="254880"/>
            <a:ext cx="8381880" cy="5579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Example of CRD experiment </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343080" indent="-34308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343080" indent="-34308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A46B-DFD9-4EE3-8886-814AA94950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BCB9-4664-40CD-956E-B15B5BC2C8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0"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1"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7B96-F682-497A-A439-6902BD5317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1"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82EA-AF8E-4048-BEBE-EA63090AE4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3"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2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2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2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D086-6A23-41F5-9D7B-3CEC52D3B7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1"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749A-6383-4705-9556-EB6B78012A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2"/>
          <p:cNvSpPr/>
          <p:nvPr/>
        </p:nvSpPr>
        <p:spPr>
          <a:xfrm>
            <a:off x="304920" y="152280"/>
            <a:ext cx="8458200" cy="627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comparison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above example,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  </a:t>
            </a:r>
            <a:endParaRPr b="0" lang="en-US" sz="18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BCB1-4F9F-414A-9460-EF30B21635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2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303" name="Picture 7" descr=""/>
          <p:cNvPicPr/>
          <p:nvPr/>
        </p:nvPicPr>
        <p:blipFill>
          <a:blip r:embed="rId1"/>
          <a:stretch/>
        </p:blipFill>
        <p:spPr>
          <a:xfrm>
            <a:off x="1981080" y="4191120"/>
            <a:ext cx="1325520" cy="304560"/>
          </a:xfrm>
          <a:prstGeom prst="rect">
            <a:avLst/>
          </a:prstGeom>
          <a:ln w="0">
            <a:noFill/>
          </a:ln>
        </p:spPr>
      </p:pic>
      <p:sp>
        <p:nvSpPr>
          <p:cNvPr id="30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30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070C-BD46-478C-B7BC-C851E7A715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DA2D-6834-4BB9-9349-F8299DAA1E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30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31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1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2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32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30" name="Rectangle 1"/>
          <p:cNvSpPr/>
          <p:nvPr/>
        </p:nvSpPr>
        <p:spPr>
          <a:xfrm>
            <a:off x="914400" y="4731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31" name="Object 2"/>
              <p:cNvSpPr txBox="1"/>
              <p:nvPr/>
            </p:nvSpPr>
            <p:spPr>
              <a:xfrm>
                <a:off x="3429000" y="51814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32" name="Object 4"/>
              <p:cNvSpPr txBox="1"/>
              <p:nvPr/>
            </p:nvSpPr>
            <p:spPr>
              <a:xfrm>
                <a:off x="5181480" y="525780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D2CB-AEF7-4AB5-A0B2-0D75FF396C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533520" y="304920"/>
            <a:ext cx="8153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C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S program for the example of average milk yield/lactation  of cows is as follows. </a:t>
            </a:r>
            <a:endParaRPr b="0" lang="en-US" sz="1600" spc="-1" strike="noStrike">
              <a:solidFill>
                <a:srgbClr val="000000"/>
              </a:solidFill>
              <a:latin typeface="Arial"/>
            </a:endParaRPr>
          </a:p>
        </p:txBody>
      </p:sp>
      <p:sp>
        <p:nvSpPr>
          <p:cNvPr id="335" name="Rectangle 3"/>
          <p:cNvSpPr/>
          <p:nvPr/>
        </p:nvSpPr>
        <p:spPr>
          <a:xfrm>
            <a:off x="1295280" y="2887560"/>
            <a:ext cx="6400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 yiel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30   2  440  3  4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40   2  455  3  4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0   2  462  3  5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8   2  471  3  5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72   2  485  3  5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yield =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6" name=""/>
          <p:cNvGraphicFramePr/>
          <p:nvPr/>
        </p:nvGraphicFramePr>
        <p:xfrm>
          <a:off x="533520" y="914400"/>
          <a:ext cx="6858000" cy="1951200"/>
        </p:xfrm>
        <a:graphic>
          <a:graphicData uri="http://schemas.openxmlformats.org/drawingml/2006/table">
            <a:tbl>
              <a:tblPr/>
              <a:tblGrid>
                <a:gridCol w="1224000"/>
                <a:gridCol w="1125360"/>
                <a:gridCol w="2433600"/>
                <a:gridCol w="2075040"/>
              </a:tblGrid>
              <a:tr h="30312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208D-E386-4115-AFB3-9632219E64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914400" y="2005920"/>
            <a:ext cx="7848720" cy="447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um o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Square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Model                        2      7480.93333      3740.4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Error                       12      3792.40000       316.0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orrected Total             14     11273.3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R-Square     Coeff Var      Root MSE    yield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0.663596      3.769044      17.77733      471.66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I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p:txBody>
      </p:sp>
      <p:sp>
        <p:nvSpPr>
          <p:cNvPr id="339" name="Rectangle 2"/>
          <p:cNvSpPr/>
          <p:nvPr/>
        </p:nvSpPr>
        <p:spPr>
          <a:xfrm>
            <a:off x="1295280" y="160200"/>
            <a:ext cx="59436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s    Val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3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Read          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Used          15</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9157-6E43-4291-929C-2F824FB535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685800" y="712080"/>
            <a:ext cx="70866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Adjustment for Multiple Comparisons: Tu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tandard                  LS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yield LSMEAN           Error    Pr &gt; |t|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450.000000        7.950262</a:t>
            </a:r>
            <a:r>
              <a:rPr b="0" lang="en-US" sz="1600" spc="-1" strike="noStrike">
                <a:solidFill>
                  <a:srgbClr val="000000"/>
                </a:solidFill>
                <a:latin typeface="Calibri"/>
                <a:ea typeface="Times New Roman"/>
              </a:rPr>
              <a:t>      &lt;.000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462.600000        7.950262      </a:t>
            </a:r>
            <a:r>
              <a:rPr b="0" lang="en-US" sz="1600" spc="-1" strike="noStrike">
                <a:solidFill>
                  <a:srgbClr val="000000"/>
                </a:solidFill>
                <a:latin typeface="Calibri"/>
                <a:ea typeface="Times New Roman"/>
              </a:rPr>
              <a:t>&lt;.0001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502.400000        7.950262      </a:t>
            </a:r>
            <a:r>
              <a:rPr b="0" lang="en-US" sz="1600" spc="-1" strike="noStrike">
                <a:solidFill>
                  <a:srgbClr val="000000"/>
                </a:solidFill>
                <a:latin typeface="Calibri"/>
                <a:ea typeface="Times New Roman"/>
              </a:rPr>
              <a:t>&lt;.0001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 for Effect t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 for H0: LSMean(i)=LSMean(j) / Pr &gt;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i/j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xxxx            </a:t>
            </a:r>
            <a:r>
              <a:rPr b="1" lang="en-US" sz="1600" spc="-1" strike="noStrike">
                <a:solidFill>
                  <a:srgbClr val="c00000"/>
                </a:solidFill>
                <a:latin typeface="Calibri"/>
                <a:ea typeface="Times New Roman"/>
              </a:rPr>
              <a:t>0.5202 </a:t>
            </a:r>
            <a:r>
              <a:rPr b="1" lang="en-US" sz="1600" spc="-1" strike="noStrike">
                <a:solidFill>
                  <a:srgbClr val="000000"/>
                </a:solidFill>
                <a:latin typeface="Calibri"/>
                <a:ea typeface="Times New Roman"/>
              </a:rPr>
              <a:t>         </a:t>
            </a:r>
            <a:r>
              <a:rPr b="1" lang="en-US" sz="1600" spc="-1" strike="noStrike">
                <a:solidFill>
                  <a:srgbClr val="00b050"/>
                </a:solidFill>
                <a:latin typeface="Calibri"/>
                <a:ea typeface="Times New Roman"/>
              </a:rPr>
              <a:t>0.00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0.5202          xxxx              </a:t>
            </a:r>
            <a:r>
              <a:rPr b="1" lang="en-US" sz="1600" spc="-1" strike="noStrike">
                <a:solidFill>
                  <a:srgbClr val="00b050"/>
                </a:solidFill>
                <a:latin typeface="Calibri"/>
                <a:ea typeface="Times New Roman"/>
              </a:rPr>
              <a:t>0.010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0.0015        0.0105             x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50FF-C686-4BD3-A7B9-5C03445635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2"/>
          <p:cNvSpPr/>
          <p:nvPr/>
        </p:nvSpPr>
        <p:spPr>
          <a:xfrm>
            <a:off x="609480" y="380880"/>
            <a:ext cx="8001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E3C5-D7C7-4320-9F9A-B4ED867CBF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5"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5DD9-56F7-4BB1-B6BD-1A16EA4955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457200" y="5335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48" name=""/>
          <p:cNvGraphicFramePr/>
          <p:nvPr/>
        </p:nvGraphicFramePr>
        <p:xfrm>
          <a:off x="838080" y="251460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D890-A0D7-4460-89B9-98D6441245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0" name="Rectangle 9"/>
          <p:cNvSpPr/>
          <p:nvPr/>
        </p:nvSpPr>
        <p:spPr>
          <a:xfrm>
            <a:off x="844200" y="61020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51" name="Picture 10" descr=""/>
          <p:cNvPicPr/>
          <p:nvPr/>
        </p:nvPicPr>
        <p:blipFill>
          <a:blip r:embed="rId1"/>
          <a:stretch/>
        </p:blipFill>
        <p:spPr>
          <a:xfrm>
            <a:off x="838080" y="1066680"/>
            <a:ext cx="6924960" cy="1600200"/>
          </a:xfrm>
          <a:prstGeom prst="rect">
            <a:avLst/>
          </a:prstGeom>
          <a:ln w="0">
            <a:noFill/>
          </a:ln>
        </p:spPr>
      </p:pic>
      <p:sp>
        <p:nvSpPr>
          <p:cNvPr id="352" name="Rectangle 9"/>
          <p:cNvSpPr/>
          <p:nvPr/>
        </p:nvSpPr>
        <p:spPr>
          <a:xfrm>
            <a:off x="1447920" y="2784960"/>
            <a:ext cx="6019560" cy="3453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700" spc="-1" strike="noStrike">
                <a:solidFill>
                  <a:srgbClr val="000000"/>
                </a:solidFill>
                <a:latin typeface="Arial"/>
                <a:ea typeface="Times New Roman"/>
              </a:rPr>
              <a:t>where, </a:t>
            </a:r>
            <a:endParaRPr b="0" lang="en-US" sz="1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S =  sum of square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E0AC-B98D-40B3-B385-56257D2393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55"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22CD-7CE1-4C0B-87B0-B92E2B36FE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9"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6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64"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E69A-EB04-443D-8F64-5AA2BF629C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A70B-B173-4F27-9904-AE15C0A156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6"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67"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8"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1E87-5D6A-426A-AA17-9888362DFB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71"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3B08-1DCB-424A-BED8-307DE68E41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75"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76"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77"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78"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79"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8897-908C-4635-9F8D-6C248AA4A4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Block 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S program for the example of average daily gain of steers is as follows. </a:t>
            </a:r>
            <a:endParaRPr b="0" lang="en-US" sz="1800" spc="-1" strike="noStrike">
              <a:solidFill>
                <a:srgbClr val="000000"/>
              </a:solidFill>
              <a:latin typeface="Arial"/>
            </a:endParaRPr>
          </a:p>
        </p:txBody>
      </p:sp>
      <p:sp>
        <p:nvSpPr>
          <p:cNvPr id="382" name="Rectangle 3"/>
          <p:cNvSpPr/>
          <p:nvPr/>
        </p:nvSpPr>
        <p:spPr>
          <a:xfrm>
            <a:off x="1219320" y="2971800"/>
            <a:ext cx="6400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block $ d_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 826 1 II 865 1 III 795 1 IV 8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 827 2 II 872 2 III 721 2 IV 8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 753 3 II 804 3 III 737 3 IV 8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_gain = block t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914400" y="609480"/>
            <a:ext cx="5943600" cy="193356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3722-C3DC-4F4C-90AA-8484C32C6A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1295280" y="302760"/>
            <a:ext cx="70866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s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4    I II III I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3    1 2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Rea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Use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AS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pendent Variable: </a:t>
            </a:r>
            <a:r>
              <a:rPr b="0" lang="en-US" sz="1200" spc="-1" strike="noStrike">
                <a:solidFill>
                  <a:srgbClr val="000000"/>
                </a:solidFill>
                <a:latin typeface="Arial"/>
              </a:rPr>
              <a:t>d_ga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m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Square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odel                        5          24734.00000      4946.80000        8.08          0.0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rror                          6          3672.00000        612.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rrected Total         11         28406.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Square     Coeff Var      Root MSE     </a:t>
            </a:r>
            <a:r>
              <a:rPr b="0" lang="en-US" sz="1200" spc="-1" strike="noStrike">
                <a:solidFill>
                  <a:srgbClr val="000000"/>
                </a:solidFill>
                <a:latin typeface="Arial"/>
              </a:rPr>
              <a:t>d_gain</a:t>
            </a:r>
            <a:r>
              <a:rPr b="0" lang="en-US" sz="1200" spc="-1" strike="noStrike">
                <a:solidFill>
                  <a:srgbClr val="000000"/>
                </a:solidFill>
                <a:latin typeface="Arial"/>
                <a:ea typeface="Times New Roman"/>
              </a:rPr>
              <a:t> M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870732      3.050386      24.73863      811.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I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EE7B-9512-4D07-9FA9-781D4A8AFD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1"/>
          <p:cNvSpPr/>
          <p:nvPr/>
        </p:nvSpPr>
        <p:spPr>
          <a:xfrm>
            <a:off x="1066680" y="508680"/>
            <a:ext cx="716292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23548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Arial"/>
                <a:ea typeface="Times New Roman"/>
              </a:rPr>
              <a:t>The SAS System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 GLM Procedure</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djustment for Multiple Comparisons: Tukey</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ndard                  LSMEA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rt     gain LSMEAN           Error    Pr &gt; |t|      Number</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834.000000       12.369317      &lt;.0001           1</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820.000000       12.369317      &lt;.0001           2</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779.000000       12.369317      &lt;.0001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 for Effect tr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 for H0: LSMean(i)=LSMean(j) / Pr &gt; |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pendent Variable: </a:t>
            </a:r>
            <a:r>
              <a:rPr b="0" lang="en-US" sz="1400" spc="-1" strike="noStrike">
                <a:solidFill>
                  <a:srgbClr val="000000"/>
                </a:solidFill>
                <a:latin typeface="Arial"/>
              </a:rPr>
              <a:t>d_gai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j          1                        2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xxxx                0.7165       0.045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0.7165              xxxx         0.124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0.0456             0.1246         xxxx</a:t>
            </a:r>
            <a:endParaRPr b="0" lang="en-US" sz="14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91FE-0FF2-44C9-A557-69E0116B7A6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9" name="Rectangle 2"/>
          <p:cNvSpPr/>
          <p:nvPr/>
        </p:nvSpPr>
        <p:spPr>
          <a:xfrm>
            <a:off x="533520" y="228600"/>
            <a:ext cx="8001000" cy="618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 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square design is an experimental design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4BB7-92F1-42F9-8C29-0A55B50831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5542-21D0-463A-B7DE-C48733C3B9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609480" y="457200"/>
            <a:ext cx="8077320" cy="642600"/>
          </a:xfrm>
          <a:prstGeom prst="rect">
            <a:avLst/>
          </a:prstGeom>
          <a:noFill/>
          <a:ln w="0">
            <a:noFill/>
          </a:ln>
        </p:spPr>
        <p:style>
          <a:lnRef idx="0"/>
          <a:fillRef idx="0"/>
          <a:effectRef idx="0"/>
          <a:fontRef idx="minor"/>
        </p:style>
        <p:txBody>
          <a:bodyPr lIns="90000" rIns="90000" tIns="46800" bIns="46800" anchor="t">
            <a:spAutoFit/>
          </a:bodyPr>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treatments are denoted with </a:t>
            </a:r>
            <a:r>
              <a:rPr b="0" lang="en-US" sz="1800" spc="-1" strike="noStrike">
                <a:solidFill>
                  <a:srgbClr val="000000"/>
                </a:solidFill>
                <a:latin typeface="Arial"/>
              </a:rPr>
              <a:t>capital letters (A, B, C, D, etc.) then examples of 3 x 3 and 4 x 4 Latin squares are:</a:t>
            </a:r>
            <a:endParaRPr b="0" lang="en-US" sz="1800" spc="-1" strike="noStrike">
              <a:solidFill>
                <a:srgbClr val="000000"/>
              </a:solidFill>
              <a:latin typeface="Arial"/>
            </a:endParaRPr>
          </a:p>
        </p:txBody>
      </p:sp>
      <p:graphicFrame>
        <p:nvGraphicFramePr>
          <p:cNvPr id="394" name=""/>
          <p:cNvGraphicFramePr/>
          <p:nvPr/>
        </p:nvGraphicFramePr>
        <p:xfrm>
          <a:off x="1600200" y="1447920"/>
          <a:ext cx="1752480" cy="1625400"/>
        </p:xfrm>
        <a:graphic>
          <a:graphicData uri="http://schemas.openxmlformats.org/drawingml/2006/table">
            <a:tbl>
              <a:tblPr/>
              <a:tblGrid>
                <a:gridCol w="431640"/>
                <a:gridCol w="432000"/>
                <a:gridCol w="444600"/>
                <a:gridCol w="44424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5" name=""/>
          <p:cNvGraphicFramePr/>
          <p:nvPr/>
        </p:nvGraphicFramePr>
        <p:xfrm>
          <a:off x="5029200" y="1523880"/>
          <a:ext cx="1905120" cy="1575000"/>
        </p:xfrm>
        <a:graphic>
          <a:graphicData uri="http://schemas.openxmlformats.org/drawingml/2006/table">
            <a:tbl>
              <a:tblPr/>
              <a:tblGrid>
                <a:gridCol w="476280"/>
                <a:gridCol w="476280"/>
                <a:gridCol w="476280"/>
                <a:gridCol w="476280"/>
              </a:tblGrid>
              <a:tr h="3938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6" name=""/>
          <p:cNvGraphicFramePr/>
          <p:nvPr/>
        </p:nvGraphicFramePr>
        <p:xfrm>
          <a:off x="1600200" y="3733920"/>
          <a:ext cx="2181240" cy="190476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
          <p:cNvGraphicFramePr/>
          <p:nvPr/>
        </p:nvGraphicFramePr>
        <p:xfrm>
          <a:off x="5257800" y="3733920"/>
          <a:ext cx="2133720" cy="1904760"/>
        </p:xfrm>
        <a:graphic>
          <a:graphicData uri="http://schemas.openxmlformats.org/drawingml/2006/table">
            <a:tbl>
              <a:tblPr/>
              <a:tblGrid>
                <a:gridCol w="426960"/>
                <a:gridCol w="426960"/>
                <a:gridCol w="425520"/>
                <a:gridCol w="426960"/>
                <a:gridCol w="42732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93D1-327F-4264-9E23-78442326E9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9"/>
          <p:cNvSpPr/>
          <p:nvPr/>
        </p:nvSpPr>
        <p:spPr>
          <a:xfrm>
            <a:off x="457200" y="163080"/>
            <a:ext cx="8153280" cy="247104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atin square design is illustrated by the following </a:t>
            </a:r>
            <a:r>
              <a:rPr b="0" lang="en-US" sz="1800" spc="-1" strike="noStrike">
                <a:solidFill>
                  <a:srgbClr val="000000"/>
                </a:solidFill>
                <a:latin typeface="Arial"/>
              </a:rPr>
              <a:t>4 x 4 Latin squares practical exampl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400"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4FAE-95EF-49C5-AD2F-D2A56FA3ED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28B3-E43C-42AF-B614-2CCEB44B72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064C-06B4-4A69-9CDF-D6031409373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9"/>
          <p:cNvSpPr/>
          <p:nvPr/>
        </p:nvSpPr>
        <p:spPr>
          <a:xfrm>
            <a:off x="768240" y="30564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405" name="Picture 1" descr=""/>
          <p:cNvPicPr/>
          <p:nvPr/>
        </p:nvPicPr>
        <p:blipFill>
          <a:blip r:embed="rId1"/>
          <a:stretch/>
        </p:blipFill>
        <p:spPr>
          <a:xfrm>
            <a:off x="380880" y="762120"/>
            <a:ext cx="7210440" cy="2286000"/>
          </a:xfrm>
          <a:prstGeom prst="rect">
            <a:avLst/>
          </a:prstGeom>
          <a:ln w="0">
            <a:noFill/>
          </a:ln>
        </p:spPr>
      </p:pic>
      <p:pic>
        <p:nvPicPr>
          <p:cNvPr id="406" name="Picture 2" descr=""/>
          <p:cNvPicPr/>
          <p:nvPr/>
        </p:nvPicPr>
        <p:blipFill>
          <a:blip r:embed="rId2"/>
          <a:stretch/>
        </p:blipFill>
        <p:spPr>
          <a:xfrm>
            <a:off x="1143000" y="3352680"/>
            <a:ext cx="4800600" cy="838440"/>
          </a:xfrm>
          <a:prstGeom prst="rect">
            <a:avLst/>
          </a:prstGeom>
          <a:ln w="0">
            <a:noFill/>
          </a:ln>
        </p:spPr>
      </p:pic>
      <p:sp>
        <p:nvSpPr>
          <p:cNvPr id="407" name="Rectangle 3"/>
          <p:cNvSpPr/>
          <p:nvPr/>
        </p:nvSpPr>
        <p:spPr>
          <a:xfrm>
            <a:off x="1295280" y="4245120"/>
            <a:ext cx="4648320" cy="225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
        <p:nvSpPr>
          <p:cNvPr id="408" name="Rectangle 6"/>
          <p:cNvSpPr/>
          <p:nvPr/>
        </p:nvSpPr>
        <p:spPr>
          <a:xfrm>
            <a:off x="687600" y="32767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C997-EFB6-4080-9030-0FCF24F2A5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1" descr=""/>
          <p:cNvPicPr/>
          <p:nvPr/>
        </p:nvPicPr>
        <p:blipFill>
          <a:blip r:embed="rId1"/>
          <a:stretch/>
        </p:blipFill>
        <p:spPr>
          <a:xfrm>
            <a:off x="380880" y="304920"/>
            <a:ext cx="7526520" cy="1600200"/>
          </a:xfrm>
          <a:prstGeom prst="rect">
            <a:avLst/>
          </a:prstGeom>
          <a:ln w="0">
            <a:noFill/>
          </a:ln>
        </p:spPr>
      </p:pic>
      <p:sp>
        <p:nvSpPr>
          <p:cNvPr id="411" name="Rectangle 4"/>
          <p:cNvSpPr/>
          <p:nvPr/>
        </p:nvSpPr>
        <p:spPr>
          <a:xfrm>
            <a:off x="533520" y="21337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12" name="Picture 2" descr=""/>
          <p:cNvPicPr/>
          <p:nvPr/>
        </p:nvPicPr>
        <p:blipFill>
          <a:blip r:embed="rId2"/>
          <a:stretch/>
        </p:blipFill>
        <p:spPr>
          <a:xfrm>
            <a:off x="2666880" y="3124080"/>
            <a:ext cx="1752840" cy="731880"/>
          </a:xfrm>
          <a:prstGeom prst="rect">
            <a:avLst/>
          </a:prstGeom>
          <a:ln w="0">
            <a:noFill/>
          </a:ln>
        </p:spPr>
      </p:pic>
      <p:sp>
        <p:nvSpPr>
          <p:cNvPr id="413" name="Rectangle 6"/>
          <p:cNvSpPr/>
          <p:nvPr/>
        </p:nvSpPr>
        <p:spPr>
          <a:xfrm>
            <a:off x="533520" y="388620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7532-23B0-4D14-B3EB-BD980A2277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7"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4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9"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42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1"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2"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3"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34A9-0699-48AB-A673-1FBC7844F8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5"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26"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27"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DE95-CA01-4A2F-A6F4-EFB8A1346A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9" name="Picture 4" descr=""/>
          <p:cNvPicPr/>
          <p:nvPr/>
        </p:nvPicPr>
        <p:blipFill>
          <a:blip r:embed="rId1"/>
          <a:stretch/>
        </p:blipFill>
        <p:spPr>
          <a:xfrm>
            <a:off x="990720" y="762120"/>
            <a:ext cx="4459320" cy="1143000"/>
          </a:xfrm>
          <a:prstGeom prst="rect">
            <a:avLst/>
          </a:prstGeom>
          <a:ln w="0">
            <a:noFill/>
          </a:ln>
        </p:spPr>
      </p:pic>
      <p:pic>
        <p:nvPicPr>
          <p:cNvPr id="430" name="Picture 2" descr=""/>
          <p:cNvPicPr/>
          <p:nvPr/>
        </p:nvPicPr>
        <p:blipFill>
          <a:blip r:embed="rId2"/>
          <a:stretch/>
        </p:blipFill>
        <p:spPr>
          <a:xfrm>
            <a:off x="1295280" y="3048120"/>
            <a:ext cx="3886200" cy="907920"/>
          </a:xfrm>
          <a:prstGeom prst="rect">
            <a:avLst/>
          </a:prstGeom>
          <a:ln w="0">
            <a:noFill/>
          </a:ln>
        </p:spPr>
      </p:pic>
      <p:sp>
        <p:nvSpPr>
          <p:cNvPr id="431"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32"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33"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4"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35"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36"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2400-26EB-4B97-B6C7-1253BEE7D8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8" name="Rectangle 2"/>
          <p:cNvSpPr/>
          <p:nvPr/>
        </p:nvSpPr>
        <p:spPr>
          <a:xfrm>
            <a:off x="2438280" y="1752480"/>
            <a:ext cx="5913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eriod steer suppl $ h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B  10.0    3  1  D   8.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D  9.0      3  2  B   1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3  C  11.1    3  3  A   1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A  10.8    3  4  C   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C  10.2    4  1  A   1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2  A   11.3    4  2  C   1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3  D  9.5      4  3  B   1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B  11.4     4  4  D   9.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G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hay =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suppl / PDIFF STDERR ADJUST=TU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p:txBody>
      </p:sp>
      <p:sp>
        <p:nvSpPr>
          <p:cNvPr id="439" name="Rectangle 3"/>
          <p:cNvSpPr/>
          <p:nvPr/>
        </p:nvSpPr>
        <p:spPr>
          <a:xfrm>
            <a:off x="533520" y="182880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S program:</a:t>
            </a:r>
            <a:endParaRPr b="0" lang="en-US" sz="1600" spc="-1" strike="noStrike">
              <a:solidFill>
                <a:srgbClr val="000000"/>
              </a:solidFill>
              <a:latin typeface="Arial"/>
            </a:endParaRPr>
          </a:p>
        </p:txBody>
      </p:sp>
      <p:graphicFrame>
        <p:nvGraphicFramePr>
          <p:cNvPr id="440" name=""/>
          <p:cNvGraphicFramePr/>
          <p:nvPr/>
        </p:nvGraphicFramePr>
        <p:xfrm>
          <a:off x="1447920" y="304920"/>
          <a:ext cx="5578200" cy="1407960"/>
        </p:xfrm>
        <a:graphic>
          <a:graphicData uri="http://schemas.openxmlformats.org/drawingml/2006/table">
            <a:tbl>
              <a:tblPr/>
              <a:tblGrid>
                <a:gridCol w="1130040"/>
                <a:gridCol w="1130400"/>
                <a:gridCol w="1130400"/>
                <a:gridCol w="1131840"/>
                <a:gridCol w="1055520"/>
              </a:tblGrid>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eriod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te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0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0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2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3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8.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2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2.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0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7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9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D973-E55E-4924-90CD-07DE85EE80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2" name="Rectangle 1"/>
          <p:cNvSpPr/>
          <p:nvPr/>
        </p:nvSpPr>
        <p:spPr>
          <a:xfrm>
            <a:off x="1295280" y="414000"/>
            <a:ext cx="754380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s    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4    A B C 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Rea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Use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m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Square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Model                        9     17.09562500      1.89951389      13.12    0.00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Error                        6      0.86875000      0.144791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orrected Total             15     17.96437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R-Square     Coeff Var      Root MSE      hay 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0.951640      3.562458      0.380515      10.681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Type 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3      1.48187500      0.49395833       3.41    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3      3.59187500      1.19729167       8.27    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3     12.02187500      4.00729167      27.68    0.0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ource                      DF     Type II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period                      3      1.48187500      0.49395833         3.41           </a:t>
            </a:r>
            <a:r>
              <a:rPr b="1" lang="en-US" sz="1400" spc="-1" strike="noStrike">
                <a:solidFill>
                  <a:srgbClr val="c00000"/>
                </a:solidFill>
                <a:latin typeface="Calibri"/>
                <a:ea typeface="Times New Roman"/>
              </a:rPr>
              <a:t>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eer                         3      3.59187500      1.19729167         8.27          </a:t>
            </a:r>
            <a:r>
              <a:rPr b="1" lang="en-US" sz="1400" spc="-1" strike="noStrike">
                <a:solidFill>
                  <a:srgbClr val="00b050"/>
                </a:solidFill>
                <a:latin typeface="Calibri"/>
                <a:ea typeface="Times New Roman"/>
              </a:rPr>
              <a:t>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3     12.02187500      4.00729167        27.68        </a:t>
            </a:r>
            <a:r>
              <a:rPr b="1" lang="en-US" sz="1400" spc="-1" strike="noStrike">
                <a:solidFill>
                  <a:srgbClr val="00b050"/>
                </a:solidFill>
                <a:latin typeface="Calibri"/>
                <a:ea typeface="Times New Roman"/>
              </a:rPr>
              <a:t>0.0007</a:t>
            </a:r>
            <a:endParaRPr b="0" lang="en-US" sz="14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D638-503C-4CF3-A307-4FC0FFB243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4" name="Rectangle 1"/>
          <p:cNvSpPr/>
          <p:nvPr/>
        </p:nvSpPr>
        <p:spPr>
          <a:xfrm>
            <a:off x="990720" y="253440"/>
            <a:ext cx="7543800" cy="478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hay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                 </a:t>
            </a:r>
            <a:r>
              <a:rPr b="1" lang="en-US" sz="1400" spc="-1" strike="noStrike">
                <a:solidFill>
                  <a:srgbClr val="000000"/>
                </a:solidFill>
                <a:latin typeface="Calibri"/>
                <a:ea typeface="Times New Roman"/>
              </a:rPr>
              <a:t>11.5000000       0.1902575          </a:t>
            </a:r>
            <a:r>
              <a:rPr b="0" lang="en-US" sz="1400" spc="-1" strike="noStrike">
                <a:solidFill>
                  <a:srgbClr val="000000"/>
                </a:solidFill>
                <a:latin typeface="Calibri"/>
                <a:ea typeface="Times New Roman"/>
              </a:rPr>
              <a:t>&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B                 11.0750000       0.1902575           </a:t>
            </a:r>
            <a:r>
              <a:rPr b="0" lang="en-US" sz="1400" spc="-1" strike="noStrike">
                <a:solidFill>
                  <a:srgbClr val="000000"/>
                </a:solidFill>
                <a:latin typeface="Calibri"/>
                <a:ea typeface="Times New Roman"/>
              </a:rPr>
              <a:t>&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C                 10.9250000       0.1902575            </a:t>
            </a:r>
            <a:r>
              <a:rPr b="0" lang="en-US" sz="1400" spc="-1" strike="noStrike">
                <a:solidFill>
                  <a:srgbClr val="000000"/>
                </a:solidFill>
                <a:latin typeface="Calibri"/>
                <a:ea typeface="Times New Roman"/>
              </a:rPr>
              <a:t>&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                  9.2250000       0.1902575             </a:t>
            </a:r>
            <a:r>
              <a:rPr b="0" lang="en-US" sz="1400" spc="-1" strike="noStrike">
                <a:solidFill>
                  <a:srgbClr val="000000"/>
                </a:solidFill>
                <a:latin typeface="Calibri"/>
                <a:ea typeface="Times New Roman"/>
              </a:rPr>
              <a:t>&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supp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 for H0: LSMean(i)=LSMean(j) / Pr &g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4536          0.2427</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r>
              <a:rPr b="1" lang="en-US" sz="1400" spc="-1" strike="noStrike">
                <a:solidFill>
                  <a:srgbClr val="c00000"/>
                </a:solidFill>
                <a:latin typeface="Calibri"/>
                <a:ea typeface="Times New Roman"/>
              </a:rPr>
              <a:t>0.4536            </a:t>
            </a:r>
            <a:r>
              <a:rPr b="1" lang="en-US" sz="1400" spc="-1" strike="noStrike">
                <a:solidFill>
                  <a:srgbClr val="000000"/>
                </a:solidFill>
                <a:latin typeface="Calibri"/>
                <a:ea typeface="Times New Roman"/>
              </a:rPr>
              <a:t>xxxx     </a:t>
            </a:r>
            <a:r>
              <a:rPr b="1" lang="en-US" sz="1400" spc="-1" strike="noStrike">
                <a:solidFill>
                  <a:srgbClr val="c00000"/>
                </a:solidFill>
                <a:latin typeface="Calibri"/>
                <a:ea typeface="Times New Roman"/>
              </a:rPr>
              <a:t>       0.9411               </a:t>
            </a:r>
            <a:r>
              <a:rPr b="1" lang="en-US" sz="1400" spc="-1" strike="noStrike">
                <a:solidFill>
                  <a:srgbClr val="00b050"/>
                </a:solidFill>
                <a:latin typeface="Calibri"/>
                <a:ea typeface="Times New Roman"/>
              </a:rPr>
              <a:t>0.00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r>
              <a:rPr b="1" lang="en-US" sz="1400" spc="-1" strike="noStrike">
                <a:solidFill>
                  <a:srgbClr val="c00000"/>
                </a:solidFill>
                <a:latin typeface="Calibri"/>
                <a:ea typeface="Times New Roman"/>
              </a:rPr>
              <a:t>0.2427</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9411  </a:t>
            </a: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a:t>
            </a:r>
            <a:r>
              <a:rPr b="1" lang="en-US" sz="1400" spc="-1" strike="noStrike">
                <a:solidFill>
                  <a:srgbClr val="00b050"/>
                </a:solidFill>
                <a:latin typeface="Calibri"/>
                <a:ea typeface="Times New Roman"/>
              </a:rPr>
              <a:t>0.0006          0.0019          0.0030               </a:t>
            </a:r>
            <a:r>
              <a:rPr b="1" lang="en-US" sz="1400" spc="-1" strike="noStrike">
                <a:solidFill>
                  <a:srgbClr val="000000"/>
                </a:solidFill>
                <a:latin typeface="Calibri"/>
                <a:ea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5F3F-B948-41FD-B313-4C12116CB1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Rectangle 2"/>
          <p:cNvSpPr/>
          <p:nvPr/>
        </p:nvSpPr>
        <p:spPr>
          <a:xfrm>
            <a:off x="1219320" y="228600"/>
            <a:ext cx="6781680" cy="37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u="sng">
                <a:solidFill>
                  <a:srgbClr val="000000"/>
                </a:solidFill>
                <a:uFillTx/>
                <a:latin typeface="Arial"/>
              </a:rPr>
              <a:t>Imported data RBD syntax for tdm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 dry matter int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 work.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Bl $ TR $ tdm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ROC GLM DATA=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P T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run; </a:t>
            </a:r>
            <a:endParaRPr b="0" lang="en-US" sz="1400" spc="-1" strike="noStrike">
              <a:solidFill>
                <a:srgbClr val="000000"/>
              </a:solidFill>
              <a:latin typeface="Arial"/>
            </a:endParaRPr>
          </a:p>
        </p:txBody>
      </p:sp>
      <p:sp>
        <p:nvSpPr>
          <p:cNvPr id="447" name="Rectangle 4"/>
          <p:cNvSpPr/>
          <p:nvPr/>
        </p:nvSpPr>
        <p:spPr>
          <a:xfrm>
            <a:off x="990720" y="2590920"/>
            <a:ext cx="7162560" cy="45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TR $ Bl $ td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  </a:t>
            </a:r>
            <a:r>
              <a:rPr b="1" lang="en-US" sz="1400" spc="-1" strike="noStrike">
                <a:solidFill>
                  <a:srgbClr val="c00000"/>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BB15-633A-47BE-822E-0AC14BF027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229600" cy="579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29E5-5614-4FC7-8319-A0F65D0E32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9" name="Rectangle 2"/>
          <p:cNvSpPr/>
          <p:nvPr/>
        </p:nvSpPr>
        <p:spPr>
          <a:xfrm>
            <a:off x="2286000" y="2413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
        <p:nvSpPr>
          <p:cNvPr id="450" name="Rectangle 3"/>
          <p:cNvSpPr/>
          <p:nvPr/>
        </p:nvSpPr>
        <p:spPr>
          <a:xfrm>
            <a:off x="1447920" y="1668600"/>
            <a:ext cx="47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mean separetion syntax</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3E18-8833-44D1-AAB9-CB7557AD6D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2" name="Rectangle 2"/>
          <p:cNvSpPr/>
          <p:nvPr/>
        </p:nvSpPr>
        <p:spPr>
          <a:xfrm>
            <a:off x="1219320" y="91440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cc"/>
                </a:solidFill>
                <a:latin typeface="Arial"/>
              </a:rPr>
              <a:t>DATA work.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PUT Block $ TR $ sex $ td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r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PROC GLM DATA=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CLASS block TR 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cc"/>
                </a:solidFill>
                <a:latin typeface="Arial"/>
              </a:rPr>
              <a:t>   </a:t>
            </a:r>
            <a:r>
              <a:rPr b="0" lang="sv-SE" sz="1800" spc="-1" strike="noStrike">
                <a:solidFill>
                  <a:srgbClr val="0000cc"/>
                </a:solidFill>
                <a:latin typeface="Arial"/>
              </a:rPr>
              <a:t>MODEL tdmi=block TR sex TR*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lsmeans TR*sex/STDERR P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run; </a:t>
            </a:r>
            <a:endParaRPr b="0" lang="en-US" sz="1800" spc="-1" strike="noStrike">
              <a:solidFill>
                <a:srgbClr val="000000"/>
              </a:solidFill>
              <a:latin typeface="Arial"/>
            </a:endParaRPr>
          </a:p>
        </p:txBody>
      </p:sp>
      <p:sp>
        <p:nvSpPr>
          <p:cNvPr id="453" name="Rectangle 3"/>
          <p:cNvSpPr/>
          <p:nvPr/>
        </p:nvSpPr>
        <p:spPr>
          <a:xfrm>
            <a:off x="720360" y="228600"/>
            <a:ext cx="5691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Imported data interaction syntax for tdmi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total dry matter intake)</a:t>
            </a:r>
            <a:endParaRPr b="0" lang="en-US" sz="2200" spc="-1" strike="noStrike">
              <a:solidFill>
                <a:srgbClr val="000000"/>
              </a:solidFill>
              <a:latin typeface="Arial"/>
            </a:endParaRPr>
          </a:p>
        </p:txBody>
      </p:sp>
      <p:sp>
        <p:nvSpPr>
          <p:cNvPr id="454" name="Rectangle 4"/>
          <p:cNvSpPr/>
          <p:nvPr/>
        </p:nvSpPr>
        <p:spPr>
          <a:xfrm>
            <a:off x="1143000" y="3657600"/>
            <a:ext cx="716292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me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put TR $ sex $ Block  $ tdm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datalin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 Copy  the data and paste 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ROC GL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CLASS block TR 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cc"/>
                </a:solidFill>
                <a:latin typeface="Arial"/>
              </a:rPr>
              <a:t>   </a:t>
            </a:r>
            <a:r>
              <a:rPr b="0" lang="sv-SE" sz="1200" spc="-1" strike="noStrike">
                <a:solidFill>
                  <a:srgbClr val="0000cc"/>
                </a:solidFill>
                <a:latin typeface="Arial"/>
              </a:rPr>
              <a:t>MODEL tdmi=block TR sex TR*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lsmeans TR*sex/STDERR ADJUST=TUKE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1" lang="en-US" sz="1200" spc="-1" strike="noStrike">
                <a:solidFill>
                  <a:srgbClr val="0000cc"/>
                </a:solidFill>
                <a:latin typeface="Arial"/>
              </a:rPr>
              <a:t>r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Arial"/>
              </a:rPr>
              <a:t>ods listing exclude lsmeans di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s output diff=ppp lsmeans=m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d:\pdglm800.s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a:solidFill>
                  <a:srgbClr val="000000"/>
                </a:solidFill>
                <a:latin typeface="Arial"/>
              </a:rPr>
              <a:t>pdglm800(ppp,mmm,alpha=.05,sort=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BF34-1B8E-4BCB-85F1-0BCABD8C68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6" name="Rectangle 3"/>
          <p:cNvSpPr/>
          <p:nvPr/>
        </p:nvSpPr>
        <p:spPr>
          <a:xfrm>
            <a:off x="228600" y="380880"/>
            <a:ext cx="7238880" cy="46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Syntax Used to Analyze Many Variables at O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 $ Bl $ BDMI</a:t>
            </a:r>
            <a:r>
              <a:rPr b="0" lang="en-US" sz="1400" spc="-1" strike="noStrike">
                <a:solidFill>
                  <a:srgbClr val="000000"/>
                </a:solidFill>
                <a:latin typeface="Arial"/>
              </a:rPr>
              <a:t>	</a:t>
            </a:r>
            <a:r>
              <a:rPr b="0" lang="en-US" sz="1400" spc="-1" strike="noStrike">
                <a:solidFill>
                  <a:srgbClr val="000000"/>
                </a:solidFill>
                <a:latin typeface="Arial"/>
              </a:rPr>
              <a:t>CDMI  TDMI  TOMI  TCPI  TNDFI</a:t>
            </a:r>
            <a:r>
              <a:rPr b="0" lang="en-US" sz="1400" spc="-1" strike="noStrike">
                <a:solidFill>
                  <a:srgbClr val="000000"/>
                </a:solidFill>
                <a:latin typeface="Arial"/>
              </a:rPr>
              <a:t>	</a:t>
            </a:r>
            <a:r>
              <a:rPr b="0" lang="en-US" sz="1400" spc="-1" strike="noStrike">
                <a:solidFill>
                  <a:srgbClr val="000000"/>
                </a:solidFill>
                <a:latin typeface="Arial"/>
              </a:rPr>
              <a:t>TADFI  TADL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r>
              <a:rPr b="0"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 BDMI CDMI  TDMI  TOMI  TCPI  TNDFI  TADFI  TADLI =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smeans TR/pdiff 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D0E5-E324-4FE6-BAE4-2A668F6200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4B8D-722C-423C-8DB5-D8FB45BEF83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67120"/>
            <a:ext cx="8229600" cy="46706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971640" indent="-343080" algn="just">
              <a:lnSpc>
                <a:spcPct val="100000"/>
              </a:lnSpc>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ually three replications are taken as the minimum number </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9CA8-6485-4D35-9C83-C14F6BA739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2B8A-E70C-430C-AA12-83CDF45E9D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83960"/>
            <a:ext cx="8534160" cy="637704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nd used for Analysis of Variance (ANOVA) tes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8:50:43Z</dcterms:modified>
  <cp:revision>1202</cp:revision>
  <dc:subject/>
  <dc:title>Topics to be covered</dc:title>
</cp:coreProperties>
</file>