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A3678-00E2-4D4B-9A1C-3A26D4022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3567-DB0C-4D12-BCE7-8305B8514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7BF23-9E4B-485E-BB39-D0FA885F9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1EA1-A366-440F-AAFC-96B3E17D8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8DE-6121-4071-B432-A99B9B9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52D9-8AAE-4762-A1D7-52F9E3DA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E5B-1E4F-4A85-BFCD-EA4DDA454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206-7D07-4CEC-845F-B95144A31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7CE2-EECB-4133-A903-A104B4BD6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50D-3289-4567-810B-A9709D9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AA3D-D3FC-4337-BC52-DF75E08BC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760C-CA57-4789-9286-168AE90F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2EA0-6F8E-400E-A95A-A74BB06E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5108-4A85-47BA-87DD-A6FD96150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F0AC-C766-41DC-AB47-3E71887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B2FC-3AAD-41EE-AD81-848DDB64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3974-F446-4D3D-8E6E-ABCF982E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86B-9E12-4D84-92C3-D03DACEC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A92D-488F-4783-A19D-34D6E7DF2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C89A-474D-4B1B-825A-C05F565F5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BD082-8E30-4569-B1A0-9DF293A11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EA693-FEA5-4430-8DE9-43B0A610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9172-DC70-4B8F-8CF6-5439DAA5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B5DE-4258-43B4-BF44-57701B4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51DC-2E2D-4975-AE85-BFD45C0A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97171-626A-4E53-9C5E-FD9858CF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C678-D30A-428B-987C-2E1104CA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2004D-392A-446F-9E3A-75DA7366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78D29-6C4A-48CD-80CC-0DBC5C04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E18ED-743B-4B2B-8DED-FFC0A1888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47051-A806-4B2F-AE35-FC06B0AB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B9BB-A5A8-42CA-8DC4-61362BDC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A0930-39CF-4D4D-BCD7-33B75C190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A96CD-45B1-4C7F-846D-B02B704C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06723-77BE-40FE-B2BC-1B0BBE0A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714F1-102B-4BEF-90D3-6943E6DC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89B47-0680-4A67-A1D0-9EEE3D07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2392-456F-4FDF-A444-4B8E9018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7F4D5-79DE-4364-973F-94AAB881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1B625-030B-4C29-A3A0-B07DDE75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8C0B-D548-473C-9954-E3608A5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A379D-7315-4CC6-8157-0AC9F880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AC215-5D19-4454-809B-D6A752A5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68E05-2939-4A93-90B8-8A552287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DB6E0-5D7C-4A9F-A52E-E879F313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CE5A6-6E06-459D-9AD6-8E5E28395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C1C0E-D3B7-47C8-93C3-09695374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46D54-2243-4C4A-A676-70C650149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756C-C5EC-45F9-A37A-5A477150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A162-AA98-442B-BF25-A4FC38E2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58737-8B6E-40CB-BEE2-6907FA3C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B8765-26FB-42D5-AAED-70E23572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DA94B-531C-4308-A450-63EB50A7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B350C-44D5-404C-88EC-BDE6E769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3ABE4-D1BB-4424-9F7F-6437AC05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DF112-1D2E-408B-BE4B-0B3F2C21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FDB2E-D051-4C60-B7DC-5200A44D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D264C-BB6A-498F-9408-FC8C0E3D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D2A43-D5B9-4952-8C27-0FD381B2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C861-3947-43F5-A4BF-DAE5207E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AFCCE-292E-4F11-B356-A879BFE6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FF3-C1FF-4BA5-BF79-78B08AED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D317-6A87-422A-ABFA-C95AFF6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FF8-522D-4377-94FA-F629BAED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922F-2242-4B41-9D30-C2852C349B0E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211-BD87-4FE7-9172-8D260658BD9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C63B-B70B-48E7-A584-98DA7DE03094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FBA4-418C-4544-B1FE-A4A7B38FA16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3AA66-69B3-4C59-B9B7-2E4BB243B235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DB28-08C9-4867-AE5E-49441D9CC5F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4AA0-D28D-4636-8E5D-AF115CDA7970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9754D-AEAE-4C70-A0A3-2EB59403FF0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59CB-2DF3-4037-A972-9CA516F99BEC}" type="datetime">
              <a:rPr b="0" lang="en-US" sz="1400" spc="-1" strike="noStrike">
                <a:solidFill>
                  <a:srgbClr val="696464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96FB-E9F1-4D14-9F4E-982B6667CA1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FF2-C0AB-4217-954A-B257EC2A3EE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380880" y="228600"/>
            <a:ext cx="8458200" cy="634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troduction  To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tion of some statistical terms and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1. Definition of Statistics and Biome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Arial"/>
              </a:rPr>
              <a:t>Stat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ience or a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f  collecting, organizing, analyzing and drawing conclusion of numerical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buClr>
                <a:srgbClr val="7030a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it is the prerequisi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Knowledge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for Biome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17600" indent="-1317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wo types of statistic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Descriptive statistics:-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s the statistics that is used in measuring, collecting, organizing, summarizing and description of mas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a statistical method which is concerned wit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cribing a set of data but which do not involve generaliz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 drawing conclusions.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Arial"/>
                <a:ea typeface="Arial"/>
              </a:rPr>
              <a:t>These are measures of central tendency such as mean, median, mod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BE3A-4504-4E09-82F5-2BD5015C7B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9480" y="460800"/>
            <a:ext cx="769644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cc"/>
              </a:buClr>
              <a:buFont typeface="Wingdings" charset="2"/>
              <a:buChar char="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Methods used in probability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1. Simple random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3" descr=""/>
          <p:cNvPicPr/>
          <p:nvPr/>
        </p:nvPicPr>
        <p:blipFill>
          <a:blip r:embed="rId1"/>
          <a:srcRect l="0" t="25313" r="0" b="3445"/>
          <a:stretch/>
        </p:blipFill>
        <p:spPr>
          <a:xfrm>
            <a:off x="838080" y="1447920"/>
            <a:ext cx="7696440" cy="293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838080" y="4495680"/>
          <a:ext cx="7925040" cy="1737000"/>
        </p:xfrm>
        <a:graphic>
          <a:graphicData uri="http://schemas.openxmlformats.org/drawingml/2006/table">
            <a:tbl>
              <a:tblPr/>
              <a:tblGrid>
                <a:gridCol w="2981520"/>
                <a:gridCol w="494352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Arial"/>
                          <a:ea typeface="Times New Roman"/>
                        </a:rPr>
                        <a:t>Advant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underst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y to analy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Disadvantag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quires a list of the 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very difficult to achieve (i.e. time, effort and money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55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y miss or under sample key sub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05C4-7376-4BAF-AB11-D588999412B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"/>
          <p:cNvPicPr/>
          <p:nvPr/>
        </p:nvPicPr>
        <p:blipFill>
          <a:blip r:embed="rId1"/>
          <a:srcRect l="0" t="22443" r="7812" b="1941"/>
          <a:stretch/>
        </p:blipFill>
        <p:spPr>
          <a:xfrm>
            <a:off x="685800" y="1066680"/>
            <a:ext cx="7620120" cy="297180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3"/>
          <p:cNvSpPr/>
          <p:nvPr/>
        </p:nvSpPr>
        <p:spPr>
          <a:xfrm>
            <a:off x="609480" y="45720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Systematic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685800" y="4050000"/>
            <a:ext cx="8077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ement of randomness is usually introduced into this kind of sampling by using random numbers to pick up the unit with which to sta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o select the sa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representat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S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“most” conditions it can be analyzed as S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ful when elements can’t be listed prior to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Disadvant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4618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s care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ycles or periodic trend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sampling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1928-E14B-4CD4-A55F-310DD16A70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533520" y="394200"/>
            <a:ext cx="80769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3. Stratified Samp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tition the populati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to groups (strata), e.g., age, wealth status, sex, religion, education status, agro-ecology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btain a simple random sample from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ch group (stra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llect data on each sampling unit that was randomly sampled from each group (stratum)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his is useful when the study populations are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heterogeneous,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 and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f comparisons will be made of the results in subgroups of the study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"/>
          <p:cNvPicPr/>
          <p:nvPr/>
        </p:nvPicPr>
        <p:blipFill>
          <a:blip r:embed="rId1"/>
          <a:srcRect l="4398" t="9686" r="2329" b="0"/>
          <a:stretch/>
        </p:blipFill>
        <p:spPr>
          <a:xfrm>
            <a:off x="1219320" y="3657600"/>
            <a:ext cx="6476760" cy="2590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1D2E-94BB-4D6F-A3FF-162AB09D617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"/>
          <p:cNvSpPr/>
          <p:nvPr/>
        </p:nvSpPr>
        <p:spPr>
          <a:xfrm>
            <a:off x="457200" y="842760"/>
            <a:ext cx="8305920" cy="42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Principles of sampling from a stratified popu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alloc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pulation from each subgroup are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roximately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 Proportionate alloc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self-weigh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when the subgroups vary dramatically in size of study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n improv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iability and precis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timate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eliminates variability across str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isadvantag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ight need sampling we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3C07-DC81-42E3-A063-2B96795D52E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"/>
          <p:cNvSpPr/>
          <p:nvPr/>
        </p:nvSpPr>
        <p:spPr>
          <a:xfrm>
            <a:off x="914400" y="305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4. Cluster/Area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1"/>
          <a:srcRect l="0" t="12504" r="3407" b="0"/>
          <a:stretch/>
        </p:blipFill>
        <p:spPr>
          <a:xfrm>
            <a:off x="1066680" y="685800"/>
            <a:ext cx="7010640" cy="26668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4"/>
          <p:cNvSpPr/>
          <p:nvPr/>
        </p:nvSpPr>
        <p:spPr>
          <a:xfrm>
            <a:off x="914400" y="3289680"/>
            <a:ext cx="7696080" cy="26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tentially more economical than other metho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ually logistically simp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Disadvan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nits within cluster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vari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the population, th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luster sampl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precise than a simple ran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 of the same pop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D677C-25EC-4CEF-AA2C-8A3526C18CF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"/>
          <p:cNvSpPr/>
          <p:nvPr/>
        </p:nvSpPr>
        <p:spPr>
          <a:xfrm>
            <a:off x="609480" y="313200"/>
            <a:ext cx="8077320" cy="17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4520" indent="-344520" algn="just">
              <a:tabLst>
                <a:tab algn="l" pos="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5. Multi-stage sampl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rther development of the idea of cluster sampl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chnique is meant for big inquiries extending to a considerably large geographical area like an entire countr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"/>
              <a:tabLst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If the technique of random-sampling is applied at all stages, the sampling procedure is described as multi-stage random samp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533520" y="2153880"/>
            <a:ext cx="815328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multi-stage sampling the first stage may be to select large primary sampling units such as states, then districts, then towns and finally certain families within towns (or Region ---zones -----districts-----kebeles----household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Ex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t’s say you wanted to find ou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ich subject is preferred by Amhara region school child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lis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—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all Amhara region schoolchildr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would be near-impossible to come by, so you canno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 a sample of the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tea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vide the population into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 ta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imple random samp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the next stage, take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ndom sample of school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with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ose zon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inally you could per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ple random sampling on the stud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thi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ch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get the final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F6C1-CE70-4480-AC19-98CB253A4C4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380880" y="304920"/>
            <a:ext cx="82296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4. Definition of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Variables and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e361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Variab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a set of observations on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cular character.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s are characteristics of popul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der investigation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show variability (that are continuously changing among individual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It is an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factor or character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Calibri"/>
              </a:rPr>
              <a:t>whose val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can change from individual to individual or from time to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Example of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ody weight, feed intake, daily milk yield, sex, eye color,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BFD5-1E28-413F-904B-CCCB4E2186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57200" y="181440"/>
            <a:ext cx="8229600" cy="64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alibri"/>
              </a:rPr>
              <a:t>Types of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b2d1f"/>
                </a:solidFill>
                <a:latin typeface="Arial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assifi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(numer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litative (categoric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ative variables: variables having values expressed as numbers and the d/f b/n values 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have numerical mea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b2d1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ntitative variable can be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continuous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 or </a:t>
            </a:r>
            <a:r>
              <a:rPr b="1" lang="en-US" sz="2200" spc="-1" strike="noStrike" u="sng">
                <a:solidFill>
                  <a:srgbClr val="0070c0"/>
                </a:solidFill>
                <a:uFillTx/>
                <a:latin typeface="Arial"/>
              </a:rPr>
              <a:t>discrete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Continuous variables:</a:t>
            </a:r>
            <a:r>
              <a:rPr b="0" lang="en-US" sz="2000" spc="-1" strike="noStrike">
                <a:solidFill>
                  <a:srgbClr val="9e361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d using some kind of measuring scale, that 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s having continuous no. over a given interv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Length, weight, volume, area, density, time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b. Discrete variables: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having countable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s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 numbers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termined by 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amily size, litter size, microbial count, egg production, tiller count,  no. of students in a clas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55F2-C373-4125-BCEE-D428C738248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457200" y="228600"/>
            <a:ext cx="8229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2. Qualitative (categorical) variable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 having values express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ategori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can’t be measured in quantitative 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ather described by the </a:t>
            </a:r>
            <a:r>
              <a:rPr b="1" lang="en-US" sz="1800" spc="-1" strike="noStrike" u="sng">
                <a:solidFill>
                  <a:srgbClr val="00b050"/>
                </a:solidFill>
                <a:uFillTx/>
                <a:latin typeface="Arial"/>
              </a:rPr>
              <a:t>qualities they possess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9b2d1f"/>
                </a:solidFill>
                <a:latin typeface="Arial"/>
              </a:rPr>
              <a:t>A qualitative variable can be </a:t>
            </a:r>
            <a:r>
              <a:rPr b="1" lang="en-US" sz="2200" spc="-1" strike="noStrike">
                <a:solidFill>
                  <a:srgbClr val="0070c0"/>
                </a:solidFill>
                <a:latin typeface="Arial"/>
              </a:rPr>
              <a:t>an ordinal or nom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9b2d1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Ord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ariables having categories that can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re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y thei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lative differ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tatus of students (excellent, very good, good); weight level of objects (small, medium, large); age level (baby, young, old, very old)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b. Nominal variabl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ative variabl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aving categories that cannot be rank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.e., no category is more valuable than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sex, color, occupation, religion, identification number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assign numbers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(score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rdinal categories; however, the differences among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numbe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have numerical mea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a rule </a:t>
            </a: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those scores depict catego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not a numerical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3680" indent="-4636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qualitative variables are coded when data is entered in to a computer for the purpose of data analys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04B-E7C5-4642-8F4D-1A1D7F86DA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"/>
          <p:cNvSpPr/>
          <p:nvPr/>
        </p:nvSpPr>
        <p:spPr>
          <a:xfrm>
            <a:off x="228600" y="393480"/>
            <a:ext cx="8686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What are data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-236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are  raw materials for 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in statistics means numerical results of any scientific measurement,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 counts or observations.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conve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umerical informa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the study variables in a given samp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valu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data set is </a:t>
            </a:r>
            <a:r>
              <a:rPr b="1" i="1" lang="en-US" sz="2000" spc="-1" strike="noStrike">
                <a:solidFill>
                  <a:srgbClr val="9e3611"/>
                </a:solidFill>
                <a:latin typeface="Arial"/>
              </a:rPr>
              <a:t>data value or dat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an be obtained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utinely kep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co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like dairy farm records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ring Literatu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rveys (using observations, Questionnair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un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counting diseased animals in a group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peri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e.g. effect of feed intake on body weight g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 kg of calf w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 liters/day of milk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le or female sex of 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ue or green eye color, etc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62120" indent="-290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Wingdings" charset="2"/>
              <a:buChar char="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Without data, statistical methods do not have mea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2857D-8E49-49D0-845C-ED6CC9D657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504720" y="380880"/>
            <a:ext cx="8305920" cy="44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9e3611"/>
                </a:solidFill>
                <a:latin typeface="Arial"/>
              </a:rPr>
              <a:t>2. Differential statistics / Inferential statistic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: -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 statistical methods used for drawing conclusions about a population based on the information obtained from sample drawn from the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It performs </a:t>
            </a:r>
            <a:r>
              <a:rPr b="1" lang="en-IN" sz="2200" spc="-1" strike="noStrike">
                <a:solidFill>
                  <a:srgbClr val="000000"/>
                </a:solidFill>
                <a:latin typeface="Arial"/>
              </a:rPr>
              <a:t>prediction, hypothesis testing, and making of generalization </a:t>
            </a:r>
            <a:r>
              <a:rPr b="0" lang="en-IN" sz="2200" spc="-1" strike="noStrike">
                <a:solidFill>
                  <a:srgbClr val="000000"/>
                </a:solidFill>
                <a:latin typeface="Arial"/>
              </a:rPr>
              <a:t>from sample to population, i.e. a conclusion reached on the basis of evidence and reas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Arial"/>
              </a:rPr>
              <a:t>Examples of inferential statistics: </a:t>
            </a:r>
            <a:r>
              <a:rPr b="0" lang="en-IN" sz="2400" spc="-1" strike="noStrike">
                <a:solidFill>
                  <a:srgbClr val="000000"/>
                </a:solidFill>
                <a:latin typeface="Arial"/>
              </a:rPr>
              <a:t>measures of       dispersion like variances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BD3D-4A51-451A-A13C-FBE64F9C9F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457200" y="228600"/>
            <a:ext cx="830592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arran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  Raw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dat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ritten down as collected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the fiel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site of experimental trial, i.e. data that have not been summarized and organized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 Ordered d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  arranged in ascending or descending order or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ta organized and ready for analys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Types of data based on their sourc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ary Data: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ected by the investigator her/himsel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purpose of specific inquiry or stu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ary data: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used by an investigator/researcher which has already been collected b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people or organiz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CSA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ow do we get primary data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Direct personal observ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research area by the researcher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ults obtained from such data are very much rel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Indirect investig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 Here the researcher prepar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nai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send to the researchable area to be collected by enumerators and then get back the information to the researc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315C-49E8-468E-956D-640E2CCC7E7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2"/>
          <p:cNvSpPr/>
          <p:nvPr/>
        </p:nvSpPr>
        <p:spPr>
          <a:xfrm>
            <a:off x="533520" y="228600"/>
            <a:ext cx="8153280" cy="45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Presentation of Summariz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ummarized data can be presented both in numerically and graphic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e36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3611"/>
                </a:solidFill>
                <a:latin typeface="Arial"/>
              </a:rPr>
              <a:t>Numerical presen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 of central tendency (location indicators): e.g. mean median,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frequency distributions (like frequencies and percentages) mainly for qualitative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measures of dispersions (e.g. range, variance, standard deviations, CV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e3611"/>
                </a:solidFill>
                <a:latin typeface="Arial"/>
              </a:rPr>
              <a:t>2. Graphical presentation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s like bar graph, line graph, pie charts, etc are some of the graphical devices for presentation of statistical dat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F1B0-5695-4DB7-B706-39539E43926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"/>
          <p:cNvSpPr/>
          <p:nvPr/>
        </p:nvSpPr>
        <p:spPr>
          <a:xfrm>
            <a:off x="457200" y="454320"/>
            <a:ext cx="8305920" cy="60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5. Measures of central tendency (location indicato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of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culated from the raw data used to describe or represent a given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values show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central tendency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arithmetic me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dia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166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three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end to lie at the center of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is a property that gave the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on measures of central tende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alue to be considered as representative of a given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o lie somewhere at the center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the nature of the whole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2DF8-CF03-4B19-8A76-0985E093CCD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153280" cy="259056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1"/>
          <p:cNvSpPr/>
          <p:nvPr/>
        </p:nvSpPr>
        <p:spPr>
          <a:xfrm>
            <a:off x="1295280" y="40388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Figure. Interpretation of mean, median and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6068-4AA4-43E3-BF70-9B15077132E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457200" y="316800"/>
            <a:ext cx="8153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ithmetic mea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widely us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represen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as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f central tendency and usually referr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ean or aver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Bu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ected by outlier val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Cannot be calculated wh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data is mi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s the actual value of data in to accou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sum of all values of the data divided by the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aw data it is calculated 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8" descr=""/>
          <p:cNvPicPr/>
          <p:nvPr/>
        </p:nvPicPr>
        <p:blipFill>
          <a:blip r:embed="rId1"/>
          <a:stretch/>
        </p:blipFill>
        <p:spPr>
          <a:xfrm>
            <a:off x="2819520" y="0"/>
            <a:ext cx="304560" cy="6094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7" descr=""/>
          <p:cNvPicPr/>
          <p:nvPr/>
        </p:nvPicPr>
        <p:blipFill>
          <a:blip r:embed="rId2"/>
          <a:stretch/>
        </p:blipFill>
        <p:spPr>
          <a:xfrm>
            <a:off x="380880" y="3100320"/>
            <a:ext cx="1600200" cy="87336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10"/>
          <p:cNvSpPr/>
          <p:nvPr/>
        </p:nvSpPr>
        <p:spPr>
          <a:xfrm>
            <a:off x="4467240" y="101880"/>
            <a:ext cx="20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2061360" y="2971800"/>
            <a:ext cx="114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"/>
          <p:cNvPicPr/>
          <p:nvPr/>
        </p:nvPicPr>
        <p:blipFill>
          <a:blip r:embed="rId3"/>
          <a:stretch/>
        </p:blipFill>
        <p:spPr>
          <a:xfrm>
            <a:off x="3276720" y="3124080"/>
            <a:ext cx="2020680" cy="3668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0"/>
          <p:cNvSpPr/>
          <p:nvPr/>
        </p:nvSpPr>
        <p:spPr>
          <a:xfrm>
            <a:off x="2057400" y="3507120"/>
            <a:ext cx="556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∑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i = the sum of the values starting from i = 1 up to i = n; n =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457200" y="411552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ata collected from the population, the mean value (μ) is computed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4"/>
          <a:stretch/>
        </p:blipFill>
        <p:spPr>
          <a:xfrm>
            <a:off x="914400" y="4572000"/>
            <a:ext cx="914400" cy="5144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2514600" y="464904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N = the populatio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4"/>
          <p:cNvSpPr/>
          <p:nvPr/>
        </p:nvSpPr>
        <p:spPr>
          <a:xfrm>
            <a:off x="457200" y="50313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or grouped data, each values of xi should be weighed by its respective frequency and the above formula is modified as fol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5" descr=""/>
          <p:cNvPicPr/>
          <p:nvPr/>
        </p:nvPicPr>
        <p:blipFill>
          <a:blip r:embed="rId5"/>
          <a:stretch/>
        </p:blipFill>
        <p:spPr>
          <a:xfrm>
            <a:off x="762120" y="5715000"/>
            <a:ext cx="2895480" cy="762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" descr=""/>
          <p:cNvPicPr/>
          <p:nvPr/>
        </p:nvPicPr>
        <p:blipFill>
          <a:blip r:embed="rId6"/>
          <a:stretch/>
        </p:blipFill>
        <p:spPr>
          <a:xfrm>
            <a:off x="4267080" y="5638680"/>
            <a:ext cx="3962520" cy="9144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2328-649C-4FF2-A0AE-0915A35A608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"/>
          <p:cNvSpPr/>
          <p:nvPr/>
        </p:nvSpPr>
        <p:spPr>
          <a:xfrm>
            <a:off x="457200" y="155880"/>
            <a:ext cx="8305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  <a:ea typeface="Times New Roman"/>
              </a:rPr>
              <a:t>Exer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Compute the arithmetic mean for ungrouped and grouped data shown by Tables 2.1 and 2.2, respectivel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762120" y="1295280"/>
          <a:ext cx="6933960" cy="4907160"/>
        </p:xfrm>
        <a:graphic>
          <a:graphicData uri="http://schemas.openxmlformats.org/drawingml/2006/table">
            <a:tbl>
              <a:tblPr/>
              <a:tblGrid>
                <a:gridCol w="2627280"/>
                <a:gridCol w="430668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marL="495360" indent="-495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le 2.1.  Percent Butterfat content of milk of 11 randomly selected cows from DMU dairy fa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 of c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butterfat of mil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59F5-401C-4F70-A02D-581DA40CFB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371600" y="762120"/>
          <a:ext cx="6248520" cy="3182760"/>
        </p:xfrm>
        <a:graphic>
          <a:graphicData uri="http://schemas.openxmlformats.org/drawingml/2006/table">
            <a:tbl>
              <a:tblPr/>
              <a:tblGrid>
                <a:gridCol w="2846520"/>
                <a:gridCol w="3402000"/>
              </a:tblGrid>
              <a:tr h="701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.2. Frequency distribution of dogs that had different litter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ter siz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equenc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7F35-E5E4-441E-8252-52585C7F71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"/>
          <p:cNvSpPr/>
          <p:nvPr/>
        </p:nvSpPr>
        <p:spPr>
          <a:xfrm>
            <a:off x="533520" y="329400"/>
            <a:ext cx="807696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med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ined 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iddle value in an ordered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i.e., it is a value that divides the data into two halv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raw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can be determined first by arranging the data into ascending (or descending) or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dian value is comput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M = (n+1)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the data set is odd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M =[ (n/2)+ (n/2)+1]/2  if the data set is even, where M= median and n=the number of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if the sample data contains 10 observations, (n/2) = X5( fifth observation) and (n/2)+1 = X5+1 = X6 (sixth observation).  Therefore, the median value would be half way between the fifth and sixth observation. i.e., (X5+X6)/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E466-90C6-45F1-88BC-D1CD5A1F163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"/>
          <p:cNvSpPr/>
          <p:nvPr/>
        </p:nvSpPr>
        <p:spPr>
          <a:xfrm>
            <a:off x="533520" y="762120"/>
            <a:ext cx="807696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fied exampl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dd number of observations  like = 4, 1, 2, 5, 9;  Median = the value of the middle observation = 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even number of observation like = 4, 1, 2,2,5,9;  Median = the average value of the middle two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2+4)/2 = 3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B: To find the middle observations both in odd and/or even number of observations, the raw data must be arranged in either ascending or descending ord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914400" y="4952880"/>
            <a:ext cx="70102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b050"/>
              </a:buClr>
              <a:buFont typeface="Wingdings" charset="2"/>
              <a:buChar char="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using data of tables 2.1 and 2.2 determine the median value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AB7A-5569-4A20-B334-406A671A1A8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"/>
          <p:cNvSpPr/>
          <p:nvPr/>
        </p:nvSpPr>
        <p:spPr>
          <a:xfrm>
            <a:off x="304920" y="-176760"/>
            <a:ext cx="8534160" cy="66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The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de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ost frequently observed value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hen mixtures of populations are sampled, the data can have more than one modal value. i.e., multimodal distribu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given set of data may b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modal, bimodal, or multimodal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d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ne mod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wo mod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2, 2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mod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having greater than or equal to three mo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4, 4, 1, 1, 2, 2, 5, 5,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"/>
              </a:rPr>
              <a:t>Exercise: 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using data of tables 2.1 and 2.2 determine the mode valu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Summary on the usage of measures of central tend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both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 and qualit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di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used for </a:t>
            </a:r>
            <a:r>
              <a:rPr b="1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both continuous and discrete) as well as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di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scale varia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or describing data, the variable has to be </a:t>
            </a:r>
            <a:r>
              <a:rPr b="0" lang="en-US" sz="2000" spc="-1" strike="noStrike">
                <a:solidFill>
                  <a:srgbClr val="548dd4"/>
                </a:solidFill>
                <a:latin typeface="Arial"/>
                <a:ea typeface="Times New Roman"/>
              </a:rPr>
              <a:t>quantit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B51F-8E00-4980-8D20-C6D57A8482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838080" y="609480"/>
            <a:ext cx="7772400" cy="40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9e3611"/>
                </a:solidFill>
                <a:latin typeface="Arial"/>
              </a:rPr>
              <a:t>Biometry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is the application of statistics used to solve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biolog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More scientifically, it is </a:t>
            </a:r>
            <a:r>
              <a:rPr b="1" lang="en-IN" sz="2000" spc="-1" strike="noStrike">
                <a:solidFill>
                  <a:srgbClr val="000000"/>
                </a:solidFill>
                <a:latin typeface="Arial"/>
              </a:rPr>
              <a:t>the application of statistical metho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naly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ological da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fields of </a:t>
            </a:r>
            <a:r>
              <a:rPr b="1" i="1" lang="en-US" sz="2000" spc="-1" strike="noStrike">
                <a:solidFill>
                  <a:srgbClr val="9b2d1f"/>
                </a:solidFill>
                <a:latin typeface="Arial"/>
              </a:rPr>
              <a:t>biological sciences and medicine </a:t>
            </a: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in order to solve biological proble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Arial"/>
              </a:rPr>
              <a:t>Biometry can also be called biometrics or biostatistics or biomathemat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44520" indent="-34452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2000" spc="-1" strike="noStrike">
                <a:solidFill>
                  <a:srgbClr val="00b050"/>
                </a:solidFill>
                <a:latin typeface="Arial"/>
                <a:ea typeface="Arial"/>
              </a:rPr>
              <a:t>Hence</a:t>
            </a:r>
            <a:r>
              <a:rPr b="1" i="1" lang="en-IN" sz="1800" spc="-1" strike="noStrike">
                <a:solidFill>
                  <a:srgbClr val="00b050"/>
                </a:solidFill>
                <a:latin typeface="Arial"/>
                <a:ea typeface="Arial"/>
              </a:rPr>
              <a:t>,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Arial"/>
              </a:rPr>
              <a:t>knowledge of statistics is required to apply statistical methods in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0548-E574-4508-9C2B-C33F717774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"/>
          <p:cNvSpPr/>
          <p:nvPr/>
        </p:nvSpPr>
        <p:spPr>
          <a:xfrm>
            <a:off x="380880" y="166680"/>
            <a:ext cx="822960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preferred measure of central tendenc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ever it can be used amongst the three. This is becau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uses all the values in its computational proced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Whereas, the other two are rather location parame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n may ignore useful dat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t is only influenced by one or two observations as the case may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 all this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e should be exercis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using mean value for data representation as it is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affected of the three whe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data are considerably skew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1B99-AC76-4E98-ACDA-4840997FA05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442800" y="30600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6. Measures of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457200" y="685800"/>
            <a:ext cx="8458200" cy="60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xpression of variabilit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data 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ribes </a:t>
            </a:r>
            <a:r>
              <a:rPr b="1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how spread are values  from the center</a:t>
            </a:r>
            <a:r>
              <a:rPr b="0" lang="en-US" sz="2000" spc="-1" strike="noStrike" u="sng">
                <a:solidFill>
                  <a:srgbClr val="00b05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ich i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posite of how clust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values around the cent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ly used measures of dispersions inclu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ang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riances (sample and population vari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ample and population Standard deviatio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Error (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95240" indent="-2840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efficient of variation (C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easure of dispersio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s to be reported with average 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cause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values (mea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lone do not adequately describe a data 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consider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score on biostatistics of two class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tudents, 2006 and 2007 class displayed by Table 3.1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core for the 2006 and 2007 class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5.0% and 75.4%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ective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report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mean value alone mislead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two class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able in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2324-5B51-4050-8A07-72347336A13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533520" y="1752480"/>
          <a:ext cx="8001000" cy="4556160"/>
        </p:xfrm>
        <a:graphic>
          <a:graphicData uri="http://schemas.openxmlformats.org/drawingml/2006/table">
            <a:tbl>
              <a:tblPr/>
              <a:tblGrid>
                <a:gridCol w="3105000"/>
                <a:gridCol w="2448000"/>
                <a:gridCol w="2448000"/>
              </a:tblGrid>
              <a:tr h="7016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Table 3.1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erpetua"/>
                        </a:rPr>
                        <a:t>Biostatistics final score of 2006 and 2007 class students (x/1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of stu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 (X/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lass 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(∑ 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-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-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s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4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andard deviation (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4" name="Rectangle 1"/>
          <p:cNvSpPr/>
          <p:nvPr/>
        </p:nvSpPr>
        <p:spPr>
          <a:xfrm>
            <a:off x="457200" y="158400"/>
            <a:ext cx="830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f some measure of dispersio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Range is reported togeth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the mean value, 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the reader would understand that the two class students are widely different in performance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e., </a:t>
            </a:r>
            <a:r>
              <a:rPr b="0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2006 class students are highly varie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perform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ut </a:t>
            </a:r>
            <a:r>
              <a:rPr b="1" lang="en-US" sz="1800" spc="-1" strike="noStrike">
                <a:solidFill>
                  <a:srgbClr val="9b2d1f"/>
                </a:solidFill>
                <a:latin typeface="Times New Roman"/>
                <a:ea typeface="Times New Roman"/>
              </a:rPr>
              <a:t>the 2007 class students are relatively close to each oth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ever, the reader cannot get this idea by inspecting the mean value al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8A7-D4C4-4900-9584-919E7EA7C5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"/>
          <p:cNvSpPr/>
          <p:nvPr/>
        </p:nvSpPr>
        <p:spPr>
          <a:xfrm>
            <a:off x="380880" y="482760"/>
            <a:ext cx="8305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is the </a:t>
            </a:r>
            <a:r>
              <a:rPr b="0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d/c b/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highest and lowest value in a data s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can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dif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uch as the range of the 2006 class score i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within 4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r it can also b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interv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uch a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  <a:ea typeface="Times New Roman"/>
              </a:rPr>
              <a:t>the said 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between 55 and 95%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 is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imp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understand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ly graspable measure of dispersion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a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crude measure of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 can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easily overestimate the true dispers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data contains 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outlier values</a:t>
            </a:r>
            <a:r>
              <a:rPr b="0" lang="en-US" sz="2000" spc="-1" strike="noStrike">
                <a:solidFill>
                  <a:srgbClr val="0070c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consider the scores of two classes of students (class A and B) displayed by Table 3.1. The mean score of class A is 75% and that of class B is 75.4%. The range of the scores is between 55-95% and 65-85%, respectively. Looking at this report, a reader would understand that class A students ar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y varied in their scor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range in this situ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emphasiz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true dispersion of the values in the presence of outlier values as it only takes into consider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AAB0-EFEE-4E30-A72D-22D4A06B94B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"/>
          <p:cNvSpPr/>
          <p:nvPr/>
        </p:nvSpPr>
        <p:spPr>
          <a:xfrm>
            <a:off x="304920" y="377280"/>
            <a:ext cx="8381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nce and standard dev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expressed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as the dispersion of the dat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t from the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  <a:ea typeface="Times New Roman"/>
              </a:rPr>
              <a:t>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b2d1f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Variance: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ressed a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ing the sum of the squared deviations by the total number of data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types of varia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opulation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σ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μ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ample variance:  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S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 = ∑ (xi –    )</a:t>
            </a:r>
            <a:r>
              <a:rPr b="1" lang="en-US" sz="2200" spc="-1" strike="noStrike" baseline="30000">
                <a:solidFill>
                  <a:srgbClr val="0000cc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cc"/>
                </a:solidFill>
                <a:latin typeface="Arial"/>
                <a:ea typeface="Arial"/>
              </a:rPr>
              <a:t>/ n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cc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ariance is also termed 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an square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ince it is the mean of the total squared deviation of each value from the mean. i.e.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variance = Mean square =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total sum of squared deviation/degrees of freed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bbreviated, the expression can be written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511200" algn="ctr">
              <a:lnSpc>
                <a:spcPct val="100000"/>
              </a:lnSpc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S</a:t>
            </a:r>
            <a:r>
              <a:rPr b="1" lang="en-US" sz="1800" spc="-1" strike="noStrike" u="sng" baseline="30000">
                <a:solidFill>
                  <a:srgbClr val="0000cc"/>
                </a:solidFill>
                <a:uFillTx/>
                <a:latin typeface="Arial"/>
                <a:ea typeface="Arial"/>
              </a:rPr>
              <a:t>2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  <a:ea typeface="Arial"/>
              </a:rPr>
              <a:t> = MS = TSS/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2860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Object 2"/>
              <p:cNvSpPr txBox="1"/>
              <p:nvPr/>
            </p:nvSpPr>
            <p:spPr>
              <a:xfrm>
                <a:off x="5486400" y="31240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BB2A-2A1A-4B8B-AE57-3898D14BD13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"/>
          <p:cNvSpPr/>
          <p:nvPr/>
        </p:nvSpPr>
        <p:spPr>
          <a:xfrm>
            <a:off x="457200" y="272160"/>
            <a:ext cx="8305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4520" indent="-34452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Sample variance S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n estimator of the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opulation variance σ</a:t>
            </a:r>
            <a:r>
              <a:rPr b="1" lang="en-US" sz="20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nominat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the sample variance is </a:t>
            </a:r>
            <a:r>
              <a:rPr b="1" lang="en-US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n-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ferred as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grees of freed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ather than n(sample size) because if the denominator is sample size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underestimates the true dispersion σ</a:t>
            </a:r>
            <a:r>
              <a:rPr b="1" lang="en-US" sz="2000" spc="-1" strike="noStrike" u="sng" baseline="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nce expresses the dispersion in the data values in squared uni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 using data of the 2006 class score shown by table 3.3 below, the sample variance is computed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∑ (xi –    )</a:t>
            </a:r>
            <a:r>
              <a:rPr b="1" lang="en-US" sz="20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/ n-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500/7 = 214.29 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ndicates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 score of a student on average deviated from the average sc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lass by 214.29%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.e.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deviation from the center is express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percent squ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nce variance expresses deviation in squared unit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is not easily understandable by common us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refore,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square root of vari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expres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eviation in linear 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is gives a quantity call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tandard deviation (S).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 algn="just"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hat is why estimating Standard deviation from the variance value is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4" name="Object 4"/>
              <p:cNvSpPr txBox="1"/>
              <p:nvPr/>
            </p:nvSpPr>
            <p:spPr>
              <a:xfrm>
                <a:off x="2209680" y="28954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A7D7-3E07-4EFB-90F7-ED9EE886F2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228600" y="380880"/>
            <a:ext cx="84582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standard deviation (S)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described as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positive square root of vari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 is used to expres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ation in linear unit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standard deviation (S) = √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√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∑ (xi –    )</a:t>
            </a:r>
            <a:r>
              <a:rPr b="1" lang="en-US" sz="18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/ n-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39760" indent="-9730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Object 4"/>
              <p:cNvSpPr txBox="1"/>
              <p:nvPr/>
            </p:nvSpPr>
            <p:spPr>
              <a:xfrm>
                <a:off x="6324480" y="1295280"/>
                <a:ext cx="304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b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38" name="Rectangle 7"/>
          <p:cNvSpPr/>
          <p:nvPr/>
        </p:nvSpPr>
        <p:spPr>
          <a:xfrm>
            <a:off x="457200" y="1752480"/>
            <a:ext cx="838188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he 2006 class students score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S = √214.29 = 14.64%.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.e., in the 2006 class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core of a given student deviated from the class average by </a:t>
            </a: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14.64%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much easier to understand since it is expressed in similar units as the values in the data s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 Summarize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Variance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is the most preferred measure of dispersion that satisfie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wo important qualities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 tak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values in the data 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in its computation 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it is not biased as rang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t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ability distrib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well understo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 this makes it  important in higher stat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604B-8711-4E81-B235-BD4CF7A94AF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371600" y="674640"/>
          <a:ext cx="6705720" cy="4624560"/>
        </p:xfrm>
        <a:graphic>
          <a:graphicData uri="http://schemas.openxmlformats.org/drawingml/2006/table">
            <a:tbl>
              <a:tblPr/>
              <a:tblGrid>
                <a:gridCol w="2381400"/>
                <a:gridCol w="2016000"/>
                <a:gridCol w="2308320"/>
              </a:tblGrid>
              <a:tr h="3052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class Score (X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– 75 =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– 75 =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– 75 =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– 75 =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– 75 = -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 2 =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– 75 = 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– 75 = 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2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– 75 = -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0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Xi –     ) =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= 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∑             </a:t>
                      </a:r>
                      <a:r>
                        <a:rPr b="1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n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0/7 = 214.29 %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Object 6"/>
              <p:cNvSpPr txBox="1"/>
              <p:nvPr/>
            </p:nvSpPr>
            <p:spPr>
              <a:xfrm>
                <a:off x="4267080" y="1143000"/>
                <a:ext cx="838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xi</m:t>
                    </m: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4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Object 10"/>
              <p:cNvSpPr txBox="1"/>
              <p:nvPr/>
            </p:nvSpPr>
            <p:spPr>
              <a:xfrm>
                <a:off x="6400800" y="10666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Object 12"/>
              <p:cNvSpPr txBox="1"/>
              <p:nvPr/>
            </p:nvSpPr>
            <p:spPr>
              <a:xfrm>
                <a:off x="4800600" y="4267080"/>
                <a:ext cx="257040" cy="2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8" name="Object 5"/>
              <p:cNvSpPr txBox="1"/>
              <p:nvPr/>
            </p:nvSpPr>
            <p:spPr>
              <a:xfrm>
                <a:off x="6172200" y="4267080"/>
                <a:ext cx="8049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Object 15"/>
              <p:cNvSpPr txBox="1"/>
              <p:nvPr/>
            </p:nvSpPr>
            <p:spPr>
              <a:xfrm>
                <a:off x="4191120" y="4648320"/>
                <a:ext cx="804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i</m:t>
                        </m: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0" name="Rectangle 16"/>
          <p:cNvSpPr/>
          <p:nvPr/>
        </p:nvSpPr>
        <p:spPr>
          <a:xfrm>
            <a:off x="533520" y="381240"/>
            <a:ext cx="86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3.2. The 2006 class score  Biostatisticsa data used for illustration of variance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D0C-8485-4737-B5C0-B9B4B64E775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533520" y="457200"/>
            <a:ext cx="82296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defend as the standard deviation of the mean divided by the square root of the sample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b2d1f"/>
                </a:solidFill>
                <a:latin typeface="Arial"/>
              </a:rPr>
              <a:t>Standard error of mean (SEM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bolized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tandard error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(SE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helpful to judge how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viant is t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mple mean from the unknown population m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which the sample is dra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ypothesis testing proced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o how much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ard error level can be tolerat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 deciding that the sample estimate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calculating CV (coefficient of variation) value can be used as a guide to decid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ample estimate is biased or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"/>
              <p:cNvSpPr txBox="1"/>
              <p:nvPr/>
            </p:nvSpPr>
            <p:spPr>
              <a:xfrm>
                <a:off x="2362320" y="2362320"/>
                <a:ext cx="1371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3"/>
              <p:cNvSpPr txBox="1"/>
              <p:nvPr/>
            </p:nvSpPr>
            <p:spPr>
              <a:xfrm>
                <a:off x="6553080" y="1828800"/>
                <a:ext cx="3715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D933-B165-49FC-9A55-46277EAD483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228600" y="466920"/>
            <a:ext cx="82296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efficient of variation (C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 describes variability in the data set as a proportion to the mean, i.e.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is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lative measure of var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oefficient of variation is expressed as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V  =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Object 1"/>
              <p:cNvSpPr txBox="1"/>
              <p:nvPr/>
            </p:nvSpPr>
            <p:spPr>
              <a:xfrm>
                <a:off x="6400800" y="2133720"/>
                <a:ext cx="914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0" name="Rectangle 3"/>
          <p:cNvSpPr/>
          <p:nvPr/>
        </p:nvSpPr>
        <p:spPr>
          <a:xfrm>
            <a:off x="380880" y="2909880"/>
            <a:ext cx="8382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an be us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o compare the relative dispersion (vari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data sets measured in different units as well as magnitu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nstanc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variable or homogeneous is the distribution of weights of same age group individu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 given commun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a rule of thumb (standard agreement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can be used as a guide for such kind of decision based on CV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5BFB-728F-4002-8A73-E2293BCCCD5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533520" y="304920"/>
            <a:ext cx="8229600" cy="68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</a:rPr>
              <a:t>Application of statistics in resear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stics or biometrics can be applied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design data collection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type of research both in Survey type (exploratory) and experimental resear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Questionnaires, interview, group discussion, experiment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summarize and describe data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Tables,  figures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r graphs, line graphs, scatter plots, pie charts etc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tatistical quantities lik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erag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asures of central tendencies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270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measures of dispersions, such as Range and Varia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standard deviation, standard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69880" indent="-45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infer population parameter from sample statistics, i.e.,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 make generalization about population characteristic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5112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 make comparison among populations, such as Hypothesis testing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ypothesis testing involves comparing populations in order to make clear cut dec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6F52-E173-4287-884C-EFE66459192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"/>
          <p:cNvSpPr/>
          <p:nvPr/>
        </p:nvSpPr>
        <p:spPr>
          <a:xfrm>
            <a:off x="533520" y="457200"/>
            <a:ext cx="8153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≤ 10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estimate is considered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good approxim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arametric value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usually achieved in experimental re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10 and 20%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lso considered as a good approximation of the parametric val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is in fa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ry good preci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evel for samples obtained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rvey type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 But, for data generated from experimental research, this should be taken as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pper tolerable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deviation for a sample stati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 If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CV is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etween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20 and 30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%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b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olerated for exploratory resear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but for designed experiments, it is indicative of too much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rror or an un-standardized methodolog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ed, and thus one has to consider revising the methodology of data collec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40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art from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ing the methodology (randomization) of data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obviously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creasing the sample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s also a good approach to improve precision of est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4520" indent="-344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8E418-7BCB-497A-9DA1-F47CA3393D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"/>
          <p:cNvSpPr/>
          <p:nvPr/>
        </p:nvSpPr>
        <p:spPr>
          <a:xfrm>
            <a:off x="533520" y="259560"/>
            <a:ext cx="8305560" cy="61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1.2.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Times New Roman"/>
              </a:rPr>
              <a:t>Definition of </a:t>
            </a:r>
            <a:r>
              <a:rPr b="1" lang="en-US" sz="2000" spc="-1" strike="noStrike">
                <a:solidFill>
                  <a:srgbClr val="9e3611"/>
                </a:solidFill>
                <a:latin typeface="Arial"/>
                <a:ea typeface="Arial"/>
              </a:rPr>
              <a:t>Population, sample and related termi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9e3611"/>
                </a:solidFill>
                <a:latin typeface="Arial"/>
                <a:ea typeface="Times New Roman"/>
              </a:rPr>
              <a:t>popul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the collection of all possible individuals, objects or measurement of interest, or  it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the entire subject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research interest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It differs from time to time, which either increase or decrease through time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 of popul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re are different ways of classifying populations based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ze of populations as finite and in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nite populations are those that can be coun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finite populations are those that are too large to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1200" indent="-39204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ature of members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ing or non 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68400" indent="-39204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Real or imaginar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Real populations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ist in time and sp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, while as imaginary populations are thos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experimentally creat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0EB-C761-4149-81FC-FAF351EDE49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380880" y="457200"/>
            <a:ext cx="8305920" cy="51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Arial"/>
                <a:ea typeface="Times New Roman"/>
              </a:rPr>
              <a:t>Sub sets of 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Target Population/theoretical population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fers to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group of individuals or 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o which researchers are interested in generalizing the conclus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b050"/>
              </a:buClr>
              <a:buFont typeface="Arial"/>
              <a:buAutoNum type="arabicPeriod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Accessible Population/study population/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refer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pulation in resear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which the researchers c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y their conclu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population is a subse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 popu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the accessible population researchers draw thei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fram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st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from which the sample is drawn.  e.g., list of livestock produc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5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e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ubset of the popul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ed to stu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Sampling uni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population that are selected –   like Individual people, health facilities, district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D9D7-27FA-4D09-A9A9-C6AC775FEC3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6953400" cy="43434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"/>
          <p:cNvSpPr/>
          <p:nvPr/>
        </p:nvSpPr>
        <p:spPr>
          <a:xfrm>
            <a:off x="1066680" y="5105880"/>
            <a:ext cx="647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Adolescents = youth = young people = teenagers  = youngsters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F788-D6CE-408A-BF4E-B62897F8131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533520" y="393120"/>
            <a:ext cx="807696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1.3. Sampling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and Types of samp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at is Samp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roc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 which we stud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small part o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 population (sample) to make judgments about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tir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invol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a number of uni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rom a defined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Why Do We Samp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the population of interest is large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ampling can be more effici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ea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know or to estim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aracteristics of a popul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tim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an reaching the entire po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ak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ss money/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n actually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ore accurate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85840" algn="just">
              <a:lnSpc>
                <a:spcPct val="100000"/>
              </a:lnSpc>
              <a:buClr>
                <a:srgbClr val="0000cc"/>
              </a:buClr>
              <a:buFont typeface="Wingdings" charset="2"/>
              <a:buChar char=""/>
              <a:tabLst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24F6-4C38-4A75-BF8D-80FBC5B28DA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"/>
          <p:cNvSpPr/>
          <p:nvPr/>
        </p:nvSpPr>
        <p:spPr>
          <a:xfrm>
            <a:off x="304920" y="-13680"/>
            <a:ext cx="86104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cc"/>
                </a:solidFill>
                <a:latin typeface="Arial"/>
                <a:ea typeface="Times New Roman"/>
              </a:rPr>
              <a:t>Types of sampl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1.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N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on-probability sampling or purposiv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a sampling method in whic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probability is assigned for each elementary u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rather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  <a:ea typeface="Times New Roman"/>
              </a:rPr>
              <a:t>judgment is used to select the samp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ances of selecting a subje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know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every element of the population has the opportunity for sel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sampling frame is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e likely to produc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  <a:ea typeface="Arial"/>
              </a:rPr>
              <a:t>a biased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stricts genera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.g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venience, Judgment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nowball, Quo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sampling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b050"/>
                </a:solidFill>
                <a:latin typeface="Arial"/>
              </a:rPr>
              <a:t>2. </a:t>
            </a:r>
            <a:r>
              <a:rPr b="1" i="1" lang="en-US" sz="2000" spc="-1" strike="noStrike">
                <a:solidFill>
                  <a:srgbClr val="00b050"/>
                </a:solidFill>
                <a:latin typeface="Arial"/>
                <a:ea typeface="Times New Roman"/>
              </a:rPr>
              <a:t>Probability sampling: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Probability sampling is also known as ‘random sampling’ or ‘chance sam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on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 the population h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opportunity/chance for se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tabLst>
                <a:tab algn="l" pos="0"/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very element (member/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each uni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 has a known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selected for th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t Increases sample's representativen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3445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technique is used when it is desirabl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 generalize or infer to a larger popul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1" i="1" lang="en-US" sz="1800" spc="-1" strike="noStrike">
                <a:solidFill>
                  <a:srgbClr val="00b0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b050"/>
              </a:buClr>
              <a:buFont typeface="Wingdings" charset="2"/>
              <a:buChar char=""/>
              <a:tabLst>
                <a:tab algn="l" pos="457200"/>
                <a:tab algn="l" pos="955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0:14:22Z</dcterms:created>
  <dc:creator>USER</dc:creator>
  <dc:description/>
  <dc:language>en-US</dc:language>
  <cp:lastModifiedBy>user</cp:lastModifiedBy>
  <dcterms:modified xsi:type="dcterms:W3CDTF">2020-03-05T08:48:09Z</dcterms:modified>
  <cp:revision>530</cp:revision>
  <dc:subject/>
  <dc:title>Topics to be covered</dc:title>
</cp:coreProperties>
</file>